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09C-4042-40D6-8089-1F6736FE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F7F-631E-4818-8C25-7CB9B3E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FC4-AE6D-413C-9B26-1CC14C5D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1CA-7F4C-4D4F-8E8B-4EEE43C0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F03-8F94-4D47-9649-18DA103C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D79-4C03-4358-ADA5-0447CF8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990-6EE2-4157-9173-51146AB4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17F-6386-478C-A952-99CFC3F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B4F-049E-416B-8B7D-F86DC817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B31-809E-4043-B920-24273CB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94E-1C5A-4AA7-AD69-BE39315D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A30-BD40-4645-B9B4-A1E487A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3DB0-2A8E-45ED-A9F4-E1FC99BE1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371600" y="2438280"/>
          <a:ext cx="640080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400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2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8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11x + 5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x + 1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Ink 5"/>
          <p:cNvSpPr/>
          <p:nvPr/>
        </p:nvSpPr>
        <p:spPr>
          <a:xfrm>
            <a:off x="4527720" y="1357200"/>
            <a:ext cx="1206360" cy="1081080"/>
          </a:xfrm>
          <a:custGeom>
            <a:avLst/>
            <a:gdLst/>
            <a:ahLst/>
            <a:rect l="l" t="t" r="r" b="b"/>
            <a:pathLst>
              <a:path w="3350" h="3003">
                <a:moveTo>
                  <a:pt x="12576" y="3894"/>
                </a:moveTo>
                <a:cubicBezTo>
                  <a:pt x="12602" y="3962"/>
                  <a:pt x="12616" y="4003"/>
                  <a:pt x="12650" y="4068"/>
                </a:cubicBezTo>
                <a:cubicBezTo>
                  <a:pt x="12687" y="4139"/>
                  <a:pt x="12712" y="4222"/>
                  <a:pt x="12750" y="4291"/>
                </a:cubicBezTo>
                <a:cubicBezTo>
                  <a:pt x="12783" y="4351"/>
                  <a:pt x="12839" y="4406"/>
                  <a:pt x="12874" y="4465"/>
                </a:cubicBezTo>
                <a:cubicBezTo>
                  <a:pt x="12914" y="4532"/>
                  <a:pt x="12973" y="4614"/>
                  <a:pt x="12998" y="4688"/>
                </a:cubicBezTo>
                <a:cubicBezTo>
                  <a:pt x="12998" y="4696"/>
                  <a:pt x="12998" y="4705"/>
                  <a:pt x="12998" y="4713"/>
                </a:cubicBezTo>
              </a:path>
              <a:path w="3350" h="3003">
                <a:moveTo>
                  <a:pt x="12923" y="3919"/>
                </a:moveTo>
                <a:cubicBezTo>
                  <a:pt x="12844" y="4078"/>
                  <a:pt x="12772" y="4226"/>
                  <a:pt x="12725" y="4390"/>
                </a:cubicBezTo>
                <a:cubicBezTo>
                  <a:pt x="12709" y="4447"/>
                  <a:pt x="12672" y="4539"/>
                  <a:pt x="12650" y="4589"/>
                </a:cubicBezTo>
                <a:cubicBezTo>
                  <a:pt x="12630" y="4634"/>
                  <a:pt x="12588" y="4666"/>
                  <a:pt x="12576" y="4713"/>
                </a:cubicBezTo>
              </a:path>
              <a:path w="3350" h="3003">
                <a:moveTo>
                  <a:pt x="13444" y="3994"/>
                </a:moveTo>
                <a:cubicBezTo>
                  <a:pt x="13479" y="4093"/>
                  <a:pt x="13502" y="4199"/>
                  <a:pt x="13543" y="4291"/>
                </a:cubicBezTo>
                <a:cubicBezTo>
                  <a:pt x="13581" y="4377"/>
                  <a:pt x="13631" y="4446"/>
                  <a:pt x="13643" y="4539"/>
                </a:cubicBezTo>
              </a:path>
              <a:path w="3350" h="3003">
                <a:moveTo>
                  <a:pt x="13370" y="4316"/>
                </a:moveTo>
                <a:cubicBezTo>
                  <a:pt x="13440" y="4325"/>
                  <a:pt x="13495" y="4341"/>
                  <a:pt x="13568" y="4341"/>
                </a:cubicBezTo>
                <a:cubicBezTo>
                  <a:pt x="13665" y="4341"/>
                  <a:pt x="13746" y="4333"/>
                  <a:pt x="13841" y="4316"/>
                </a:cubicBezTo>
              </a:path>
              <a:path w="3350" h="3003">
                <a:moveTo>
                  <a:pt x="14089" y="3770"/>
                </a:moveTo>
                <a:cubicBezTo>
                  <a:pt x="14108" y="3881"/>
                  <a:pt x="14114" y="4010"/>
                  <a:pt x="14139" y="4118"/>
                </a:cubicBezTo>
                <a:cubicBezTo>
                  <a:pt x="14157" y="4196"/>
                  <a:pt x="14188" y="4231"/>
                  <a:pt x="14188" y="4316"/>
                </a:cubicBezTo>
                <a:cubicBezTo>
                  <a:pt x="14188" y="4389"/>
                  <a:pt x="14227" y="4446"/>
                  <a:pt x="14238" y="4514"/>
                </a:cubicBezTo>
                <a:cubicBezTo>
                  <a:pt x="14248" y="4576"/>
                  <a:pt x="14244" y="4570"/>
                  <a:pt x="14288" y="4614"/>
                </a:cubicBezTo>
              </a:path>
              <a:path w="3350" h="3003">
                <a:moveTo>
                  <a:pt x="14536" y="4217"/>
                </a:moveTo>
                <a:cubicBezTo>
                  <a:pt x="14612" y="4209"/>
                  <a:pt x="14655" y="4192"/>
                  <a:pt x="14734" y="4192"/>
                </a:cubicBezTo>
                <a:cubicBezTo>
                  <a:pt x="14800" y="4192"/>
                  <a:pt x="14817" y="4192"/>
                  <a:pt x="14858" y="4192"/>
                </a:cubicBezTo>
              </a:path>
              <a:path w="3350" h="3003">
                <a:moveTo>
                  <a:pt x="14635" y="4390"/>
                </a:moveTo>
                <a:cubicBezTo>
                  <a:pt x="14698" y="4381"/>
                  <a:pt x="14738" y="4366"/>
                  <a:pt x="14808" y="4366"/>
                </a:cubicBezTo>
                <a:cubicBezTo>
                  <a:pt x="14864" y="4366"/>
                  <a:pt x="14878" y="4349"/>
                  <a:pt x="14932" y="4341"/>
                </a:cubicBezTo>
              </a:path>
              <a:path w="3350" h="3003">
                <a:moveTo>
                  <a:pt x="15478" y="3870"/>
                </a:moveTo>
                <a:cubicBezTo>
                  <a:pt x="15424" y="3923"/>
                  <a:pt x="15408" y="3965"/>
                  <a:pt x="15404" y="4043"/>
                </a:cubicBezTo>
                <a:cubicBezTo>
                  <a:pt x="15397" y="4180"/>
                  <a:pt x="15366" y="4247"/>
                  <a:pt x="15404" y="4390"/>
                </a:cubicBezTo>
                <a:cubicBezTo>
                  <a:pt x="15418" y="4443"/>
                  <a:pt x="15466" y="4477"/>
                  <a:pt x="15503" y="4514"/>
                </a:cubicBezTo>
                <a:cubicBezTo>
                  <a:pt x="15551" y="4562"/>
                  <a:pt x="15644" y="4542"/>
                  <a:pt x="15701" y="4514"/>
                </a:cubicBezTo>
                <a:cubicBezTo>
                  <a:pt x="15769" y="4480"/>
                  <a:pt x="15792" y="4432"/>
                  <a:pt x="15825" y="4366"/>
                </a:cubicBezTo>
                <a:cubicBezTo>
                  <a:pt x="15858" y="4300"/>
                  <a:pt x="15872" y="4216"/>
                  <a:pt x="15875" y="4142"/>
                </a:cubicBezTo>
                <a:cubicBezTo>
                  <a:pt x="15878" y="4067"/>
                  <a:pt x="15882" y="4004"/>
                  <a:pt x="15850" y="3944"/>
                </a:cubicBezTo>
                <a:cubicBezTo>
                  <a:pt x="15803" y="3857"/>
                  <a:pt x="15755" y="3837"/>
                  <a:pt x="15652" y="3820"/>
                </a:cubicBezTo>
                <a:cubicBezTo>
                  <a:pt x="15595" y="3810"/>
                  <a:pt x="15552" y="3846"/>
                  <a:pt x="15503" y="3870"/>
                </a:cubicBezTo>
              </a:path>
              <a:path w="3350" h="3003">
                <a:moveTo>
                  <a:pt x="13618" y="5060"/>
                </a:moveTo>
                <a:cubicBezTo>
                  <a:pt x="13672" y="5126"/>
                  <a:pt x="13700" y="5110"/>
                  <a:pt x="13791" y="5110"/>
                </a:cubicBezTo>
                <a:cubicBezTo>
                  <a:pt x="13849" y="5110"/>
                  <a:pt x="13874" y="5110"/>
                  <a:pt x="13915" y="5110"/>
                </a:cubicBezTo>
              </a:path>
              <a:path w="3350" h="3003">
                <a:moveTo>
                  <a:pt x="14263" y="4936"/>
                </a:moveTo>
                <a:cubicBezTo>
                  <a:pt x="14263" y="5054"/>
                  <a:pt x="14252" y="5150"/>
                  <a:pt x="14238" y="5259"/>
                </a:cubicBezTo>
                <a:cubicBezTo>
                  <a:pt x="14228" y="5336"/>
                  <a:pt x="14244" y="5395"/>
                  <a:pt x="14263" y="5457"/>
                </a:cubicBezTo>
                <a:cubicBezTo>
                  <a:pt x="14263" y="5465"/>
                  <a:pt x="14263" y="5474"/>
                  <a:pt x="14263" y="5482"/>
                </a:cubicBezTo>
              </a:path>
              <a:path w="3350" h="3003">
                <a:moveTo>
                  <a:pt x="15404" y="5085"/>
                </a:moveTo>
                <a:cubicBezTo>
                  <a:pt x="15464" y="5121"/>
                  <a:pt x="15528" y="5110"/>
                  <a:pt x="15602" y="5110"/>
                </a:cubicBezTo>
                <a:cubicBezTo>
                  <a:pt x="15610" y="5110"/>
                  <a:pt x="15619" y="5110"/>
                  <a:pt x="15627" y="5110"/>
                </a:cubicBezTo>
              </a:path>
              <a:path w="3350" h="3003">
                <a:moveTo>
                  <a:pt x="15900" y="4837"/>
                </a:moveTo>
                <a:cubicBezTo>
                  <a:pt x="15893" y="4935"/>
                  <a:pt x="15875" y="5011"/>
                  <a:pt x="15875" y="5110"/>
                </a:cubicBezTo>
                <a:cubicBezTo>
                  <a:pt x="15875" y="5177"/>
                  <a:pt x="15879" y="5247"/>
                  <a:pt x="15900" y="5308"/>
                </a:cubicBezTo>
                <a:cubicBezTo>
                  <a:pt x="15919" y="5364"/>
                  <a:pt x="15925" y="5396"/>
                  <a:pt x="15925" y="5457"/>
                </a:cubicBezTo>
              </a:path>
              <a:path w="3350" h="3003">
                <a:moveTo>
                  <a:pt x="14089" y="6152"/>
                </a:moveTo>
                <a:cubicBezTo>
                  <a:pt x="14141" y="6255"/>
                  <a:pt x="14185" y="6388"/>
                  <a:pt x="14263" y="6474"/>
                </a:cubicBezTo>
                <a:cubicBezTo>
                  <a:pt x="14295" y="6510"/>
                  <a:pt x="14344" y="6538"/>
                  <a:pt x="14387" y="6548"/>
                </a:cubicBezTo>
              </a:path>
              <a:path w="3350" h="3003">
                <a:moveTo>
                  <a:pt x="14362" y="6077"/>
                </a:moveTo>
                <a:cubicBezTo>
                  <a:pt x="14301" y="6191"/>
                  <a:pt x="14231" y="6294"/>
                  <a:pt x="14163" y="6400"/>
                </a:cubicBezTo>
                <a:cubicBezTo>
                  <a:pt x="14126" y="6457"/>
                  <a:pt x="14061" y="6508"/>
                  <a:pt x="14039" y="6573"/>
                </a:cubicBezTo>
                <a:cubicBezTo>
                  <a:pt x="14039" y="6581"/>
                  <a:pt x="14039" y="6590"/>
                  <a:pt x="14039" y="6598"/>
                </a:cubicBezTo>
              </a:path>
              <a:path w="3350" h="3003">
                <a:moveTo>
                  <a:pt x="14684" y="6276"/>
                </a:moveTo>
                <a:cubicBezTo>
                  <a:pt x="14744" y="6269"/>
                  <a:pt x="14798" y="6258"/>
                  <a:pt x="14858" y="6251"/>
                </a:cubicBezTo>
              </a:path>
              <a:path w="3350" h="3003">
                <a:moveTo>
                  <a:pt x="14684" y="6424"/>
                </a:moveTo>
                <a:cubicBezTo>
                  <a:pt x="14737" y="6418"/>
                  <a:pt x="14834" y="6419"/>
                  <a:pt x="14883" y="6400"/>
                </a:cubicBezTo>
                <a:cubicBezTo>
                  <a:pt x="14891" y="6392"/>
                  <a:pt x="14900" y="6383"/>
                  <a:pt x="14908" y="6375"/>
                </a:cubicBezTo>
              </a:path>
              <a:path w="3350" h="3003">
                <a:moveTo>
                  <a:pt x="15205" y="6300"/>
                </a:moveTo>
                <a:cubicBezTo>
                  <a:pt x="15305" y="6274"/>
                  <a:pt x="15401" y="6272"/>
                  <a:pt x="15503" y="6251"/>
                </a:cubicBezTo>
              </a:path>
              <a:path w="3350" h="3003">
                <a:moveTo>
                  <a:pt x="15751" y="6052"/>
                </a:moveTo>
                <a:cubicBezTo>
                  <a:pt x="15757" y="6197"/>
                  <a:pt x="15782" y="6268"/>
                  <a:pt x="15801" y="6400"/>
                </a:cubicBezTo>
                <a:cubicBezTo>
                  <a:pt x="15811" y="6469"/>
                  <a:pt x="15825" y="6526"/>
                  <a:pt x="15825" y="6598"/>
                </a:cubicBezTo>
                <a:cubicBezTo>
                  <a:pt x="15825" y="6666"/>
                  <a:pt x="15817" y="6717"/>
                  <a:pt x="15850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6"/>
          <p:cNvSpPr/>
          <p:nvPr/>
        </p:nvSpPr>
        <p:spPr>
          <a:xfrm>
            <a:off x="4303800" y="2768760"/>
            <a:ext cx="974520" cy="1946160"/>
          </a:xfrm>
          <a:custGeom>
            <a:avLst/>
            <a:gdLst/>
            <a:ahLst/>
            <a:rect l="l" t="t" r="r" b="b"/>
            <a:pathLst>
              <a:path w="2705" h="5409">
                <a:moveTo>
                  <a:pt x="12030" y="8359"/>
                </a:moveTo>
                <a:cubicBezTo>
                  <a:pt x="12085" y="8392"/>
                  <a:pt x="12136" y="8384"/>
                  <a:pt x="12204" y="8384"/>
                </a:cubicBezTo>
                <a:cubicBezTo>
                  <a:pt x="12254" y="8384"/>
                  <a:pt x="12303" y="8384"/>
                  <a:pt x="12353" y="8384"/>
                </a:cubicBezTo>
              </a:path>
              <a:path w="2705" h="5409">
                <a:moveTo>
                  <a:pt x="12725" y="8062"/>
                </a:moveTo>
                <a:cubicBezTo>
                  <a:pt x="12740" y="8152"/>
                  <a:pt x="12725" y="8216"/>
                  <a:pt x="12725" y="8310"/>
                </a:cubicBezTo>
                <a:cubicBezTo>
                  <a:pt x="12725" y="8409"/>
                  <a:pt x="12725" y="8508"/>
                  <a:pt x="12725" y="8607"/>
                </a:cubicBezTo>
              </a:path>
              <a:path w="2705" h="5409">
                <a:moveTo>
                  <a:pt x="13146" y="7764"/>
                </a:moveTo>
                <a:cubicBezTo>
                  <a:pt x="13146" y="8125"/>
                  <a:pt x="13120" y="8501"/>
                  <a:pt x="13171" y="8855"/>
                </a:cubicBezTo>
                <a:cubicBezTo>
                  <a:pt x="13185" y="8949"/>
                  <a:pt x="13182" y="8952"/>
                  <a:pt x="13171" y="8954"/>
                </a:cubicBezTo>
                <a:cubicBezTo>
                  <a:pt x="13125" y="8963"/>
                  <a:pt x="13060" y="8973"/>
                  <a:pt x="13022" y="8979"/>
                </a:cubicBezTo>
                <a:cubicBezTo>
                  <a:pt x="12951" y="8991"/>
                  <a:pt x="12870" y="9001"/>
                  <a:pt x="12799" y="9004"/>
                </a:cubicBezTo>
                <a:cubicBezTo>
                  <a:pt x="12712" y="9008"/>
                  <a:pt x="12635" y="9025"/>
                  <a:pt x="12551" y="9029"/>
                </a:cubicBezTo>
                <a:cubicBezTo>
                  <a:pt x="12355" y="9037"/>
                  <a:pt x="12135" y="9005"/>
                  <a:pt x="11956" y="9054"/>
                </a:cubicBezTo>
              </a:path>
              <a:path w="2705" h="5409">
                <a:moveTo>
                  <a:pt x="14188" y="7888"/>
                </a:moveTo>
                <a:cubicBezTo>
                  <a:pt x="14188" y="7812"/>
                  <a:pt x="14185" y="7792"/>
                  <a:pt x="14238" y="7739"/>
                </a:cubicBezTo>
                <a:cubicBezTo>
                  <a:pt x="14300" y="7677"/>
                  <a:pt x="14324" y="7680"/>
                  <a:pt x="14412" y="7714"/>
                </a:cubicBezTo>
                <a:cubicBezTo>
                  <a:pt x="14492" y="7745"/>
                  <a:pt x="14488" y="7773"/>
                  <a:pt x="14511" y="7838"/>
                </a:cubicBezTo>
                <a:cubicBezTo>
                  <a:pt x="14540" y="7919"/>
                  <a:pt x="14555" y="8025"/>
                  <a:pt x="14560" y="8111"/>
                </a:cubicBezTo>
                <a:cubicBezTo>
                  <a:pt x="14564" y="8186"/>
                  <a:pt x="14545" y="8242"/>
                  <a:pt x="14536" y="8310"/>
                </a:cubicBezTo>
                <a:cubicBezTo>
                  <a:pt x="14524" y="8403"/>
                  <a:pt x="14501" y="8494"/>
                  <a:pt x="14486" y="8582"/>
                </a:cubicBezTo>
                <a:cubicBezTo>
                  <a:pt x="14475" y="8650"/>
                  <a:pt x="14455" y="8699"/>
                  <a:pt x="14412" y="8756"/>
                </a:cubicBezTo>
                <a:cubicBezTo>
                  <a:pt x="14391" y="8784"/>
                  <a:pt x="14325" y="8857"/>
                  <a:pt x="14288" y="8855"/>
                </a:cubicBezTo>
                <a:cubicBezTo>
                  <a:pt x="14252" y="8853"/>
                  <a:pt x="14152" y="8802"/>
                  <a:pt x="14139" y="8756"/>
                </a:cubicBezTo>
                <a:cubicBezTo>
                  <a:pt x="14127" y="8713"/>
                  <a:pt x="14133" y="8623"/>
                  <a:pt x="14188" y="8607"/>
                </a:cubicBezTo>
                <a:cubicBezTo>
                  <a:pt x="14253" y="8588"/>
                  <a:pt x="14359" y="8646"/>
                  <a:pt x="14412" y="8682"/>
                </a:cubicBezTo>
                <a:cubicBezTo>
                  <a:pt x="14467" y="8719"/>
                  <a:pt x="14491" y="8768"/>
                  <a:pt x="14536" y="8806"/>
                </a:cubicBezTo>
                <a:cubicBezTo>
                  <a:pt x="14573" y="8838"/>
                  <a:pt x="14637" y="8880"/>
                  <a:pt x="14660" y="8930"/>
                </a:cubicBezTo>
                <a:cubicBezTo>
                  <a:pt x="14660" y="8938"/>
                  <a:pt x="14660" y="8946"/>
                  <a:pt x="14660" y="8954"/>
                </a:cubicBezTo>
              </a:path>
              <a:path w="2705" h="5409">
                <a:moveTo>
                  <a:pt x="14412" y="9203"/>
                </a:moveTo>
                <a:cubicBezTo>
                  <a:pt x="14404" y="9195"/>
                  <a:pt x="14395" y="9186"/>
                  <a:pt x="14387" y="9178"/>
                </a:cubicBezTo>
                <a:cubicBezTo>
                  <a:pt x="14343" y="9251"/>
                  <a:pt x="14374" y="9297"/>
                  <a:pt x="14387" y="9376"/>
                </a:cubicBezTo>
                <a:cubicBezTo>
                  <a:pt x="14407" y="9501"/>
                  <a:pt x="14374" y="9632"/>
                  <a:pt x="14362" y="9748"/>
                </a:cubicBezTo>
                <a:cubicBezTo>
                  <a:pt x="14350" y="9865"/>
                  <a:pt x="14360" y="9981"/>
                  <a:pt x="14337" y="10096"/>
                </a:cubicBezTo>
                <a:cubicBezTo>
                  <a:pt x="14316" y="10202"/>
                  <a:pt x="14311" y="10313"/>
                  <a:pt x="14288" y="10418"/>
                </a:cubicBezTo>
                <a:cubicBezTo>
                  <a:pt x="14268" y="10510"/>
                  <a:pt x="14224" y="10601"/>
                  <a:pt x="14213" y="10691"/>
                </a:cubicBezTo>
                <a:cubicBezTo>
                  <a:pt x="14203" y="10771"/>
                  <a:pt x="14176" y="10838"/>
                  <a:pt x="14163" y="10914"/>
                </a:cubicBezTo>
                <a:cubicBezTo>
                  <a:pt x="14153" y="10972"/>
                  <a:pt x="14130" y="11011"/>
                  <a:pt x="14114" y="11063"/>
                </a:cubicBezTo>
                <a:cubicBezTo>
                  <a:pt x="14114" y="11071"/>
                  <a:pt x="14114" y="11080"/>
                  <a:pt x="14114" y="11088"/>
                </a:cubicBezTo>
              </a:path>
              <a:path w="2705" h="5409">
                <a:moveTo>
                  <a:pt x="13841" y="10914"/>
                </a:moveTo>
                <a:cubicBezTo>
                  <a:pt x="13915" y="10988"/>
                  <a:pt x="13965" y="11041"/>
                  <a:pt x="14015" y="11137"/>
                </a:cubicBezTo>
                <a:cubicBezTo>
                  <a:pt x="14046" y="11197"/>
                  <a:pt x="14068" y="11260"/>
                  <a:pt x="14114" y="11311"/>
                </a:cubicBezTo>
                <a:cubicBezTo>
                  <a:pt x="14122" y="11319"/>
                  <a:pt x="14131" y="11328"/>
                  <a:pt x="14139" y="11336"/>
                </a:cubicBezTo>
                <a:cubicBezTo>
                  <a:pt x="14194" y="11279"/>
                  <a:pt x="14252" y="11232"/>
                  <a:pt x="14288" y="11162"/>
                </a:cubicBezTo>
                <a:cubicBezTo>
                  <a:pt x="14320" y="11100"/>
                  <a:pt x="14374" y="11070"/>
                  <a:pt x="14412" y="11013"/>
                </a:cubicBezTo>
                <a:cubicBezTo>
                  <a:pt x="14445" y="10962"/>
                  <a:pt x="14468" y="10905"/>
                  <a:pt x="14536" y="10889"/>
                </a:cubicBezTo>
                <a:cubicBezTo>
                  <a:pt x="14552" y="10889"/>
                  <a:pt x="14569" y="10889"/>
                  <a:pt x="14585" y="10889"/>
                </a:cubicBezTo>
              </a:path>
              <a:path w="2705" h="5409">
                <a:moveTo>
                  <a:pt x="14039" y="12055"/>
                </a:moveTo>
                <a:cubicBezTo>
                  <a:pt x="14048" y="11993"/>
                  <a:pt x="14069" y="11956"/>
                  <a:pt x="14114" y="11906"/>
                </a:cubicBezTo>
                <a:cubicBezTo>
                  <a:pt x="14156" y="11860"/>
                  <a:pt x="14180" y="11781"/>
                  <a:pt x="14263" y="11807"/>
                </a:cubicBezTo>
                <a:cubicBezTo>
                  <a:pt x="14322" y="11825"/>
                  <a:pt x="14319" y="11896"/>
                  <a:pt x="14337" y="11931"/>
                </a:cubicBezTo>
                <a:cubicBezTo>
                  <a:pt x="14374" y="12005"/>
                  <a:pt x="14350" y="12026"/>
                  <a:pt x="14337" y="12105"/>
                </a:cubicBezTo>
                <a:cubicBezTo>
                  <a:pt x="14325" y="12179"/>
                  <a:pt x="14330" y="12255"/>
                  <a:pt x="14312" y="12328"/>
                </a:cubicBezTo>
                <a:cubicBezTo>
                  <a:pt x="14293" y="12404"/>
                  <a:pt x="14282" y="12478"/>
                  <a:pt x="14263" y="12551"/>
                </a:cubicBezTo>
                <a:cubicBezTo>
                  <a:pt x="14241" y="12634"/>
                  <a:pt x="14211" y="12720"/>
                  <a:pt x="14188" y="12799"/>
                </a:cubicBezTo>
                <a:cubicBezTo>
                  <a:pt x="14174" y="12849"/>
                  <a:pt x="14118" y="12931"/>
                  <a:pt x="14089" y="12973"/>
                </a:cubicBezTo>
                <a:cubicBezTo>
                  <a:pt x="14059" y="13016"/>
                  <a:pt x="14014" y="13082"/>
                  <a:pt x="13965" y="13097"/>
                </a:cubicBezTo>
                <a:cubicBezTo>
                  <a:pt x="13927" y="13108"/>
                  <a:pt x="13837" y="13070"/>
                  <a:pt x="13816" y="13047"/>
                </a:cubicBezTo>
                <a:cubicBezTo>
                  <a:pt x="13779" y="13007"/>
                  <a:pt x="13746" y="12929"/>
                  <a:pt x="13767" y="12874"/>
                </a:cubicBezTo>
                <a:cubicBezTo>
                  <a:pt x="13784" y="12829"/>
                  <a:pt x="13832" y="12754"/>
                  <a:pt x="13891" y="12774"/>
                </a:cubicBezTo>
                <a:cubicBezTo>
                  <a:pt x="13929" y="12787"/>
                  <a:pt x="13978" y="12852"/>
                  <a:pt x="14015" y="12874"/>
                </a:cubicBezTo>
                <a:cubicBezTo>
                  <a:pt x="14079" y="12912"/>
                  <a:pt x="14137" y="12958"/>
                  <a:pt x="14213" y="12973"/>
                </a:cubicBezTo>
                <a:cubicBezTo>
                  <a:pt x="14277" y="12985"/>
                  <a:pt x="14328" y="12978"/>
                  <a:pt x="14387" y="12998"/>
                </a:cubicBezTo>
                <a:cubicBezTo>
                  <a:pt x="14428" y="13012"/>
                  <a:pt x="14472" y="13033"/>
                  <a:pt x="14511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7"/>
          <p:cNvSpPr/>
          <p:nvPr/>
        </p:nvSpPr>
        <p:spPr>
          <a:xfrm>
            <a:off x="3527280" y="1670040"/>
            <a:ext cx="428760" cy="4687920"/>
          </a:xfrm>
          <a:custGeom>
            <a:avLst/>
            <a:gdLst/>
            <a:ahLst/>
            <a:rect l="l" t="t" r="r" b="b"/>
            <a:pathLst>
              <a:path w="1191" h="13024">
                <a:moveTo>
                  <a:pt x="9971" y="4688"/>
                </a:moveTo>
                <a:cubicBezTo>
                  <a:pt x="10004" y="4684"/>
                  <a:pt x="10091" y="4633"/>
                  <a:pt x="10170" y="4638"/>
                </a:cubicBezTo>
                <a:cubicBezTo>
                  <a:pt x="10247" y="4643"/>
                  <a:pt x="10316" y="4670"/>
                  <a:pt x="10393" y="4688"/>
                </a:cubicBezTo>
                <a:cubicBezTo>
                  <a:pt x="10485" y="4710"/>
                  <a:pt x="10625" y="4729"/>
                  <a:pt x="10691" y="4812"/>
                </a:cubicBezTo>
                <a:cubicBezTo>
                  <a:pt x="10739" y="4873"/>
                  <a:pt x="10737" y="4912"/>
                  <a:pt x="10740" y="4986"/>
                </a:cubicBezTo>
                <a:cubicBezTo>
                  <a:pt x="10744" y="5081"/>
                  <a:pt x="10667" y="5183"/>
                  <a:pt x="10616" y="5259"/>
                </a:cubicBezTo>
                <a:cubicBezTo>
                  <a:pt x="10552" y="5353"/>
                  <a:pt x="10463" y="5420"/>
                  <a:pt x="10393" y="5507"/>
                </a:cubicBezTo>
                <a:cubicBezTo>
                  <a:pt x="10289" y="5637"/>
                  <a:pt x="10222" y="5739"/>
                  <a:pt x="10145" y="5879"/>
                </a:cubicBezTo>
                <a:cubicBezTo>
                  <a:pt x="9970" y="6196"/>
                  <a:pt x="10073" y="6345"/>
                  <a:pt x="10294" y="6598"/>
                </a:cubicBezTo>
                <a:cubicBezTo>
                  <a:pt x="10403" y="6723"/>
                  <a:pt x="10530" y="6829"/>
                  <a:pt x="10616" y="6970"/>
                </a:cubicBezTo>
                <a:cubicBezTo>
                  <a:pt x="10680" y="7075"/>
                  <a:pt x="10686" y="7124"/>
                  <a:pt x="10691" y="7243"/>
                </a:cubicBezTo>
                <a:cubicBezTo>
                  <a:pt x="10695" y="7340"/>
                  <a:pt x="10609" y="7467"/>
                  <a:pt x="10567" y="7541"/>
                </a:cubicBezTo>
                <a:cubicBezTo>
                  <a:pt x="10503" y="7654"/>
                  <a:pt x="10391" y="7732"/>
                  <a:pt x="10319" y="7838"/>
                </a:cubicBezTo>
                <a:cubicBezTo>
                  <a:pt x="10241" y="7951"/>
                  <a:pt x="10144" y="8085"/>
                  <a:pt x="10096" y="8210"/>
                </a:cubicBezTo>
                <a:cubicBezTo>
                  <a:pt x="10044" y="8347"/>
                  <a:pt x="10042" y="8460"/>
                  <a:pt x="10046" y="8607"/>
                </a:cubicBezTo>
                <a:cubicBezTo>
                  <a:pt x="10050" y="8776"/>
                  <a:pt x="10091" y="8833"/>
                  <a:pt x="10170" y="8979"/>
                </a:cubicBezTo>
                <a:cubicBezTo>
                  <a:pt x="10249" y="9125"/>
                  <a:pt x="10368" y="9203"/>
                  <a:pt x="10468" y="9327"/>
                </a:cubicBezTo>
                <a:cubicBezTo>
                  <a:pt x="10558" y="9438"/>
                  <a:pt x="10665" y="9561"/>
                  <a:pt x="10716" y="9699"/>
                </a:cubicBezTo>
                <a:cubicBezTo>
                  <a:pt x="10768" y="9840"/>
                  <a:pt x="10782" y="9957"/>
                  <a:pt x="10716" y="10096"/>
                </a:cubicBezTo>
                <a:cubicBezTo>
                  <a:pt x="10660" y="10214"/>
                  <a:pt x="10560" y="10282"/>
                  <a:pt x="10468" y="10368"/>
                </a:cubicBezTo>
                <a:cubicBezTo>
                  <a:pt x="10289" y="10535"/>
                  <a:pt x="10021" y="10682"/>
                  <a:pt x="10021" y="10964"/>
                </a:cubicBezTo>
                <a:cubicBezTo>
                  <a:pt x="10021" y="11187"/>
                  <a:pt x="10168" y="11386"/>
                  <a:pt x="10294" y="11559"/>
                </a:cubicBezTo>
                <a:cubicBezTo>
                  <a:pt x="10482" y="11818"/>
                  <a:pt x="10711" y="12072"/>
                  <a:pt x="10864" y="12353"/>
                </a:cubicBezTo>
                <a:cubicBezTo>
                  <a:pt x="10943" y="12499"/>
                  <a:pt x="11031" y="12728"/>
                  <a:pt x="10988" y="12898"/>
                </a:cubicBezTo>
                <a:cubicBezTo>
                  <a:pt x="10947" y="13060"/>
                  <a:pt x="10841" y="13091"/>
                  <a:pt x="10740" y="13196"/>
                </a:cubicBezTo>
                <a:cubicBezTo>
                  <a:pt x="10633" y="13307"/>
                  <a:pt x="10503" y="13383"/>
                  <a:pt x="10418" y="13519"/>
                </a:cubicBezTo>
                <a:cubicBezTo>
                  <a:pt x="10336" y="13650"/>
                  <a:pt x="10319" y="13761"/>
                  <a:pt x="10294" y="13915"/>
                </a:cubicBezTo>
                <a:cubicBezTo>
                  <a:pt x="10267" y="14087"/>
                  <a:pt x="10261" y="14260"/>
                  <a:pt x="10269" y="14436"/>
                </a:cubicBezTo>
                <a:cubicBezTo>
                  <a:pt x="10277" y="14622"/>
                  <a:pt x="10323" y="14797"/>
                  <a:pt x="10344" y="14982"/>
                </a:cubicBezTo>
                <a:cubicBezTo>
                  <a:pt x="10366" y="15175"/>
                  <a:pt x="10400" y="15434"/>
                  <a:pt x="10368" y="15627"/>
                </a:cubicBezTo>
                <a:cubicBezTo>
                  <a:pt x="10339" y="15800"/>
                  <a:pt x="10249" y="15896"/>
                  <a:pt x="10170" y="16024"/>
                </a:cubicBezTo>
                <a:cubicBezTo>
                  <a:pt x="10131" y="16087"/>
                  <a:pt x="10072" y="16155"/>
                  <a:pt x="10046" y="16222"/>
                </a:cubicBezTo>
                <a:cubicBezTo>
                  <a:pt x="10001" y="16336"/>
                  <a:pt x="9982" y="16446"/>
                  <a:pt x="9971" y="16570"/>
                </a:cubicBezTo>
                <a:cubicBezTo>
                  <a:pt x="9945" y="16862"/>
                  <a:pt x="10096" y="17428"/>
                  <a:pt x="9872" y="17661"/>
                </a:cubicBezTo>
                <a:cubicBezTo>
                  <a:pt x="9829" y="17639"/>
                  <a:pt x="9817" y="17635"/>
                  <a:pt x="9798" y="176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8"/>
          <p:cNvSpPr/>
          <p:nvPr/>
        </p:nvSpPr>
        <p:spPr>
          <a:xfrm>
            <a:off x="322200" y="1295280"/>
            <a:ext cx="731880" cy="554040"/>
          </a:xfrm>
          <a:custGeom>
            <a:avLst/>
            <a:gdLst/>
            <a:ahLst/>
            <a:rect l="l" t="t" r="r" b="b"/>
            <a:pathLst>
              <a:path w="2035" h="1539">
                <a:moveTo>
                  <a:pt x="1017" y="3597"/>
                </a:moveTo>
                <a:cubicBezTo>
                  <a:pt x="1017" y="3679"/>
                  <a:pt x="1001" y="3742"/>
                  <a:pt x="992" y="3820"/>
                </a:cubicBezTo>
                <a:cubicBezTo>
                  <a:pt x="982" y="3905"/>
                  <a:pt x="979" y="3985"/>
                  <a:pt x="967" y="4068"/>
                </a:cubicBezTo>
                <a:cubicBezTo>
                  <a:pt x="953" y="4166"/>
                  <a:pt x="930" y="4272"/>
                  <a:pt x="918" y="4366"/>
                </a:cubicBezTo>
                <a:cubicBezTo>
                  <a:pt x="908" y="4443"/>
                  <a:pt x="905" y="4515"/>
                  <a:pt x="893" y="4589"/>
                </a:cubicBezTo>
                <a:cubicBezTo>
                  <a:pt x="884" y="4643"/>
                  <a:pt x="893" y="4672"/>
                  <a:pt x="918" y="4713"/>
                </a:cubicBezTo>
                <a:cubicBezTo>
                  <a:pt x="973" y="4680"/>
                  <a:pt x="1023" y="4688"/>
                  <a:pt x="1091" y="4688"/>
                </a:cubicBezTo>
                <a:cubicBezTo>
                  <a:pt x="1194" y="4688"/>
                  <a:pt x="1291" y="4699"/>
                  <a:pt x="1389" y="4663"/>
                </a:cubicBezTo>
                <a:cubicBezTo>
                  <a:pt x="1406" y="4655"/>
                  <a:pt x="1422" y="4646"/>
                  <a:pt x="1439" y="4638"/>
                </a:cubicBezTo>
              </a:path>
              <a:path w="2035" h="1539">
                <a:moveTo>
                  <a:pt x="1612" y="4242"/>
                </a:moveTo>
                <a:cubicBezTo>
                  <a:pt x="1542" y="4292"/>
                  <a:pt x="1518" y="4331"/>
                  <a:pt x="1488" y="4415"/>
                </a:cubicBezTo>
                <a:cubicBezTo>
                  <a:pt x="1461" y="4489"/>
                  <a:pt x="1435" y="4583"/>
                  <a:pt x="1513" y="4638"/>
                </a:cubicBezTo>
                <a:cubicBezTo>
                  <a:pt x="1565" y="4674"/>
                  <a:pt x="1638" y="4662"/>
                  <a:pt x="1687" y="4638"/>
                </a:cubicBezTo>
                <a:cubicBezTo>
                  <a:pt x="1735" y="4615"/>
                  <a:pt x="1757" y="4552"/>
                  <a:pt x="1786" y="4514"/>
                </a:cubicBezTo>
                <a:cubicBezTo>
                  <a:pt x="1828" y="4459"/>
                  <a:pt x="1862" y="4425"/>
                  <a:pt x="1836" y="4341"/>
                </a:cubicBezTo>
                <a:cubicBezTo>
                  <a:pt x="1825" y="4308"/>
                  <a:pt x="1742" y="4249"/>
                  <a:pt x="1712" y="4242"/>
                </a:cubicBezTo>
                <a:cubicBezTo>
                  <a:pt x="1687" y="4236"/>
                  <a:pt x="1557" y="4235"/>
                  <a:pt x="1563" y="4291"/>
                </a:cubicBezTo>
                <a:cubicBezTo>
                  <a:pt x="1571" y="4299"/>
                  <a:pt x="1580" y="4308"/>
                  <a:pt x="1588" y="4316"/>
                </a:cubicBezTo>
              </a:path>
              <a:path w="2035" h="1539">
                <a:moveTo>
                  <a:pt x="1984" y="4316"/>
                </a:moveTo>
                <a:cubicBezTo>
                  <a:pt x="1991" y="4404"/>
                  <a:pt x="2001" y="4452"/>
                  <a:pt x="2009" y="4514"/>
                </a:cubicBezTo>
                <a:cubicBezTo>
                  <a:pt x="2018" y="4582"/>
                  <a:pt x="1974" y="4483"/>
                  <a:pt x="1984" y="4415"/>
                </a:cubicBezTo>
                <a:cubicBezTo>
                  <a:pt x="1992" y="4366"/>
                  <a:pt x="2006" y="4276"/>
                  <a:pt x="2059" y="4242"/>
                </a:cubicBezTo>
                <a:cubicBezTo>
                  <a:pt x="2114" y="4207"/>
                  <a:pt x="2184" y="4201"/>
                  <a:pt x="2232" y="4242"/>
                </a:cubicBezTo>
                <a:cubicBezTo>
                  <a:pt x="2297" y="4298"/>
                  <a:pt x="2327" y="4382"/>
                  <a:pt x="2332" y="4465"/>
                </a:cubicBezTo>
                <a:cubicBezTo>
                  <a:pt x="2334" y="4506"/>
                  <a:pt x="2332" y="4548"/>
                  <a:pt x="2332" y="4589"/>
                </a:cubicBezTo>
              </a:path>
              <a:path w="2035" h="1539">
                <a:moveTo>
                  <a:pt x="2729" y="4192"/>
                </a:moveTo>
                <a:cubicBezTo>
                  <a:pt x="2703" y="4126"/>
                  <a:pt x="2672" y="4165"/>
                  <a:pt x="2604" y="4217"/>
                </a:cubicBezTo>
                <a:cubicBezTo>
                  <a:pt x="2551" y="4258"/>
                  <a:pt x="2517" y="4325"/>
                  <a:pt x="2505" y="4390"/>
                </a:cubicBezTo>
                <a:cubicBezTo>
                  <a:pt x="2496" y="4435"/>
                  <a:pt x="2497" y="4522"/>
                  <a:pt x="2555" y="4539"/>
                </a:cubicBezTo>
                <a:cubicBezTo>
                  <a:pt x="2614" y="4556"/>
                  <a:pt x="2684" y="4538"/>
                  <a:pt x="2729" y="4514"/>
                </a:cubicBezTo>
                <a:cubicBezTo>
                  <a:pt x="2774" y="4490"/>
                  <a:pt x="2847" y="4457"/>
                  <a:pt x="2877" y="4415"/>
                </a:cubicBezTo>
                <a:cubicBezTo>
                  <a:pt x="2922" y="4352"/>
                  <a:pt x="2927" y="4319"/>
                  <a:pt x="2927" y="4242"/>
                </a:cubicBezTo>
                <a:cubicBezTo>
                  <a:pt x="2927" y="4225"/>
                  <a:pt x="2927" y="4209"/>
                  <a:pt x="2927" y="4192"/>
                </a:cubicBezTo>
                <a:cubicBezTo>
                  <a:pt x="2862" y="4257"/>
                  <a:pt x="2889" y="4275"/>
                  <a:pt x="2877" y="4366"/>
                </a:cubicBezTo>
                <a:cubicBezTo>
                  <a:pt x="2864" y="4464"/>
                  <a:pt x="2853" y="4541"/>
                  <a:pt x="2853" y="4638"/>
                </a:cubicBezTo>
                <a:cubicBezTo>
                  <a:pt x="2853" y="4706"/>
                  <a:pt x="2843" y="4795"/>
                  <a:pt x="2828" y="4862"/>
                </a:cubicBezTo>
                <a:cubicBezTo>
                  <a:pt x="2811" y="4941"/>
                  <a:pt x="2757" y="5002"/>
                  <a:pt x="2704" y="5060"/>
                </a:cubicBezTo>
                <a:cubicBezTo>
                  <a:pt x="2658" y="5110"/>
                  <a:pt x="2595" y="5131"/>
                  <a:pt x="2530" y="5135"/>
                </a:cubicBezTo>
                <a:cubicBezTo>
                  <a:pt x="2479" y="5138"/>
                  <a:pt x="2389" y="5154"/>
                  <a:pt x="2356" y="5110"/>
                </a:cubicBezTo>
                <a:cubicBezTo>
                  <a:pt x="2332" y="5060"/>
                  <a:pt x="2324" y="5044"/>
                  <a:pt x="2356" y="50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9"/>
          <p:cNvSpPr/>
          <p:nvPr/>
        </p:nvSpPr>
        <p:spPr>
          <a:xfrm>
            <a:off x="1214280" y="1320840"/>
            <a:ext cx="1278000" cy="341280"/>
          </a:xfrm>
          <a:custGeom>
            <a:avLst/>
            <a:gdLst/>
            <a:ahLst/>
            <a:rect l="l" t="t" r="r" b="b"/>
            <a:pathLst>
              <a:path w="3549" h="944">
                <a:moveTo>
                  <a:pt x="3696" y="3770"/>
                </a:moveTo>
                <a:cubicBezTo>
                  <a:pt x="3696" y="3893"/>
                  <a:pt x="3704" y="4000"/>
                  <a:pt x="3721" y="4118"/>
                </a:cubicBezTo>
                <a:cubicBezTo>
                  <a:pt x="3732" y="4194"/>
                  <a:pt x="3734" y="4269"/>
                  <a:pt x="3746" y="4341"/>
                </a:cubicBezTo>
                <a:cubicBezTo>
                  <a:pt x="3756" y="4398"/>
                  <a:pt x="3761" y="4466"/>
                  <a:pt x="3770" y="4514"/>
                </a:cubicBezTo>
                <a:cubicBezTo>
                  <a:pt x="3770" y="4555"/>
                  <a:pt x="3779" y="4572"/>
                  <a:pt x="3746" y="4564"/>
                </a:cubicBezTo>
              </a:path>
              <a:path w="3549" h="944">
                <a:moveTo>
                  <a:pt x="3373" y="3820"/>
                </a:moveTo>
                <a:cubicBezTo>
                  <a:pt x="3417" y="3757"/>
                  <a:pt x="3462" y="3686"/>
                  <a:pt x="3547" y="3671"/>
                </a:cubicBezTo>
                <a:cubicBezTo>
                  <a:pt x="3625" y="3657"/>
                  <a:pt x="3749" y="3662"/>
                  <a:pt x="3820" y="3696"/>
                </a:cubicBezTo>
                <a:cubicBezTo>
                  <a:pt x="3923" y="3746"/>
                  <a:pt x="4030" y="3825"/>
                  <a:pt x="4093" y="3919"/>
                </a:cubicBezTo>
                <a:cubicBezTo>
                  <a:pt x="4116" y="3954"/>
                  <a:pt x="4296" y="4198"/>
                  <a:pt x="4291" y="4291"/>
                </a:cubicBezTo>
                <a:cubicBezTo>
                  <a:pt x="4288" y="4355"/>
                  <a:pt x="4246" y="4427"/>
                  <a:pt x="4192" y="4465"/>
                </a:cubicBezTo>
                <a:cubicBezTo>
                  <a:pt x="4113" y="4521"/>
                  <a:pt x="4058" y="4534"/>
                  <a:pt x="3969" y="4564"/>
                </a:cubicBezTo>
                <a:cubicBezTo>
                  <a:pt x="3947" y="4571"/>
                  <a:pt x="3771" y="4655"/>
                  <a:pt x="3746" y="4614"/>
                </a:cubicBezTo>
                <a:cubicBezTo>
                  <a:pt x="3775" y="4584"/>
                  <a:pt x="3789" y="4572"/>
                  <a:pt x="3820" y="4564"/>
                </a:cubicBezTo>
              </a:path>
              <a:path w="3549" h="944">
                <a:moveTo>
                  <a:pt x="4465" y="4217"/>
                </a:moveTo>
                <a:cubicBezTo>
                  <a:pt x="4484" y="4307"/>
                  <a:pt x="4490" y="4374"/>
                  <a:pt x="4490" y="4465"/>
                </a:cubicBezTo>
                <a:cubicBezTo>
                  <a:pt x="4490" y="4509"/>
                  <a:pt x="4493" y="4529"/>
                  <a:pt x="4465" y="4490"/>
                </a:cubicBezTo>
              </a:path>
              <a:path w="3549" h="944">
                <a:moveTo>
                  <a:pt x="4415" y="4068"/>
                </a:moveTo>
                <a:cubicBezTo>
                  <a:pt x="4423" y="4051"/>
                  <a:pt x="4432" y="4035"/>
                  <a:pt x="4440" y="4018"/>
                </a:cubicBezTo>
              </a:path>
              <a:path w="3549" h="944">
                <a:moveTo>
                  <a:pt x="4638" y="4366"/>
                </a:moveTo>
                <a:cubicBezTo>
                  <a:pt x="4679" y="4423"/>
                  <a:pt x="4713" y="4465"/>
                  <a:pt x="4762" y="4514"/>
                </a:cubicBezTo>
                <a:cubicBezTo>
                  <a:pt x="4847" y="4599"/>
                  <a:pt x="4848" y="4434"/>
                  <a:pt x="4862" y="4390"/>
                </a:cubicBezTo>
                <a:cubicBezTo>
                  <a:pt x="4884" y="4321"/>
                  <a:pt x="4889" y="4255"/>
                  <a:pt x="4911" y="4192"/>
                </a:cubicBezTo>
                <a:cubicBezTo>
                  <a:pt x="4919" y="4175"/>
                  <a:pt x="4928" y="4159"/>
                  <a:pt x="4936" y="4142"/>
                </a:cubicBezTo>
              </a:path>
              <a:path w="3549" h="944">
                <a:moveTo>
                  <a:pt x="4986" y="4242"/>
                </a:moveTo>
                <a:cubicBezTo>
                  <a:pt x="5009" y="4330"/>
                  <a:pt x="5023" y="4442"/>
                  <a:pt x="5060" y="4514"/>
                </a:cubicBezTo>
              </a:path>
              <a:path w="3549" h="944">
                <a:moveTo>
                  <a:pt x="5035" y="4018"/>
                </a:moveTo>
                <a:cubicBezTo>
                  <a:pt x="5043" y="4010"/>
                  <a:pt x="5052" y="4002"/>
                  <a:pt x="5060" y="3994"/>
                </a:cubicBezTo>
              </a:path>
              <a:path w="3549" h="944">
                <a:moveTo>
                  <a:pt x="5457" y="4142"/>
                </a:moveTo>
                <a:cubicBezTo>
                  <a:pt x="5393" y="4174"/>
                  <a:pt x="5317" y="4190"/>
                  <a:pt x="5259" y="4217"/>
                </a:cubicBezTo>
                <a:cubicBezTo>
                  <a:pt x="5251" y="4225"/>
                  <a:pt x="5242" y="4234"/>
                  <a:pt x="5234" y="4242"/>
                </a:cubicBezTo>
                <a:cubicBezTo>
                  <a:pt x="5283" y="4310"/>
                  <a:pt x="5317" y="4305"/>
                  <a:pt x="5383" y="4341"/>
                </a:cubicBezTo>
                <a:cubicBezTo>
                  <a:pt x="5421" y="4362"/>
                  <a:pt x="5517" y="4389"/>
                  <a:pt x="5531" y="4440"/>
                </a:cubicBezTo>
                <a:cubicBezTo>
                  <a:pt x="5551" y="4513"/>
                  <a:pt x="5486" y="4536"/>
                  <a:pt x="5432" y="4539"/>
                </a:cubicBezTo>
                <a:cubicBezTo>
                  <a:pt x="5343" y="4544"/>
                  <a:pt x="5321" y="4545"/>
                  <a:pt x="5333" y="4465"/>
                </a:cubicBezTo>
              </a:path>
              <a:path w="3549" h="944">
                <a:moveTo>
                  <a:pt x="5730" y="4167"/>
                </a:moveTo>
                <a:cubicBezTo>
                  <a:pt x="5730" y="4220"/>
                  <a:pt x="5730" y="4572"/>
                  <a:pt x="5730" y="4465"/>
                </a:cubicBezTo>
              </a:path>
              <a:path w="3549" h="944">
                <a:moveTo>
                  <a:pt x="5680" y="4043"/>
                </a:moveTo>
                <a:cubicBezTo>
                  <a:pt x="5680" y="3999"/>
                  <a:pt x="5677" y="3985"/>
                  <a:pt x="5705" y="3969"/>
                </a:cubicBezTo>
              </a:path>
              <a:path w="3549" h="944">
                <a:moveTo>
                  <a:pt x="5928" y="4266"/>
                </a:moveTo>
                <a:cubicBezTo>
                  <a:pt x="5947" y="4356"/>
                  <a:pt x="5951" y="4459"/>
                  <a:pt x="6003" y="4539"/>
                </a:cubicBezTo>
                <a:cubicBezTo>
                  <a:pt x="6040" y="4596"/>
                  <a:pt x="6130" y="4560"/>
                  <a:pt x="6176" y="4539"/>
                </a:cubicBezTo>
                <a:cubicBezTo>
                  <a:pt x="6268" y="4498"/>
                  <a:pt x="6242" y="4466"/>
                  <a:pt x="6276" y="4390"/>
                </a:cubicBezTo>
                <a:cubicBezTo>
                  <a:pt x="6303" y="4330"/>
                  <a:pt x="6308" y="4302"/>
                  <a:pt x="6276" y="4242"/>
                </a:cubicBezTo>
                <a:cubicBezTo>
                  <a:pt x="6249" y="4192"/>
                  <a:pt x="6202" y="4114"/>
                  <a:pt x="6127" y="4142"/>
                </a:cubicBezTo>
                <a:cubicBezTo>
                  <a:pt x="6070" y="4163"/>
                  <a:pt x="6008" y="4216"/>
                  <a:pt x="5978" y="4266"/>
                </a:cubicBezTo>
                <a:cubicBezTo>
                  <a:pt x="5937" y="4335"/>
                  <a:pt x="5980" y="4410"/>
                  <a:pt x="6052" y="4440"/>
                </a:cubicBezTo>
                <a:cubicBezTo>
                  <a:pt x="6060" y="4440"/>
                  <a:pt x="6069" y="4440"/>
                  <a:pt x="6077" y="4440"/>
                </a:cubicBezTo>
              </a:path>
              <a:path w="3549" h="944">
                <a:moveTo>
                  <a:pt x="6400" y="4291"/>
                </a:moveTo>
                <a:cubicBezTo>
                  <a:pt x="6395" y="4383"/>
                  <a:pt x="6385" y="4431"/>
                  <a:pt x="6375" y="4514"/>
                </a:cubicBezTo>
                <a:cubicBezTo>
                  <a:pt x="6413" y="4467"/>
                  <a:pt x="6429" y="4416"/>
                  <a:pt x="6449" y="4366"/>
                </a:cubicBezTo>
                <a:cubicBezTo>
                  <a:pt x="6476" y="4299"/>
                  <a:pt x="6499" y="4246"/>
                  <a:pt x="6548" y="4192"/>
                </a:cubicBezTo>
                <a:cubicBezTo>
                  <a:pt x="6601" y="4132"/>
                  <a:pt x="6682" y="4127"/>
                  <a:pt x="6747" y="4167"/>
                </a:cubicBezTo>
                <a:cubicBezTo>
                  <a:pt x="6813" y="4208"/>
                  <a:pt x="6836" y="4247"/>
                  <a:pt x="6871" y="4316"/>
                </a:cubicBezTo>
                <a:cubicBezTo>
                  <a:pt x="6907" y="4388"/>
                  <a:pt x="6904" y="4482"/>
                  <a:pt x="6896" y="4539"/>
                </a:cubicBezTo>
                <a:cubicBezTo>
                  <a:pt x="6896" y="4584"/>
                  <a:pt x="6899" y="4597"/>
                  <a:pt x="6871" y="4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0"/>
          <p:cNvSpPr/>
          <p:nvPr/>
        </p:nvSpPr>
        <p:spPr>
          <a:xfrm>
            <a:off x="7518240" y="3633840"/>
            <a:ext cx="411480" cy="322200"/>
          </a:xfrm>
          <a:custGeom>
            <a:avLst/>
            <a:gdLst/>
            <a:ahLst/>
            <a:rect l="l" t="t" r="r" b="b"/>
            <a:pathLst>
              <a:path w="1142" h="893">
                <a:moveTo>
                  <a:pt x="20886" y="10517"/>
                </a:moveTo>
                <a:cubicBezTo>
                  <a:pt x="20939" y="10524"/>
                  <a:pt x="21035" y="10523"/>
                  <a:pt x="21084" y="10542"/>
                </a:cubicBezTo>
                <a:cubicBezTo>
                  <a:pt x="21144" y="10565"/>
                  <a:pt x="21212" y="10583"/>
                  <a:pt x="21282" y="10592"/>
                </a:cubicBezTo>
              </a:path>
              <a:path w="1142" h="893">
                <a:moveTo>
                  <a:pt x="21654" y="10120"/>
                </a:moveTo>
                <a:cubicBezTo>
                  <a:pt x="21662" y="10112"/>
                  <a:pt x="21671" y="10104"/>
                  <a:pt x="21679" y="10096"/>
                </a:cubicBezTo>
                <a:cubicBezTo>
                  <a:pt x="21739" y="10154"/>
                  <a:pt x="21759" y="10118"/>
                  <a:pt x="21828" y="10145"/>
                </a:cubicBezTo>
                <a:cubicBezTo>
                  <a:pt x="21858" y="10175"/>
                  <a:pt x="21872" y="10180"/>
                  <a:pt x="21903" y="10145"/>
                </a:cubicBezTo>
              </a:path>
              <a:path w="1142" h="893">
                <a:moveTo>
                  <a:pt x="21729" y="10096"/>
                </a:moveTo>
                <a:cubicBezTo>
                  <a:pt x="21712" y="10104"/>
                  <a:pt x="21696" y="10112"/>
                  <a:pt x="21679" y="10120"/>
                </a:cubicBezTo>
              </a:path>
              <a:path w="1142" h="893">
                <a:moveTo>
                  <a:pt x="21555" y="10244"/>
                </a:moveTo>
                <a:cubicBezTo>
                  <a:pt x="21538" y="10300"/>
                  <a:pt x="21482" y="10404"/>
                  <a:pt x="21506" y="10468"/>
                </a:cubicBezTo>
                <a:cubicBezTo>
                  <a:pt x="21530" y="10492"/>
                  <a:pt x="21539" y="10501"/>
                  <a:pt x="21555" y="10517"/>
                </a:cubicBezTo>
                <a:cubicBezTo>
                  <a:pt x="21605" y="10468"/>
                  <a:pt x="21626" y="10470"/>
                  <a:pt x="21679" y="10443"/>
                </a:cubicBezTo>
                <a:cubicBezTo>
                  <a:pt x="21744" y="10410"/>
                  <a:pt x="21781" y="10411"/>
                  <a:pt x="21853" y="10443"/>
                </a:cubicBezTo>
                <a:cubicBezTo>
                  <a:pt x="21909" y="10468"/>
                  <a:pt x="21985" y="10503"/>
                  <a:pt x="22002" y="10567"/>
                </a:cubicBezTo>
                <a:cubicBezTo>
                  <a:pt x="22024" y="10647"/>
                  <a:pt x="22034" y="10701"/>
                  <a:pt x="22002" y="10790"/>
                </a:cubicBezTo>
                <a:cubicBezTo>
                  <a:pt x="21987" y="10832"/>
                  <a:pt x="21942" y="10889"/>
                  <a:pt x="21903" y="10914"/>
                </a:cubicBezTo>
                <a:cubicBezTo>
                  <a:pt x="21857" y="10944"/>
                  <a:pt x="21761" y="11005"/>
                  <a:pt x="21704" y="10988"/>
                </a:cubicBezTo>
                <a:cubicBezTo>
                  <a:pt x="21681" y="10966"/>
                  <a:pt x="21673" y="10961"/>
                  <a:pt x="21679" y="109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1"/>
          <p:cNvSpPr/>
          <p:nvPr/>
        </p:nvSpPr>
        <p:spPr>
          <a:xfrm>
            <a:off x="7439040" y="4187880"/>
            <a:ext cx="312840" cy="384120"/>
          </a:xfrm>
          <a:custGeom>
            <a:avLst/>
            <a:gdLst/>
            <a:ahLst/>
            <a:rect l="l" t="t" r="r" b="b"/>
            <a:pathLst>
              <a:path w="869" h="1068">
                <a:moveTo>
                  <a:pt x="21406" y="11881"/>
                </a:moveTo>
                <a:cubicBezTo>
                  <a:pt x="21376" y="11821"/>
                  <a:pt x="21352" y="11758"/>
                  <a:pt x="21307" y="11708"/>
                </a:cubicBezTo>
                <a:cubicBezTo>
                  <a:pt x="21238" y="11632"/>
                  <a:pt x="21216" y="11632"/>
                  <a:pt x="21109" y="11658"/>
                </a:cubicBezTo>
                <a:cubicBezTo>
                  <a:pt x="21044" y="11674"/>
                  <a:pt x="20984" y="11713"/>
                  <a:pt x="20935" y="11757"/>
                </a:cubicBezTo>
                <a:cubicBezTo>
                  <a:pt x="20873" y="11812"/>
                  <a:pt x="20802" y="11888"/>
                  <a:pt x="20762" y="11956"/>
                </a:cubicBezTo>
                <a:cubicBezTo>
                  <a:pt x="20729" y="12013"/>
                  <a:pt x="20698" y="12064"/>
                  <a:pt x="20687" y="12129"/>
                </a:cubicBezTo>
                <a:cubicBezTo>
                  <a:pt x="20674" y="12207"/>
                  <a:pt x="20662" y="12270"/>
                  <a:pt x="20662" y="12353"/>
                </a:cubicBezTo>
                <a:cubicBezTo>
                  <a:pt x="20662" y="12414"/>
                  <a:pt x="20662" y="12497"/>
                  <a:pt x="20687" y="12551"/>
                </a:cubicBezTo>
                <a:cubicBezTo>
                  <a:pt x="20710" y="12601"/>
                  <a:pt x="20791" y="12651"/>
                  <a:pt x="20836" y="12675"/>
                </a:cubicBezTo>
                <a:cubicBezTo>
                  <a:pt x="20916" y="12717"/>
                  <a:pt x="21002" y="12708"/>
                  <a:pt x="21084" y="12675"/>
                </a:cubicBezTo>
                <a:cubicBezTo>
                  <a:pt x="21143" y="12651"/>
                  <a:pt x="21208" y="12614"/>
                  <a:pt x="21258" y="12576"/>
                </a:cubicBezTo>
                <a:cubicBezTo>
                  <a:pt x="21324" y="12526"/>
                  <a:pt x="21391" y="12449"/>
                  <a:pt x="21431" y="12378"/>
                </a:cubicBezTo>
                <a:cubicBezTo>
                  <a:pt x="21466" y="12315"/>
                  <a:pt x="21486" y="12264"/>
                  <a:pt x="21506" y="12204"/>
                </a:cubicBezTo>
                <a:cubicBezTo>
                  <a:pt x="21530" y="12134"/>
                  <a:pt x="21530" y="12081"/>
                  <a:pt x="21530" y="12005"/>
                </a:cubicBezTo>
                <a:cubicBezTo>
                  <a:pt x="21530" y="11918"/>
                  <a:pt x="21515" y="11848"/>
                  <a:pt x="21456" y="11782"/>
                </a:cubicBezTo>
                <a:cubicBezTo>
                  <a:pt x="21402" y="11722"/>
                  <a:pt x="21360" y="11733"/>
                  <a:pt x="21282" y="11733"/>
                </a:cubicBezTo>
                <a:cubicBezTo>
                  <a:pt x="21228" y="11733"/>
                  <a:pt x="21212" y="11750"/>
                  <a:pt x="21158" y="117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2"/>
          <p:cNvSpPr/>
          <p:nvPr/>
        </p:nvSpPr>
        <p:spPr>
          <a:xfrm>
            <a:off x="1116000" y="1812960"/>
            <a:ext cx="1036800" cy="330120"/>
          </a:xfrm>
          <a:custGeom>
            <a:avLst/>
            <a:gdLst/>
            <a:ahLst/>
            <a:rect l="l" t="t" r="r" b="b"/>
            <a:pathLst>
              <a:path w="2878" h="919">
                <a:moveTo>
                  <a:pt x="3150" y="5308"/>
                </a:moveTo>
                <a:cubicBezTo>
                  <a:pt x="3179" y="5250"/>
                  <a:pt x="3203" y="5205"/>
                  <a:pt x="3249" y="5159"/>
                </a:cubicBezTo>
                <a:cubicBezTo>
                  <a:pt x="3284" y="5124"/>
                  <a:pt x="3323" y="5072"/>
                  <a:pt x="3373" y="5060"/>
                </a:cubicBezTo>
                <a:cubicBezTo>
                  <a:pt x="3414" y="5050"/>
                  <a:pt x="3510" y="5053"/>
                  <a:pt x="3522" y="5110"/>
                </a:cubicBezTo>
                <a:cubicBezTo>
                  <a:pt x="3536" y="5175"/>
                  <a:pt x="3494" y="5248"/>
                  <a:pt x="3473" y="5308"/>
                </a:cubicBezTo>
                <a:cubicBezTo>
                  <a:pt x="3439" y="5408"/>
                  <a:pt x="3419" y="5451"/>
                  <a:pt x="3349" y="5531"/>
                </a:cubicBezTo>
                <a:cubicBezTo>
                  <a:pt x="3303" y="5583"/>
                  <a:pt x="3288" y="5648"/>
                  <a:pt x="3249" y="5705"/>
                </a:cubicBezTo>
                <a:cubicBezTo>
                  <a:pt x="3216" y="5753"/>
                  <a:pt x="3185" y="5807"/>
                  <a:pt x="3150" y="5854"/>
                </a:cubicBezTo>
                <a:cubicBezTo>
                  <a:pt x="3125" y="5879"/>
                  <a:pt x="3117" y="5887"/>
                  <a:pt x="3101" y="5904"/>
                </a:cubicBezTo>
                <a:cubicBezTo>
                  <a:pt x="3138" y="5838"/>
                  <a:pt x="3148" y="5809"/>
                  <a:pt x="3225" y="5804"/>
                </a:cubicBezTo>
                <a:cubicBezTo>
                  <a:pt x="3289" y="5800"/>
                  <a:pt x="3335" y="5843"/>
                  <a:pt x="3398" y="5854"/>
                </a:cubicBezTo>
                <a:cubicBezTo>
                  <a:pt x="3437" y="5860"/>
                  <a:pt x="3482" y="5854"/>
                  <a:pt x="3522" y="5854"/>
                </a:cubicBezTo>
              </a:path>
              <a:path w="2878" h="919">
                <a:moveTo>
                  <a:pt x="3671" y="5457"/>
                </a:moveTo>
                <a:cubicBezTo>
                  <a:pt x="3679" y="5520"/>
                  <a:pt x="3710" y="5578"/>
                  <a:pt x="3721" y="5631"/>
                </a:cubicBezTo>
                <a:cubicBezTo>
                  <a:pt x="3733" y="5690"/>
                  <a:pt x="3755" y="5726"/>
                  <a:pt x="3795" y="5779"/>
                </a:cubicBezTo>
                <a:cubicBezTo>
                  <a:pt x="3822" y="5815"/>
                  <a:pt x="3874" y="5868"/>
                  <a:pt x="3919" y="5879"/>
                </a:cubicBezTo>
                <a:cubicBezTo>
                  <a:pt x="3974" y="5892"/>
                  <a:pt x="3985" y="5863"/>
                  <a:pt x="4018" y="5829"/>
                </a:cubicBezTo>
              </a:path>
              <a:path w="2878" h="919">
                <a:moveTo>
                  <a:pt x="3845" y="5432"/>
                </a:moveTo>
                <a:cubicBezTo>
                  <a:pt x="3785" y="5565"/>
                  <a:pt x="3741" y="5664"/>
                  <a:pt x="3671" y="5779"/>
                </a:cubicBezTo>
                <a:cubicBezTo>
                  <a:pt x="3636" y="5837"/>
                  <a:pt x="3505" y="5956"/>
                  <a:pt x="3572" y="5953"/>
                </a:cubicBezTo>
                <a:cubicBezTo>
                  <a:pt x="3580" y="5945"/>
                  <a:pt x="3589" y="5936"/>
                  <a:pt x="3597" y="5928"/>
                </a:cubicBezTo>
              </a:path>
              <a:path w="2878" h="919">
                <a:moveTo>
                  <a:pt x="4093" y="5060"/>
                </a:moveTo>
                <a:cubicBezTo>
                  <a:pt x="4203" y="5044"/>
                  <a:pt x="4189" y="5022"/>
                  <a:pt x="4266" y="5085"/>
                </a:cubicBezTo>
                <a:cubicBezTo>
                  <a:pt x="4242" y="5151"/>
                  <a:pt x="4242" y="5184"/>
                  <a:pt x="4192" y="5234"/>
                </a:cubicBezTo>
                <a:cubicBezTo>
                  <a:pt x="4141" y="5285"/>
                  <a:pt x="4137" y="5265"/>
                  <a:pt x="4118" y="5333"/>
                </a:cubicBezTo>
                <a:cubicBezTo>
                  <a:pt x="4207" y="5333"/>
                  <a:pt x="4281" y="5322"/>
                  <a:pt x="4366" y="5308"/>
                </a:cubicBezTo>
              </a:path>
              <a:path w="2878" h="919">
                <a:moveTo>
                  <a:pt x="4762" y="5308"/>
                </a:moveTo>
                <a:cubicBezTo>
                  <a:pt x="4737" y="5361"/>
                  <a:pt x="4717" y="5421"/>
                  <a:pt x="4713" y="5482"/>
                </a:cubicBezTo>
                <a:cubicBezTo>
                  <a:pt x="4708" y="5572"/>
                  <a:pt x="4713" y="5664"/>
                  <a:pt x="4713" y="5755"/>
                </a:cubicBezTo>
              </a:path>
              <a:path w="2878" h="919">
                <a:moveTo>
                  <a:pt x="4514" y="5581"/>
                </a:moveTo>
                <a:cubicBezTo>
                  <a:pt x="4630" y="5581"/>
                  <a:pt x="4746" y="5581"/>
                  <a:pt x="4862" y="5581"/>
                </a:cubicBezTo>
              </a:path>
              <a:path w="2878" h="919">
                <a:moveTo>
                  <a:pt x="5110" y="5209"/>
                </a:moveTo>
                <a:cubicBezTo>
                  <a:pt x="5064" y="5293"/>
                  <a:pt x="5063" y="5346"/>
                  <a:pt x="5035" y="5432"/>
                </a:cubicBezTo>
                <a:cubicBezTo>
                  <a:pt x="5017" y="5487"/>
                  <a:pt x="4969" y="5625"/>
                  <a:pt x="4986" y="5680"/>
                </a:cubicBezTo>
                <a:cubicBezTo>
                  <a:pt x="4992" y="5699"/>
                  <a:pt x="5024" y="5817"/>
                  <a:pt x="5035" y="5829"/>
                </a:cubicBezTo>
                <a:cubicBezTo>
                  <a:pt x="5066" y="5863"/>
                  <a:pt x="5193" y="5870"/>
                  <a:pt x="5234" y="5854"/>
                </a:cubicBezTo>
                <a:cubicBezTo>
                  <a:pt x="5281" y="5836"/>
                  <a:pt x="5360" y="5725"/>
                  <a:pt x="5358" y="5680"/>
                </a:cubicBezTo>
                <a:cubicBezTo>
                  <a:pt x="5355" y="5628"/>
                  <a:pt x="5296" y="5535"/>
                  <a:pt x="5234" y="5556"/>
                </a:cubicBezTo>
                <a:cubicBezTo>
                  <a:pt x="5178" y="5575"/>
                  <a:pt x="5145" y="5680"/>
                  <a:pt x="5159" y="5730"/>
                </a:cubicBezTo>
                <a:cubicBezTo>
                  <a:pt x="5166" y="5754"/>
                  <a:pt x="5229" y="5845"/>
                  <a:pt x="5259" y="5854"/>
                </a:cubicBezTo>
                <a:cubicBezTo>
                  <a:pt x="5275" y="5854"/>
                  <a:pt x="5292" y="5854"/>
                  <a:pt x="5308" y="5854"/>
                </a:cubicBezTo>
              </a:path>
              <a:path w="2878" h="919">
                <a:moveTo>
                  <a:pt x="5556" y="5457"/>
                </a:moveTo>
                <a:cubicBezTo>
                  <a:pt x="5597" y="5520"/>
                  <a:pt x="5629" y="5601"/>
                  <a:pt x="5680" y="5655"/>
                </a:cubicBezTo>
                <a:cubicBezTo>
                  <a:pt x="5731" y="5709"/>
                  <a:pt x="5773" y="5737"/>
                  <a:pt x="5829" y="5779"/>
                </a:cubicBezTo>
                <a:cubicBezTo>
                  <a:pt x="5874" y="5813"/>
                  <a:pt x="5922" y="5821"/>
                  <a:pt x="5978" y="5829"/>
                </a:cubicBezTo>
              </a:path>
              <a:path w="2878" h="919">
                <a:moveTo>
                  <a:pt x="5854" y="5531"/>
                </a:moveTo>
                <a:cubicBezTo>
                  <a:pt x="5784" y="5601"/>
                  <a:pt x="5709" y="5673"/>
                  <a:pt x="5655" y="5755"/>
                </a:cubicBezTo>
                <a:cubicBezTo>
                  <a:pt x="5623" y="5804"/>
                  <a:pt x="5598" y="5837"/>
                  <a:pt x="5556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3"/>
          <p:cNvSpPr/>
          <p:nvPr/>
        </p:nvSpPr>
        <p:spPr>
          <a:xfrm>
            <a:off x="2295360" y="1901880"/>
            <a:ext cx="347760" cy="223920"/>
          </a:xfrm>
          <a:custGeom>
            <a:avLst/>
            <a:gdLst/>
            <a:ahLst/>
            <a:rect l="l" t="t" r="r" b="b"/>
            <a:pathLst>
              <a:path w="968" h="622">
                <a:moveTo>
                  <a:pt x="6573" y="5482"/>
                </a:moveTo>
                <a:cubicBezTo>
                  <a:pt x="6564" y="5573"/>
                  <a:pt x="6568" y="5611"/>
                  <a:pt x="6573" y="5705"/>
                </a:cubicBezTo>
                <a:cubicBezTo>
                  <a:pt x="6576" y="5758"/>
                  <a:pt x="6587" y="5761"/>
                  <a:pt x="6598" y="5804"/>
                </a:cubicBezTo>
              </a:path>
              <a:path w="968" h="622">
                <a:moveTo>
                  <a:pt x="6375" y="5655"/>
                </a:moveTo>
                <a:cubicBezTo>
                  <a:pt x="6430" y="5688"/>
                  <a:pt x="6480" y="5680"/>
                  <a:pt x="6548" y="5680"/>
                </a:cubicBezTo>
                <a:cubicBezTo>
                  <a:pt x="6598" y="5680"/>
                  <a:pt x="6615" y="5680"/>
                  <a:pt x="6648" y="5680"/>
                </a:cubicBezTo>
              </a:path>
              <a:path w="968" h="622">
                <a:moveTo>
                  <a:pt x="7045" y="5308"/>
                </a:moveTo>
                <a:cubicBezTo>
                  <a:pt x="7133" y="5308"/>
                  <a:pt x="7220" y="5320"/>
                  <a:pt x="7293" y="5283"/>
                </a:cubicBezTo>
              </a:path>
              <a:path w="968" h="622">
                <a:moveTo>
                  <a:pt x="7020" y="5333"/>
                </a:moveTo>
                <a:cubicBezTo>
                  <a:pt x="7013" y="5357"/>
                  <a:pt x="6927" y="5577"/>
                  <a:pt x="6970" y="5631"/>
                </a:cubicBezTo>
                <a:cubicBezTo>
                  <a:pt x="7013" y="5687"/>
                  <a:pt x="7085" y="5612"/>
                  <a:pt x="7119" y="5581"/>
                </a:cubicBezTo>
                <a:cubicBezTo>
                  <a:pt x="7181" y="5525"/>
                  <a:pt x="7202" y="5531"/>
                  <a:pt x="7268" y="5581"/>
                </a:cubicBezTo>
                <a:cubicBezTo>
                  <a:pt x="7314" y="5615"/>
                  <a:pt x="7333" y="5676"/>
                  <a:pt x="7342" y="5730"/>
                </a:cubicBezTo>
                <a:cubicBezTo>
                  <a:pt x="7350" y="5779"/>
                  <a:pt x="7359" y="5885"/>
                  <a:pt x="7293" y="5904"/>
                </a:cubicBezTo>
                <a:cubicBezTo>
                  <a:pt x="7244" y="5918"/>
                  <a:pt x="7136" y="5898"/>
                  <a:pt x="7094" y="5879"/>
                </a:cubicBezTo>
                <a:cubicBezTo>
                  <a:pt x="7071" y="5856"/>
                  <a:pt x="7063" y="5852"/>
                  <a:pt x="7069" y="58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4"/>
          <p:cNvSpPr/>
          <p:nvPr/>
        </p:nvSpPr>
        <p:spPr>
          <a:xfrm>
            <a:off x="312840" y="2152800"/>
            <a:ext cx="3125520" cy="384120"/>
          </a:xfrm>
          <a:custGeom>
            <a:avLst/>
            <a:gdLst/>
            <a:ahLst/>
            <a:rect l="l" t="t" r="r" b="b"/>
            <a:pathLst>
              <a:path w="8683" h="1068">
                <a:moveTo>
                  <a:pt x="918" y="6276"/>
                </a:moveTo>
                <a:cubicBezTo>
                  <a:pt x="962" y="6319"/>
                  <a:pt x="965" y="6351"/>
                  <a:pt x="992" y="6400"/>
                </a:cubicBezTo>
                <a:cubicBezTo>
                  <a:pt x="1024" y="6459"/>
                  <a:pt x="1058" y="6517"/>
                  <a:pt x="1091" y="6573"/>
                </a:cubicBezTo>
                <a:cubicBezTo>
                  <a:pt x="1128" y="6635"/>
                  <a:pt x="1178" y="6685"/>
                  <a:pt x="1215" y="6747"/>
                </a:cubicBezTo>
                <a:cubicBezTo>
                  <a:pt x="1223" y="6760"/>
                  <a:pt x="1289" y="6877"/>
                  <a:pt x="1315" y="6871"/>
                </a:cubicBezTo>
                <a:cubicBezTo>
                  <a:pt x="1315" y="6863"/>
                  <a:pt x="1315" y="6854"/>
                  <a:pt x="1315" y="6846"/>
                </a:cubicBezTo>
              </a:path>
              <a:path w="8683" h="1068">
                <a:moveTo>
                  <a:pt x="1290" y="6226"/>
                </a:moveTo>
                <a:cubicBezTo>
                  <a:pt x="1240" y="6290"/>
                  <a:pt x="1221" y="6366"/>
                  <a:pt x="1166" y="6424"/>
                </a:cubicBezTo>
                <a:cubicBezTo>
                  <a:pt x="1103" y="6491"/>
                  <a:pt x="1060" y="6567"/>
                  <a:pt x="1017" y="6648"/>
                </a:cubicBezTo>
                <a:cubicBezTo>
                  <a:pt x="986" y="6706"/>
                  <a:pt x="957" y="6769"/>
                  <a:pt x="918" y="6821"/>
                </a:cubicBezTo>
                <a:cubicBezTo>
                  <a:pt x="911" y="6830"/>
                  <a:pt x="826" y="6913"/>
                  <a:pt x="893" y="6846"/>
                </a:cubicBezTo>
              </a:path>
              <a:path w="8683" h="1068">
                <a:moveTo>
                  <a:pt x="1637" y="6325"/>
                </a:moveTo>
                <a:cubicBezTo>
                  <a:pt x="1607" y="6423"/>
                  <a:pt x="1611" y="6478"/>
                  <a:pt x="1588" y="6573"/>
                </a:cubicBezTo>
                <a:cubicBezTo>
                  <a:pt x="1574" y="6632"/>
                  <a:pt x="1563" y="6658"/>
                  <a:pt x="1563" y="6722"/>
                </a:cubicBezTo>
              </a:path>
              <a:path w="8683" h="1068">
                <a:moveTo>
                  <a:pt x="1339" y="6548"/>
                </a:moveTo>
                <a:cubicBezTo>
                  <a:pt x="1399" y="6548"/>
                  <a:pt x="1514" y="6578"/>
                  <a:pt x="1563" y="6573"/>
                </a:cubicBezTo>
                <a:cubicBezTo>
                  <a:pt x="1636" y="6565"/>
                  <a:pt x="1705" y="6548"/>
                  <a:pt x="1786" y="6548"/>
                </a:cubicBezTo>
                <a:cubicBezTo>
                  <a:pt x="1803" y="6548"/>
                  <a:pt x="1819" y="6548"/>
                  <a:pt x="1836" y="6548"/>
                </a:cubicBezTo>
              </a:path>
              <a:path w="8683" h="1068">
                <a:moveTo>
                  <a:pt x="2059" y="6276"/>
                </a:moveTo>
                <a:cubicBezTo>
                  <a:pt x="2059" y="6348"/>
                  <a:pt x="2053" y="6432"/>
                  <a:pt x="2034" y="6499"/>
                </a:cubicBezTo>
                <a:cubicBezTo>
                  <a:pt x="2011" y="6578"/>
                  <a:pt x="1995" y="6662"/>
                  <a:pt x="1984" y="6747"/>
                </a:cubicBezTo>
                <a:cubicBezTo>
                  <a:pt x="1979" y="6788"/>
                  <a:pt x="1984" y="6862"/>
                  <a:pt x="1984" y="6821"/>
                </a:cubicBezTo>
              </a:path>
              <a:path w="8683" h="1068">
                <a:moveTo>
                  <a:pt x="2356" y="6325"/>
                </a:moveTo>
                <a:cubicBezTo>
                  <a:pt x="2342" y="6449"/>
                  <a:pt x="2324" y="6578"/>
                  <a:pt x="2307" y="6697"/>
                </a:cubicBezTo>
                <a:cubicBezTo>
                  <a:pt x="2296" y="6772"/>
                  <a:pt x="2296" y="6847"/>
                  <a:pt x="2282" y="6921"/>
                </a:cubicBezTo>
                <a:cubicBezTo>
                  <a:pt x="2299" y="6840"/>
                  <a:pt x="2311" y="6752"/>
                  <a:pt x="2332" y="6672"/>
                </a:cubicBezTo>
                <a:cubicBezTo>
                  <a:pt x="2350" y="6604"/>
                  <a:pt x="2367" y="6543"/>
                  <a:pt x="2381" y="6474"/>
                </a:cubicBezTo>
                <a:cubicBezTo>
                  <a:pt x="2396" y="6399"/>
                  <a:pt x="2393" y="6327"/>
                  <a:pt x="2406" y="6251"/>
                </a:cubicBezTo>
                <a:cubicBezTo>
                  <a:pt x="2419" y="6176"/>
                  <a:pt x="2425" y="6105"/>
                  <a:pt x="2431" y="6028"/>
                </a:cubicBezTo>
                <a:cubicBezTo>
                  <a:pt x="2431" y="6011"/>
                  <a:pt x="2431" y="5995"/>
                  <a:pt x="2431" y="5978"/>
                </a:cubicBezTo>
                <a:cubicBezTo>
                  <a:pt x="2649" y="5978"/>
                  <a:pt x="2864" y="5989"/>
                  <a:pt x="3076" y="6003"/>
                </a:cubicBezTo>
                <a:cubicBezTo>
                  <a:pt x="3273" y="6016"/>
                  <a:pt x="3478" y="6016"/>
                  <a:pt x="3671" y="6028"/>
                </a:cubicBezTo>
                <a:cubicBezTo>
                  <a:pt x="3819" y="6037"/>
                  <a:pt x="3974" y="6045"/>
                  <a:pt x="4118" y="6052"/>
                </a:cubicBezTo>
                <a:cubicBezTo>
                  <a:pt x="4249" y="6059"/>
                  <a:pt x="4387" y="6071"/>
                  <a:pt x="4514" y="6077"/>
                </a:cubicBezTo>
                <a:cubicBezTo>
                  <a:pt x="4697" y="6086"/>
                  <a:pt x="4880" y="6094"/>
                  <a:pt x="5060" y="6102"/>
                </a:cubicBezTo>
                <a:cubicBezTo>
                  <a:pt x="5784" y="6134"/>
                  <a:pt x="6521" y="6127"/>
                  <a:pt x="7243" y="6127"/>
                </a:cubicBezTo>
                <a:cubicBezTo>
                  <a:pt x="7682" y="6127"/>
                  <a:pt x="8123" y="6138"/>
                  <a:pt x="8558" y="6152"/>
                </a:cubicBezTo>
                <a:cubicBezTo>
                  <a:pt x="8806" y="6160"/>
                  <a:pt x="9058" y="6163"/>
                  <a:pt x="9302" y="6176"/>
                </a:cubicBezTo>
                <a:cubicBezTo>
                  <a:pt x="9396" y="6181"/>
                  <a:pt x="9433" y="6170"/>
                  <a:pt x="9525" y="6152"/>
                </a:cubicBezTo>
              </a:path>
              <a:path w="8683" h="1068">
                <a:moveTo>
                  <a:pt x="2977" y="6350"/>
                </a:moveTo>
                <a:cubicBezTo>
                  <a:pt x="3017" y="6309"/>
                  <a:pt x="3067" y="6264"/>
                  <a:pt x="3125" y="6251"/>
                </a:cubicBezTo>
                <a:cubicBezTo>
                  <a:pt x="3175" y="6251"/>
                  <a:pt x="3192" y="6251"/>
                  <a:pt x="3225" y="6251"/>
                </a:cubicBezTo>
                <a:cubicBezTo>
                  <a:pt x="3215" y="6343"/>
                  <a:pt x="3183" y="6423"/>
                  <a:pt x="3125" y="6499"/>
                </a:cubicBezTo>
                <a:cubicBezTo>
                  <a:pt x="3048" y="6600"/>
                  <a:pt x="2962" y="6703"/>
                  <a:pt x="2877" y="6796"/>
                </a:cubicBezTo>
                <a:cubicBezTo>
                  <a:pt x="2840" y="6837"/>
                  <a:pt x="2818" y="6881"/>
                  <a:pt x="2778" y="6921"/>
                </a:cubicBezTo>
                <a:cubicBezTo>
                  <a:pt x="2838" y="6861"/>
                  <a:pt x="2835" y="6883"/>
                  <a:pt x="2902" y="6896"/>
                </a:cubicBezTo>
                <a:cubicBezTo>
                  <a:pt x="2967" y="6909"/>
                  <a:pt x="3040" y="6918"/>
                  <a:pt x="3101" y="6921"/>
                </a:cubicBezTo>
                <a:cubicBezTo>
                  <a:pt x="3159" y="6921"/>
                  <a:pt x="3167" y="6921"/>
                  <a:pt x="3200" y="6921"/>
                </a:cubicBezTo>
              </a:path>
              <a:path w="8683" h="1068">
                <a:moveTo>
                  <a:pt x="3349" y="6598"/>
                </a:moveTo>
                <a:cubicBezTo>
                  <a:pt x="3373" y="6657"/>
                  <a:pt x="3417" y="6827"/>
                  <a:pt x="3473" y="6871"/>
                </a:cubicBezTo>
                <a:cubicBezTo>
                  <a:pt x="3491" y="6885"/>
                  <a:pt x="3575" y="6964"/>
                  <a:pt x="3597" y="6970"/>
                </a:cubicBezTo>
                <a:cubicBezTo>
                  <a:pt x="3613" y="6970"/>
                  <a:pt x="3630" y="6970"/>
                  <a:pt x="3646" y="6970"/>
                </a:cubicBezTo>
              </a:path>
              <a:path w="8683" h="1068">
                <a:moveTo>
                  <a:pt x="3597" y="6598"/>
                </a:moveTo>
                <a:cubicBezTo>
                  <a:pt x="3537" y="6674"/>
                  <a:pt x="3466" y="6807"/>
                  <a:pt x="3398" y="6871"/>
                </a:cubicBezTo>
                <a:cubicBezTo>
                  <a:pt x="3359" y="6908"/>
                  <a:pt x="3304" y="7014"/>
                  <a:pt x="3274" y="6970"/>
                </a:cubicBezTo>
                <a:cubicBezTo>
                  <a:pt x="3274" y="6954"/>
                  <a:pt x="3274" y="6937"/>
                  <a:pt x="3274" y="6921"/>
                </a:cubicBezTo>
              </a:path>
              <a:path w="8683" h="1068">
                <a:moveTo>
                  <a:pt x="3696" y="6226"/>
                </a:moveTo>
                <a:cubicBezTo>
                  <a:pt x="3773" y="6206"/>
                  <a:pt x="3791" y="6182"/>
                  <a:pt x="3820" y="6226"/>
                </a:cubicBezTo>
                <a:cubicBezTo>
                  <a:pt x="3812" y="6280"/>
                  <a:pt x="3798" y="6316"/>
                  <a:pt x="3746" y="6350"/>
                </a:cubicBezTo>
                <a:cubicBezTo>
                  <a:pt x="3729" y="6358"/>
                  <a:pt x="3713" y="6367"/>
                  <a:pt x="3696" y="6375"/>
                </a:cubicBezTo>
                <a:cubicBezTo>
                  <a:pt x="3758" y="6384"/>
                  <a:pt x="3817" y="6405"/>
                  <a:pt x="3870" y="6449"/>
                </a:cubicBezTo>
                <a:cubicBezTo>
                  <a:pt x="3878" y="6457"/>
                  <a:pt x="3886" y="6466"/>
                  <a:pt x="3894" y="6474"/>
                </a:cubicBezTo>
                <a:cubicBezTo>
                  <a:pt x="3848" y="6521"/>
                  <a:pt x="3817" y="6538"/>
                  <a:pt x="3746" y="6548"/>
                </a:cubicBezTo>
                <a:cubicBezTo>
                  <a:pt x="3701" y="6548"/>
                  <a:pt x="3688" y="6552"/>
                  <a:pt x="3671" y="6524"/>
                </a:cubicBezTo>
              </a:path>
              <a:path w="8683" h="1068">
                <a:moveTo>
                  <a:pt x="4266" y="6375"/>
                </a:moveTo>
                <a:cubicBezTo>
                  <a:pt x="4246" y="6479"/>
                  <a:pt x="4242" y="6567"/>
                  <a:pt x="4242" y="6672"/>
                </a:cubicBezTo>
                <a:cubicBezTo>
                  <a:pt x="4242" y="6734"/>
                  <a:pt x="4261" y="6748"/>
                  <a:pt x="4242" y="6796"/>
                </a:cubicBezTo>
              </a:path>
              <a:path w="8683" h="1068">
                <a:moveTo>
                  <a:pt x="4093" y="6623"/>
                </a:moveTo>
                <a:cubicBezTo>
                  <a:pt x="4200" y="6623"/>
                  <a:pt x="4308" y="6623"/>
                  <a:pt x="4415" y="6623"/>
                </a:cubicBezTo>
              </a:path>
              <a:path w="8683" h="1068">
                <a:moveTo>
                  <a:pt x="4961" y="6424"/>
                </a:moveTo>
                <a:cubicBezTo>
                  <a:pt x="4928" y="6384"/>
                  <a:pt x="4857" y="6329"/>
                  <a:pt x="4787" y="6350"/>
                </a:cubicBezTo>
                <a:cubicBezTo>
                  <a:pt x="4727" y="6368"/>
                  <a:pt x="4631" y="6389"/>
                  <a:pt x="4638" y="6474"/>
                </a:cubicBezTo>
                <a:cubicBezTo>
                  <a:pt x="4647" y="6582"/>
                  <a:pt x="4741" y="6619"/>
                  <a:pt x="4787" y="6697"/>
                </a:cubicBezTo>
                <a:cubicBezTo>
                  <a:pt x="4807" y="6731"/>
                  <a:pt x="4866" y="6842"/>
                  <a:pt x="4862" y="6871"/>
                </a:cubicBezTo>
                <a:cubicBezTo>
                  <a:pt x="4846" y="6989"/>
                  <a:pt x="4772" y="6973"/>
                  <a:pt x="4688" y="6945"/>
                </a:cubicBezTo>
                <a:cubicBezTo>
                  <a:pt x="4696" y="6889"/>
                  <a:pt x="4728" y="6845"/>
                  <a:pt x="4738" y="6796"/>
                </a:cubicBezTo>
                <a:cubicBezTo>
                  <a:pt x="4752" y="6728"/>
                  <a:pt x="4798" y="6713"/>
                  <a:pt x="4837" y="6648"/>
                </a:cubicBezTo>
                <a:cubicBezTo>
                  <a:pt x="4865" y="6602"/>
                  <a:pt x="4858" y="6506"/>
                  <a:pt x="4887" y="6474"/>
                </a:cubicBezTo>
                <a:cubicBezTo>
                  <a:pt x="4903" y="6466"/>
                  <a:pt x="4920" y="6457"/>
                  <a:pt x="4936" y="6449"/>
                </a:cubicBezTo>
              </a:path>
              <a:path w="8683" h="1068">
                <a:moveTo>
                  <a:pt x="5184" y="6623"/>
                </a:moveTo>
                <a:cubicBezTo>
                  <a:pt x="5204" y="6694"/>
                  <a:pt x="5230" y="6786"/>
                  <a:pt x="5259" y="6846"/>
                </a:cubicBezTo>
                <a:cubicBezTo>
                  <a:pt x="5278" y="6885"/>
                  <a:pt x="5319" y="6945"/>
                  <a:pt x="5358" y="6970"/>
                </a:cubicBezTo>
                <a:cubicBezTo>
                  <a:pt x="5407" y="6995"/>
                  <a:pt x="5424" y="7003"/>
                  <a:pt x="5457" y="6970"/>
                </a:cubicBezTo>
              </a:path>
              <a:path w="8683" h="1068">
                <a:moveTo>
                  <a:pt x="5333" y="6623"/>
                </a:moveTo>
                <a:cubicBezTo>
                  <a:pt x="5278" y="6711"/>
                  <a:pt x="5212" y="6765"/>
                  <a:pt x="5159" y="6846"/>
                </a:cubicBezTo>
                <a:cubicBezTo>
                  <a:pt x="5130" y="6891"/>
                  <a:pt x="5023" y="7009"/>
                  <a:pt x="5060" y="6970"/>
                </a:cubicBezTo>
                <a:cubicBezTo>
                  <a:pt x="5068" y="6962"/>
                  <a:pt x="5077" y="6953"/>
                  <a:pt x="5085" y="6945"/>
                </a:cubicBezTo>
              </a:path>
              <a:path w="8683" h="1068">
                <a:moveTo>
                  <a:pt x="5531" y="6276"/>
                </a:moveTo>
                <a:cubicBezTo>
                  <a:pt x="5632" y="6276"/>
                  <a:pt x="5663" y="6256"/>
                  <a:pt x="5680" y="6325"/>
                </a:cubicBezTo>
                <a:cubicBezTo>
                  <a:pt x="5627" y="6388"/>
                  <a:pt x="5593" y="6426"/>
                  <a:pt x="5531" y="6474"/>
                </a:cubicBezTo>
                <a:cubicBezTo>
                  <a:pt x="5523" y="6482"/>
                  <a:pt x="5515" y="6491"/>
                  <a:pt x="5507" y="6499"/>
                </a:cubicBezTo>
                <a:cubicBezTo>
                  <a:pt x="5584" y="6508"/>
                  <a:pt x="5651" y="6524"/>
                  <a:pt x="5730" y="6524"/>
                </a:cubicBezTo>
              </a:path>
              <a:path w="8683" h="1068">
                <a:moveTo>
                  <a:pt x="6077" y="6573"/>
                </a:moveTo>
                <a:cubicBezTo>
                  <a:pt x="6077" y="6664"/>
                  <a:pt x="6077" y="6755"/>
                  <a:pt x="6077" y="6846"/>
                </a:cubicBezTo>
              </a:path>
              <a:path w="8683" h="1068">
                <a:moveTo>
                  <a:pt x="5928" y="6697"/>
                </a:moveTo>
                <a:cubicBezTo>
                  <a:pt x="6032" y="6697"/>
                  <a:pt x="6130" y="6708"/>
                  <a:pt x="6226" y="6672"/>
                </a:cubicBezTo>
              </a:path>
              <a:path w="8683" h="1068">
                <a:moveTo>
                  <a:pt x="6573" y="6350"/>
                </a:moveTo>
                <a:cubicBezTo>
                  <a:pt x="6568" y="6426"/>
                  <a:pt x="6568" y="6524"/>
                  <a:pt x="6548" y="6598"/>
                </a:cubicBezTo>
                <a:cubicBezTo>
                  <a:pt x="6529" y="6670"/>
                  <a:pt x="6511" y="6749"/>
                  <a:pt x="6499" y="6821"/>
                </a:cubicBezTo>
                <a:cubicBezTo>
                  <a:pt x="6488" y="6892"/>
                  <a:pt x="6474" y="6987"/>
                  <a:pt x="6524" y="6970"/>
                </a:cubicBezTo>
              </a:path>
              <a:path w="8683" h="1068">
                <a:moveTo>
                  <a:pt x="6772" y="6375"/>
                </a:moveTo>
                <a:cubicBezTo>
                  <a:pt x="6772" y="6459"/>
                  <a:pt x="6757" y="6522"/>
                  <a:pt x="6747" y="6598"/>
                </a:cubicBezTo>
                <a:cubicBezTo>
                  <a:pt x="6736" y="6679"/>
                  <a:pt x="6726" y="6766"/>
                  <a:pt x="6722" y="6846"/>
                </a:cubicBezTo>
                <a:cubicBezTo>
                  <a:pt x="6719" y="6908"/>
                  <a:pt x="6709" y="6973"/>
                  <a:pt x="6747" y="7020"/>
                </a:cubicBezTo>
                <a:cubicBezTo>
                  <a:pt x="6772" y="7045"/>
                  <a:pt x="6780" y="7053"/>
                  <a:pt x="6796" y="7020"/>
                </a:cubicBezTo>
              </a:path>
              <a:path w="8683" h="1068">
                <a:moveTo>
                  <a:pt x="6945" y="6672"/>
                </a:moveTo>
                <a:cubicBezTo>
                  <a:pt x="6975" y="6733"/>
                  <a:pt x="7012" y="6789"/>
                  <a:pt x="7045" y="6846"/>
                </a:cubicBezTo>
                <a:cubicBezTo>
                  <a:pt x="7073" y="6893"/>
                  <a:pt x="7123" y="6962"/>
                  <a:pt x="7169" y="6995"/>
                </a:cubicBezTo>
                <a:cubicBezTo>
                  <a:pt x="7233" y="7042"/>
                  <a:pt x="7257" y="7036"/>
                  <a:pt x="7317" y="7020"/>
                </a:cubicBezTo>
              </a:path>
              <a:path w="8683" h="1068">
                <a:moveTo>
                  <a:pt x="7243" y="6648"/>
                </a:moveTo>
                <a:cubicBezTo>
                  <a:pt x="7192" y="6727"/>
                  <a:pt x="7149" y="6780"/>
                  <a:pt x="7094" y="6846"/>
                </a:cubicBezTo>
                <a:cubicBezTo>
                  <a:pt x="7059" y="6888"/>
                  <a:pt x="7035" y="6930"/>
                  <a:pt x="6995" y="6970"/>
                </a:cubicBezTo>
                <a:cubicBezTo>
                  <a:pt x="6987" y="6978"/>
                  <a:pt x="6978" y="6987"/>
                  <a:pt x="6970" y="6995"/>
                </a:cubicBezTo>
              </a:path>
              <a:path w="8683" h="1068">
                <a:moveTo>
                  <a:pt x="7888" y="6548"/>
                </a:moveTo>
                <a:cubicBezTo>
                  <a:pt x="7869" y="6656"/>
                  <a:pt x="7863" y="6738"/>
                  <a:pt x="7863" y="6846"/>
                </a:cubicBezTo>
                <a:cubicBezTo>
                  <a:pt x="7863" y="6903"/>
                  <a:pt x="7874" y="6922"/>
                  <a:pt x="7838" y="6945"/>
                </a:cubicBezTo>
              </a:path>
              <a:path w="8683" h="1068">
                <a:moveTo>
                  <a:pt x="7689" y="6722"/>
                </a:moveTo>
                <a:cubicBezTo>
                  <a:pt x="7792" y="6703"/>
                  <a:pt x="7883" y="6697"/>
                  <a:pt x="7987" y="6697"/>
                </a:cubicBezTo>
                <a:cubicBezTo>
                  <a:pt x="8004" y="6697"/>
                  <a:pt x="8020" y="6697"/>
                  <a:pt x="8037" y="6697"/>
                </a:cubicBezTo>
              </a:path>
              <a:path w="8683" h="1068">
                <a:moveTo>
                  <a:pt x="8558" y="6375"/>
                </a:moveTo>
                <a:cubicBezTo>
                  <a:pt x="8668" y="6375"/>
                  <a:pt x="8779" y="6388"/>
                  <a:pt x="8880" y="6350"/>
                </a:cubicBezTo>
              </a:path>
              <a:path w="8683" h="1068">
                <a:moveTo>
                  <a:pt x="8533" y="6400"/>
                </a:moveTo>
                <a:cubicBezTo>
                  <a:pt x="8463" y="6469"/>
                  <a:pt x="8458" y="6476"/>
                  <a:pt x="8458" y="6573"/>
                </a:cubicBezTo>
                <a:cubicBezTo>
                  <a:pt x="8458" y="6661"/>
                  <a:pt x="8423" y="6593"/>
                  <a:pt x="8458" y="6648"/>
                </a:cubicBezTo>
                <a:cubicBezTo>
                  <a:pt x="8502" y="6604"/>
                  <a:pt x="8539" y="6579"/>
                  <a:pt x="8607" y="6598"/>
                </a:cubicBezTo>
                <a:cubicBezTo>
                  <a:pt x="8670" y="6616"/>
                  <a:pt x="8703" y="6669"/>
                  <a:pt x="8731" y="6722"/>
                </a:cubicBezTo>
                <a:cubicBezTo>
                  <a:pt x="8768" y="6792"/>
                  <a:pt x="8802" y="6833"/>
                  <a:pt x="8781" y="6921"/>
                </a:cubicBezTo>
                <a:cubicBezTo>
                  <a:pt x="8763" y="6994"/>
                  <a:pt x="8643" y="6980"/>
                  <a:pt x="8582" y="6970"/>
                </a:cubicBezTo>
                <a:cubicBezTo>
                  <a:pt x="8505" y="6957"/>
                  <a:pt x="8452" y="6930"/>
                  <a:pt x="8384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5"/>
          <p:cNvSpPr/>
          <p:nvPr/>
        </p:nvSpPr>
        <p:spPr>
          <a:xfrm>
            <a:off x="6491160" y="3589200"/>
            <a:ext cx="492120" cy="384480"/>
          </a:xfrm>
          <a:custGeom>
            <a:avLst/>
            <a:gdLst/>
            <a:ahLst/>
            <a:rect l="l" t="t" r="r" b="b"/>
            <a:pathLst>
              <a:path w="1365" h="1068">
                <a:moveTo>
                  <a:pt x="18033" y="10393"/>
                </a:moveTo>
                <a:cubicBezTo>
                  <a:pt x="18099" y="10433"/>
                  <a:pt x="18120" y="10406"/>
                  <a:pt x="18182" y="10393"/>
                </a:cubicBezTo>
                <a:cubicBezTo>
                  <a:pt x="18244" y="10380"/>
                  <a:pt x="18327" y="10378"/>
                  <a:pt x="18380" y="10368"/>
                </a:cubicBezTo>
                <a:cubicBezTo>
                  <a:pt x="18434" y="10358"/>
                  <a:pt x="18533" y="10372"/>
                  <a:pt x="18579" y="10393"/>
                </a:cubicBezTo>
                <a:cubicBezTo>
                  <a:pt x="18587" y="10401"/>
                  <a:pt x="18596" y="10410"/>
                  <a:pt x="18604" y="10418"/>
                </a:cubicBezTo>
              </a:path>
              <a:path w="1365" h="1068">
                <a:moveTo>
                  <a:pt x="19174" y="9971"/>
                </a:moveTo>
                <a:cubicBezTo>
                  <a:pt x="19145" y="10065"/>
                  <a:pt x="19113" y="10152"/>
                  <a:pt x="19075" y="10244"/>
                </a:cubicBezTo>
                <a:cubicBezTo>
                  <a:pt x="19047" y="10313"/>
                  <a:pt x="19034" y="10374"/>
                  <a:pt x="19000" y="10443"/>
                </a:cubicBezTo>
                <a:cubicBezTo>
                  <a:pt x="18974" y="10496"/>
                  <a:pt x="18939" y="10583"/>
                  <a:pt x="18926" y="10641"/>
                </a:cubicBezTo>
                <a:cubicBezTo>
                  <a:pt x="18908" y="10723"/>
                  <a:pt x="18911" y="10895"/>
                  <a:pt x="18951" y="10964"/>
                </a:cubicBezTo>
                <a:cubicBezTo>
                  <a:pt x="18982" y="11017"/>
                  <a:pt x="19071" y="11025"/>
                  <a:pt x="19124" y="11013"/>
                </a:cubicBezTo>
                <a:cubicBezTo>
                  <a:pt x="19199" y="10997"/>
                  <a:pt x="19246" y="10966"/>
                  <a:pt x="19298" y="10914"/>
                </a:cubicBezTo>
                <a:cubicBezTo>
                  <a:pt x="19337" y="10875"/>
                  <a:pt x="19385" y="10795"/>
                  <a:pt x="19397" y="10740"/>
                </a:cubicBezTo>
                <a:cubicBezTo>
                  <a:pt x="19417" y="10652"/>
                  <a:pt x="19379" y="10603"/>
                  <a:pt x="19323" y="10542"/>
                </a:cubicBezTo>
                <a:cubicBezTo>
                  <a:pt x="19279" y="10494"/>
                  <a:pt x="19214" y="10557"/>
                  <a:pt x="19174" y="10592"/>
                </a:cubicBezTo>
                <a:cubicBezTo>
                  <a:pt x="19124" y="10636"/>
                  <a:pt x="19112" y="10687"/>
                  <a:pt x="19075" y="10740"/>
                </a:cubicBezTo>
                <a:cubicBezTo>
                  <a:pt x="19044" y="10784"/>
                  <a:pt x="19009" y="10842"/>
                  <a:pt x="19000" y="10889"/>
                </a:cubicBezTo>
                <a:cubicBezTo>
                  <a:pt x="18989" y="10945"/>
                  <a:pt x="18994" y="11017"/>
                  <a:pt x="19025" y="110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6"/>
          <p:cNvSpPr/>
          <p:nvPr/>
        </p:nvSpPr>
        <p:spPr>
          <a:xfrm>
            <a:off x="6634080" y="4214880"/>
            <a:ext cx="196920" cy="295200"/>
          </a:xfrm>
          <a:custGeom>
            <a:avLst/>
            <a:gdLst/>
            <a:ahLst/>
            <a:rect l="l" t="t" r="r" b="b"/>
            <a:pathLst>
              <a:path w="547" h="819">
                <a:moveTo>
                  <a:pt x="18579" y="11708"/>
                </a:moveTo>
                <a:cubicBezTo>
                  <a:pt x="18630" y="11739"/>
                  <a:pt x="18716" y="11754"/>
                  <a:pt x="18777" y="11757"/>
                </a:cubicBezTo>
                <a:cubicBezTo>
                  <a:pt x="18829" y="11760"/>
                  <a:pt x="18833" y="11771"/>
                  <a:pt x="18876" y="11782"/>
                </a:cubicBezTo>
              </a:path>
              <a:path w="547" h="819">
                <a:moveTo>
                  <a:pt x="18529" y="11708"/>
                </a:moveTo>
                <a:cubicBezTo>
                  <a:pt x="18502" y="11795"/>
                  <a:pt x="18460" y="11865"/>
                  <a:pt x="18455" y="11956"/>
                </a:cubicBezTo>
                <a:cubicBezTo>
                  <a:pt x="18452" y="12021"/>
                  <a:pt x="18448" y="12077"/>
                  <a:pt x="18479" y="12129"/>
                </a:cubicBezTo>
                <a:cubicBezTo>
                  <a:pt x="18535" y="12074"/>
                  <a:pt x="18568" y="12060"/>
                  <a:pt x="18628" y="12030"/>
                </a:cubicBezTo>
                <a:cubicBezTo>
                  <a:pt x="18691" y="11998"/>
                  <a:pt x="18756" y="11989"/>
                  <a:pt x="18827" y="12030"/>
                </a:cubicBezTo>
                <a:cubicBezTo>
                  <a:pt x="18869" y="12054"/>
                  <a:pt x="18938" y="12105"/>
                  <a:pt x="18951" y="12154"/>
                </a:cubicBezTo>
                <a:cubicBezTo>
                  <a:pt x="18963" y="12199"/>
                  <a:pt x="18995" y="12278"/>
                  <a:pt x="18976" y="12328"/>
                </a:cubicBezTo>
                <a:cubicBezTo>
                  <a:pt x="18957" y="12377"/>
                  <a:pt x="18942" y="12411"/>
                  <a:pt x="18901" y="12452"/>
                </a:cubicBezTo>
                <a:cubicBezTo>
                  <a:pt x="18856" y="12497"/>
                  <a:pt x="18808" y="12516"/>
                  <a:pt x="18752" y="12526"/>
                </a:cubicBezTo>
                <a:cubicBezTo>
                  <a:pt x="18703" y="12535"/>
                  <a:pt x="18619" y="12522"/>
                  <a:pt x="18579" y="12502"/>
                </a:cubicBezTo>
                <a:cubicBezTo>
                  <a:pt x="18537" y="12481"/>
                  <a:pt x="18499" y="12447"/>
                  <a:pt x="18455" y="12427"/>
                </a:cubicBezTo>
                <a:cubicBezTo>
                  <a:pt x="18422" y="12427"/>
                  <a:pt x="18413" y="12435"/>
                  <a:pt x="18430" y="124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7"/>
          <p:cNvSpPr/>
          <p:nvPr/>
        </p:nvSpPr>
        <p:spPr>
          <a:xfrm>
            <a:off x="5562720" y="3537000"/>
            <a:ext cx="455400" cy="1123920"/>
          </a:xfrm>
          <a:custGeom>
            <a:avLst/>
            <a:gdLst/>
            <a:ahLst/>
            <a:rect l="l" t="t" r="r" b="b"/>
            <a:pathLst>
              <a:path w="1266" h="3126">
                <a:moveTo>
                  <a:pt x="15453" y="10517"/>
                </a:moveTo>
                <a:cubicBezTo>
                  <a:pt x="15508" y="10550"/>
                  <a:pt x="15559" y="10542"/>
                  <a:pt x="15627" y="10542"/>
                </a:cubicBezTo>
                <a:cubicBezTo>
                  <a:pt x="15705" y="10542"/>
                  <a:pt x="15773" y="10524"/>
                  <a:pt x="15850" y="10517"/>
                </a:cubicBezTo>
              </a:path>
              <a:path w="1266" h="3126">
                <a:moveTo>
                  <a:pt x="16197" y="10120"/>
                </a:moveTo>
                <a:cubicBezTo>
                  <a:pt x="16287" y="10146"/>
                  <a:pt x="16279" y="10106"/>
                  <a:pt x="16321" y="10021"/>
                </a:cubicBezTo>
                <a:cubicBezTo>
                  <a:pt x="16355" y="9952"/>
                  <a:pt x="16391" y="9919"/>
                  <a:pt x="16446" y="9872"/>
                </a:cubicBezTo>
                <a:cubicBezTo>
                  <a:pt x="16494" y="9832"/>
                  <a:pt x="16523" y="9804"/>
                  <a:pt x="16594" y="9823"/>
                </a:cubicBezTo>
                <a:cubicBezTo>
                  <a:pt x="16692" y="9849"/>
                  <a:pt x="16715" y="9900"/>
                  <a:pt x="16718" y="9996"/>
                </a:cubicBezTo>
                <a:cubicBezTo>
                  <a:pt x="16721" y="10089"/>
                  <a:pt x="16727" y="10181"/>
                  <a:pt x="16694" y="10269"/>
                </a:cubicBezTo>
                <a:cubicBezTo>
                  <a:pt x="16647" y="10394"/>
                  <a:pt x="16591" y="10515"/>
                  <a:pt x="16545" y="10641"/>
                </a:cubicBezTo>
                <a:cubicBezTo>
                  <a:pt x="16509" y="10739"/>
                  <a:pt x="16470" y="10801"/>
                  <a:pt x="16421" y="10889"/>
                </a:cubicBezTo>
                <a:cubicBezTo>
                  <a:pt x="16380" y="10962"/>
                  <a:pt x="16356" y="10984"/>
                  <a:pt x="16297" y="11038"/>
                </a:cubicBezTo>
                <a:cubicBezTo>
                  <a:pt x="16255" y="11077"/>
                  <a:pt x="16214" y="11113"/>
                  <a:pt x="16148" y="11088"/>
                </a:cubicBezTo>
                <a:cubicBezTo>
                  <a:pt x="16098" y="11069"/>
                  <a:pt x="16076" y="11008"/>
                  <a:pt x="16073" y="10964"/>
                </a:cubicBezTo>
                <a:cubicBezTo>
                  <a:pt x="16069" y="10892"/>
                  <a:pt x="16101" y="10862"/>
                  <a:pt x="16148" y="10815"/>
                </a:cubicBezTo>
                <a:cubicBezTo>
                  <a:pt x="16198" y="10765"/>
                  <a:pt x="16248" y="10803"/>
                  <a:pt x="16297" y="10840"/>
                </a:cubicBezTo>
                <a:cubicBezTo>
                  <a:pt x="16360" y="10887"/>
                  <a:pt x="16353" y="10911"/>
                  <a:pt x="16396" y="10964"/>
                </a:cubicBezTo>
                <a:cubicBezTo>
                  <a:pt x="16455" y="11036"/>
                  <a:pt x="16462" y="11100"/>
                  <a:pt x="16495" y="11187"/>
                </a:cubicBezTo>
                <a:cubicBezTo>
                  <a:pt x="16517" y="11246"/>
                  <a:pt x="16520" y="11272"/>
                  <a:pt x="16520" y="11336"/>
                </a:cubicBezTo>
                <a:cubicBezTo>
                  <a:pt x="16587" y="11326"/>
                  <a:pt x="16595" y="11309"/>
                  <a:pt x="16644" y="11261"/>
                </a:cubicBezTo>
                <a:cubicBezTo>
                  <a:pt x="16682" y="11224"/>
                  <a:pt x="16701" y="11201"/>
                  <a:pt x="16718" y="11162"/>
                </a:cubicBezTo>
              </a:path>
              <a:path w="1266" h="3126">
                <a:moveTo>
                  <a:pt x="16297" y="11782"/>
                </a:moveTo>
                <a:cubicBezTo>
                  <a:pt x="16221" y="11820"/>
                  <a:pt x="16202" y="11846"/>
                  <a:pt x="16148" y="11906"/>
                </a:cubicBezTo>
                <a:cubicBezTo>
                  <a:pt x="16095" y="11965"/>
                  <a:pt x="16060" y="12008"/>
                  <a:pt x="16024" y="12080"/>
                </a:cubicBezTo>
                <a:cubicBezTo>
                  <a:pt x="15988" y="12151"/>
                  <a:pt x="15937" y="12205"/>
                  <a:pt x="15900" y="12278"/>
                </a:cubicBezTo>
                <a:cubicBezTo>
                  <a:pt x="15863" y="12352"/>
                  <a:pt x="15849" y="12428"/>
                  <a:pt x="15825" y="12502"/>
                </a:cubicBezTo>
                <a:cubicBezTo>
                  <a:pt x="15792" y="12602"/>
                  <a:pt x="15793" y="12676"/>
                  <a:pt x="15801" y="12774"/>
                </a:cubicBezTo>
                <a:cubicBezTo>
                  <a:pt x="15806" y="12845"/>
                  <a:pt x="15815" y="12923"/>
                  <a:pt x="15900" y="12948"/>
                </a:cubicBezTo>
                <a:cubicBezTo>
                  <a:pt x="15969" y="12968"/>
                  <a:pt x="16071" y="12919"/>
                  <a:pt x="16123" y="12874"/>
                </a:cubicBezTo>
                <a:cubicBezTo>
                  <a:pt x="16182" y="12823"/>
                  <a:pt x="16275" y="12766"/>
                  <a:pt x="16321" y="12700"/>
                </a:cubicBezTo>
                <a:cubicBezTo>
                  <a:pt x="16364" y="12639"/>
                  <a:pt x="16374" y="12592"/>
                  <a:pt x="16396" y="12526"/>
                </a:cubicBezTo>
                <a:cubicBezTo>
                  <a:pt x="16428" y="12431"/>
                  <a:pt x="16465" y="12406"/>
                  <a:pt x="16421" y="12303"/>
                </a:cubicBezTo>
                <a:cubicBezTo>
                  <a:pt x="16399" y="12252"/>
                  <a:pt x="16361" y="12189"/>
                  <a:pt x="16297" y="12204"/>
                </a:cubicBezTo>
                <a:cubicBezTo>
                  <a:pt x="16234" y="12219"/>
                  <a:pt x="16194" y="12233"/>
                  <a:pt x="16148" y="12278"/>
                </a:cubicBezTo>
                <a:cubicBezTo>
                  <a:pt x="16101" y="12324"/>
                  <a:pt x="16041" y="12413"/>
                  <a:pt x="16024" y="12477"/>
                </a:cubicBezTo>
                <a:cubicBezTo>
                  <a:pt x="16008" y="12537"/>
                  <a:pt x="16014" y="12655"/>
                  <a:pt x="16049" y="12700"/>
                </a:cubicBezTo>
                <a:cubicBezTo>
                  <a:pt x="16073" y="12725"/>
                  <a:pt x="16081" y="12733"/>
                  <a:pt x="16098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8"/>
          <p:cNvSpPr/>
          <p:nvPr/>
        </p:nvSpPr>
        <p:spPr>
          <a:xfrm>
            <a:off x="750960" y="2562120"/>
            <a:ext cx="1357200" cy="519120"/>
          </a:xfrm>
          <a:custGeom>
            <a:avLst/>
            <a:gdLst/>
            <a:ahLst/>
            <a:rect l="l" t="t" r="r" b="b"/>
            <a:pathLst>
              <a:path w="3771" h="1440">
                <a:moveTo>
                  <a:pt x="2704" y="7516"/>
                </a:moveTo>
                <a:cubicBezTo>
                  <a:pt x="2761" y="7459"/>
                  <a:pt x="2791" y="7448"/>
                  <a:pt x="2853" y="7417"/>
                </a:cubicBezTo>
                <a:cubicBezTo>
                  <a:pt x="2891" y="7398"/>
                  <a:pt x="2970" y="7379"/>
                  <a:pt x="3001" y="7441"/>
                </a:cubicBezTo>
                <a:cubicBezTo>
                  <a:pt x="3029" y="7497"/>
                  <a:pt x="2983" y="7595"/>
                  <a:pt x="2952" y="7640"/>
                </a:cubicBezTo>
                <a:cubicBezTo>
                  <a:pt x="2917" y="7690"/>
                  <a:pt x="2882" y="7735"/>
                  <a:pt x="2853" y="7789"/>
                </a:cubicBezTo>
                <a:cubicBezTo>
                  <a:pt x="2825" y="7841"/>
                  <a:pt x="2792" y="7894"/>
                  <a:pt x="2753" y="7938"/>
                </a:cubicBezTo>
                <a:cubicBezTo>
                  <a:pt x="2716" y="7979"/>
                  <a:pt x="2694" y="8022"/>
                  <a:pt x="2654" y="8062"/>
                </a:cubicBezTo>
                <a:cubicBezTo>
                  <a:pt x="2785" y="8062"/>
                  <a:pt x="2930" y="8083"/>
                  <a:pt x="3051" y="8037"/>
                </a:cubicBezTo>
              </a:path>
              <a:path w="3771" h="1440">
                <a:moveTo>
                  <a:pt x="3150" y="7714"/>
                </a:moveTo>
                <a:cubicBezTo>
                  <a:pt x="3189" y="7785"/>
                  <a:pt x="3202" y="7849"/>
                  <a:pt x="3249" y="7913"/>
                </a:cubicBezTo>
                <a:cubicBezTo>
                  <a:pt x="3296" y="7976"/>
                  <a:pt x="3335" y="8014"/>
                  <a:pt x="3398" y="8062"/>
                </a:cubicBezTo>
                <a:cubicBezTo>
                  <a:pt x="3441" y="8094"/>
                  <a:pt x="3466" y="8148"/>
                  <a:pt x="3522" y="8161"/>
                </a:cubicBezTo>
                <a:cubicBezTo>
                  <a:pt x="3539" y="8161"/>
                  <a:pt x="3555" y="8161"/>
                  <a:pt x="3572" y="8161"/>
                </a:cubicBezTo>
              </a:path>
              <a:path w="3771" h="1440">
                <a:moveTo>
                  <a:pt x="3473" y="7714"/>
                </a:moveTo>
                <a:cubicBezTo>
                  <a:pt x="3429" y="7791"/>
                  <a:pt x="3375" y="7841"/>
                  <a:pt x="3324" y="7913"/>
                </a:cubicBezTo>
                <a:cubicBezTo>
                  <a:pt x="3289" y="7962"/>
                  <a:pt x="3266" y="8017"/>
                  <a:pt x="3225" y="8062"/>
                </a:cubicBezTo>
                <a:cubicBezTo>
                  <a:pt x="3202" y="8088"/>
                  <a:pt x="3175" y="8111"/>
                  <a:pt x="3150" y="8136"/>
                </a:cubicBezTo>
              </a:path>
              <a:path w="3771" h="1440">
                <a:moveTo>
                  <a:pt x="3522" y="7367"/>
                </a:moveTo>
                <a:cubicBezTo>
                  <a:pt x="3615" y="7347"/>
                  <a:pt x="3627" y="7326"/>
                  <a:pt x="3696" y="7367"/>
                </a:cubicBezTo>
                <a:cubicBezTo>
                  <a:pt x="3686" y="7434"/>
                  <a:pt x="3669" y="7443"/>
                  <a:pt x="3621" y="7491"/>
                </a:cubicBezTo>
                <a:cubicBezTo>
                  <a:pt x="3661" y="7523"/>
                  <a:pt x="3703" y="7562"/>
                  <a:pt x="3746" y="7590"/>
                </a:cubicBezTo>
                <a:cubicBezTo>
                  <a:pt x="3762" y="7598"/>
                  <a:pt x="3779" y="7607"/>
                  <a:pt x="3795" y="7615"/>
                </a:cubicBezTo>
                <a:cubicBezTo>
                  <a:pt x="3747" y="7674"/>
                  <a:pt x="3664" y="7689"/>
                  <a:pt x="3572" y="7665"/>
                </a:cubicBezTo>
                <a:cubicBezTo>
                  <a:pt x="3541" y="7657"/>
                  <a:pt x="3448" y="7622"/>
                  <a:pt x="3423" y="7590"/>
                </a:cubicBezTo>
                <a:cubicBezTo>
                  <a:pt x="3423" y="7582"/>
                  <a:pt x="3423" y="7573"/>
                  <a:pt x="3423" y="7565"/>
                </a:cubicBezTo>
              </a:path>
              <a:path w="3771" h="1440">
                <a:moveTo>
                  <a:pt x="4118" y="7665"/>
                </a:moveTo>
                <a:cubicBezTo>
                  <a:pt x="4150" y="7719"/>
                  <a:pt x="4142" y="7771"/>
                  <a:pt x="4142" y="7838"/>
                </a:cubicBezTo>
                <a:cubicBezTo>
                  <a:pt x="4142" y="7897"/>
                  <a:pt x="4148" y="8005"/>
                  <a:pt x="4167" y="8062"/>
                </a:cubicBezTo>
                <a:cubicBezTo>
                  <a:pt x="4175" y="8070"/>
                  <a:pt x="4184" y="8078"/>
                  <a:pt x="4192" y="8086"/>
                </a:cubicBezTo>
              </a:path>
              <a:path w="3771" h="1440">
                <a:moveTo>
                  <a:pt x="3994" y="7838"/>
                </a:moveTo>
                <a:cubicBezTo>
                  <a:pt x="4077" y="7838"/>
                  <a:pt x="4137" y="7851"/>
                  <a:pt x="4217" y="7863"/>
                </a:cubicBezTo>
                <a:cubicBezTo>
                  <a:pt x="4266" y="7863"/>
                  <a:pt x="4283" y="7863"/>
                  <a:pt x="4316" y="7863"/>
                </a:cubicBezTo>
              </a:path>
              <a:path w="3771" h="1440">
                <a:moveTo>
                  <a:pt x="4564" y="7565"/>
                </a:moveTo>
                <a:cubicBezTo>
                  <a:pt x="4605" y="7495"/>
                  <a:pt x="4639" y="7480"/>
                  <a:pt x="4713" y="7466"/>
                </a:cubicBezTo>
                <a:cubicBezTo>
                  <a:pt x="4754" y="7458"/>
                  <a:pt x="4851" y="7491"/>
                  <a:pt x="4862" y="7541"/>
                </a:cubicBezTo>
                <a:cubicBezTo>
                  <a:pt x="4877" y="7612"/>
                  <a:pt x="4832" y="7665"/>
                  <a:pt x="4787" y="7714"/>
                </a:cubicBezTo>
                <a:cubicBezTo>
                  <a:pt x="4750" y="7755"/>
                  <a:pt x="4728" y="7798"/>
                  <a:pt x="4688" y="7838"/>
                </a:cubicBezTo>
                <a:cubicBezTo>
                  <a:pt x="4641" y="7885"/>
                  <a:pt x="4597" y="7931"/>
                  <a:pt x="4564" y="7987"/>
                </a:cubicBezTo>
                <a:cubicBezTo>
                  <a:pt x="4536" y="8034"/>
                  <a:pt x="4514" y="8087"/>
                  <a:pt x="4490" y="8136"/>
                </a:cubicBezTo>
                <a:cubicBezTo>
                  <a:pt x="4529" y="8156"/>
                  <a:pt x="4596" y="8136"/>
                  <a:pt x="4663" y="8136"/>
                </a:cubicBezTo>
                <a:cubicBezTo>
                  <a:pt x="4753" y="8136"/>
                  <a:pt x="4835" y="8134"/>
                  <a:pt x="4911" y="8111"/>
                </a:cubicBezTo>
                <a:cubicBezTo>
                  <a:pt x="4919" y="8111"/>
                  <a:pt x="4928" y="8111"/>
                  <a:pt x="4936" y="8111"/>
                </a:cubicBezTo>
              </a:path>
              <a:path w="3771" h="1440">
                <a:moveTo>
                  <a:pt x="4961" y="7764"/>
                </a:moveTo>
                <a:cubicBezTo>
                  <a:pt x="4987" y="7833"/>
                  <a:pt x="5001" y="7893"/>
                  <a:pt x="5035" y="7962"/>
                </a:cubicBezTo>
                <a:cubicBezTo>
                  <a:pt x="5069" y="8030"/>
                  <a:pt x="5104" y="8065"/>
                  <a:pt x="5159" y="8111"/>
                </a:cubicBezTo>
                <a:cubicBezTo>
                  <a:pt x="5200" y="8146"/>
                  <a:pt x="5237" y="8183"/>
                  <a:pt x="5283" y="8210"/>
                </a:cubicBezTo>
                <a:cubicBezTo>
                  <a:pt x="5300" y="8218"/>
                  <a:pt x="5316" y="8227"/>
                  <a:pt x="5333" y="8235"/>
                </a:cubicBezTo>
              </a:path>
              <a:path w="3771" h="1440">
                <a:moveTo>
                  <a:pt x="5209" y="7739"/>
                </a:moveTo>
                <a:cubicBezTo>
                  <a:pt x="5170" y="7810"/>
                  <a:pt x="5140" y="7864"/>
                  <a:pt x="5110" y="7938"/>
                </a:cubicBezTo>
                <a:cubicBezTo>
                  <a:pt x="5079" y="8014"/>
                  <a:pt x="5047" y="8085"/>
                  <a:pt x="5011" y="8161"/>
                </a:cubicBezTo>
                <a:cubicBezTo>
                  <a:pt x="4989" y="8204"/>
                  <a:pt x="4976" y="8225"/>
                  <a:pt x="5011" y="8186"/>
                </a:cubicBezTo>
              </a:path>
              <a:path w="3771" h="1440">
                <a:moveTo>
                  <a:pt x="5283" y="7466"/>
                </a:moveTo>
                <a:cubicBezTo>
                  <a:pt x="5331" y="7448"/>
                  <a:pt x="5429" y="7412"/>
                  <a:pt x="5457" y="7491"/>
                </a:cubicBezTo>
                <a:cubicBezTo>
                  <a:pt x="5469" y="7525"/>
                  <a:pt x="5409" y="7620"/>
                  <a:pt x="5383" y="7640"/>
                </a:cubicBezTo>
                <a:cubicBezTo>
                  <a:pt x="5355" y="7640"/>
                  <a:pt x="5344" y="7642"/>
                  <a:pt x="5333" y="7665"/>
                </a:cubicBezTo>
                <a:cubicBezTo>
                  <a:pt x="5397" y="7715"/>
                  <a:pt x="5475" y="7728"/>
                  <a:pt x="5556" y="7739"/>
                </a:cubicBezTo>
                <a:cubicBezTo>
                  <a:pt x="5573" y="7739"/>
                  <a:pt x="5589" y="7739"/>
                  <a:pt x="5606" y="7739"/>
                </a:cubicBezTo>
              </a:path>
              <a:path w="3771" h="1440">
                <a:moveTo>
                  <a:pt x="2480" y="8310"/>
                </a:moveTo>
                <a:cubicBezTo>
                  <a:pt x="2530" y="8321"/>
                  <a:pt x="2597" y="8323"/>
                  <a:pt x="2654" y="8334"/>
                </a:cubicBezTo>
                <a:cubicBezTo>
                  <a:pt x="2741" y="8351"/>
                  <a:pt x="2814" y="8347"/>
                  <a:pt x="2902" y="8359"/>
                </a:cubicBezTo>
                <a:cubicBezTo>
                  <a:pt x="2985" y="8370"/>
                  <a:pt x="3067" y="8399"/>
                  <a:pt x="3150" y="8409"/>
                </a:cubicBezTo>
                <a:cubicBezTo>
                  <a:pt x="3363" y="8434"/>
                  <a:pt x="3587" y="8408"/>
                  <a:pt x="3795" y="8434"/>
                </a:cubicBezTo>
                <a:cubicBezTo>
                  <a:pt x="4020" y="8462"/>
                  <a:pt x="4269" y="8439"/>
                  <a:pt x="4490" y="8458"/>
                </a:cubicBezTo>
                <a:cubicBezTo>
                  <a:pt x="4624" y="8469"/>
                  <a:pt x="4759" y="8467"/>
                  <a:pt x="4887" y="8483"/>
                </a:cubicBezTo>
                <a:cubicBezTo>
                  <a:pt x="4984" y="8495"/>
                  <a:pt x="5087" y="8504"/>
                  <a:pt x="5184" y="8508"/>
                </a:cubicBezTo>
                <a:cubicBezTo>
                  <a:pt x="5263" y="8511"/>
                  <a:pt x="5380" y="8514"/>
                  <a:pt x="5457" y="8533"/>
                </a:cubicBezTo>
                <a:cubicBezTo>
                  <a:pt x="5542" y="8555"/>
                  <a:pt x="5613" y="8558"/>
                  <a:pt x="5705" y="8558"/>
                </a:cubicBezTo>
                <a:cubicBezTo>
                  <a:pt x="5795" y="8558"/>
                  <a:pt x="5818" y="8546"/>
                  <a:pt x="5829" y="8533"/>
                </a:cubicBezTo>
                <a:cubicBezTo>
                  <a:pt x="5829" y="8525"/>
                  <a:pt x="5829" y="8516"/>
                  <a:pt x="5829" y="8508"/>
                </a:cubicBezTo>
              </a:path>
              <a:path w="3771" h="1440">
                <a:moveTo>
                  <a:pt x="2282" y="7342"/>
                </a:moveTo>
                <a:cubicBezTo>
                  <a:pt x="2364" y="7342"/>
                  <a:pt x="2582" y="7342"/>
                  <a:pt x="2580" y="7342"/>
                </a:cubicBezTo>
              </a:path>
              <a:path w="3771" h="1440">
                <a:moveTo>
                  <a:pt x="2332" y="7169"/>
                </a:moveTo>
                <a:cubicBezTo>
                  <a:pt x="2271" y="7190"/>
                  <a:pt x="2174" y="7212"/>
                  <a:pt x="2133" y="7268"/>
                </a:cubicBezTo>
                <a:cubicBezTo>
                  <a:pt x="2098" y="7316"/>
                  <a:pt x="2090" y="7381"/>
                  <a:pt x="2108" y="7417"/>
                </a:cubicBezTo>
                <a:cubicBezTo>
                  <a:pt x="2154" y="7510"/>
                  <a:pt x="2206" y="7511"/>
                  <a:pt x="2307" y="7516"/>
                </a:cubicBezTo>
                <a:cubicBezTo>
                  <a:pt x="2390" y="7520"/>
                  <a:pt x="2507" y="7536"/>
                  <a:pt x="2580" y="7491"/>
                </a:cubicBezTo>
                <a:cubicBezTo>
                  <a:pt x="2619" y="7467"/>
                  <a:pt x="2677" y="7433"/>
                  <a:pt x="2704" y="7392"/>
                </a:cubicBezTo>
                <a:cubicBezTo>
                  <a:pt x="2740" y="7336"/>
                  <a:pt x="2744" y="7267"/>
                  <a:pt x="2704" y="7218"/>
                </a:cubicBezTo>
                <a:cubicBezTo>
                  <a:pt x="2653" y="7154"/>
                  <a:pt x="2643" y="7124"/>
                  <a:pt x="2555" y="7119"/>
                </a:cubicBezTo>
                <a:cubicBezTo>
                  <a:pt x="2513" y="7119"/>
                  <a:pt x="2497" y="7111"/>
                  <a:pt x="2505" y="7144"/>
                </a:cubicBezTo>
              </a:path>
              <a:path w="3771" h="1440">
                <a:moveTo>
                  <a:pt x="3994" y="7342"/>
                </a:moveTo>
                <a:cubicBezTo>
                  <a:pt x="4091" y="7342"/>
                  <a:pt x="4183" y="7350"/>
                  <a:pt x="4266" y="7367"/>
                </a:cubicBezTo>
                <a:cubicBezTo>
                  <a:pt x="4301" y="7374"/>
                  <a:pt x="4363" y="7366"/>
                  <a:pt x="4316" y="7342"/>
                </a:cubicBezTo>
              </a:path>
              <a:path w="3771" h="1440">
                <a:moveTo>
                  <a:pt x="4266" y="7193"/>
                </a:moveTo>
                <a:cubicBezTo>
                  <a:pt x="4157" y="7170"/>
                  <a:pt x="4095" y="7161"/>
                  <a:pt x="3994" y="7218"/>
                </a:cubicBezTo>
                <a:cubicBezTo>
                  <a:pt x="3962" y="7236"/>
                  <a:pt x="3902" y="7311"/>
                  <a:pt x="3894" y="7342"/>
                </a:cubicBezTo>
                <a:cubicBezTo>
                  <a:pt x="3876" y="7411"/>
                  <a:pt x="3872" y="7429"/>
                  <a:pt x="3919" y="7491"/>
                </a:cubicBezTo>
                <a:cubicBezTo>
                  <a:pt x="3970" y="7559"/>
                  <a:pt x="4069" y="7541"/>
                  <a:pt x="4142" y="7541"/>
                </a:cubicBezTo>
                <a:cubicBezTo>
                  <a:pt x="4233" y="7541"/>
                  <a:pt x="4308" y="7537"/>
                  <a:pt x="4390" y="7491"/>
                </a:cubicBezTo>
                <a:cubicBezTo>
                  <a:pt x="4426" y="7471"/>
                  <a:pt x="4481" y="7406"/>
                  <a:pt x="4490" y="7367"/>
                </a:cubicBezTo>
                <a:cubicBezTo>
                  <a:pt x="4503" y="7310"/>
                  <a:pt x="4461" y="7248"/>
                  <a:pt x="4415" y="7218"/>
                </a:cubicBezTo>
                <a:cubicBezTo>
                  <a:pt x="4332" y="7164"/>
                  <a:pt x="4303" y="7174"/>
                  <a:pt x="4217" y="7193"/>
                </a:cubicBezTo>
                <a:cubicBezTo>
                  <a:pt x="4209" y="7193"/>
                  <a:pt x="4200" y="7193"/>
                  <a:pt x="4192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9"/>
          <p:cNvSpPr/>
          <p:nvPr/>
        </p:nvSpPr>
        <p:spPr>
          <a:xfrm>
            <a:off x="1660680" y="3170160"/>
            <a:ext cx="1125360" cy="295200"/>
          </a:xfrm>
          <a:custGeom>
            <a:avLst/>
            <a:gdLst/>
            <a:ahLst/>
            <a:rect l="l" t="t" r="r" b="b"/>
            <a:pathLst>
              <a:path w="3126" h="819">
                <a:moveTo>
                  <a:pt x="4738" y="8830"/>
                </a:moveTo>
                <a:cubicBezTo>
                  <a:pt x="4738" y="8901"/>
                  <a:pt x="4736" y="8946"/>
                  <a:pt x="4713" y="9004"/>
                </a:cubicBezTo>
                <a:cubicBezTo>
                  <a:pt x="4691" y="9059"/>
                  <a:pt x="4652" y="9151"/>
                  <a:pt x="4638" y="9203"/>
                </a:cubicBezTo>
                <a:cubicBezTo>
                  <a:pt x="4623" y="9259"/>
                  <a:pt x="4620" y="9332"/>
                  <a:pt x="4638" y="9376"/>
                </a:cubicBezTo>
                <a:cubicBezTo>
                  <a:pt x="4672" y="9460"/>
                  <a:pt x="4702" y="9471"/>
                  <a:pt x="4787" y="9475"/>
                </a:cubicBezTo>
                <a:cubicBezTo>
                  <a:pt x="4855" y="9478"/>
                  <a:pt x="4929" y="9440"/>
                  <a:pt x="4986" y="9401"/>
                </a:cubicBezTo>
                <a:cubicBezTo>
                  <a:pt x="5029" y="9372"/>
                  <a:pt x="5044" y="9274"/>
                  <a:pt x="5035" y="9227"/>
                </a:cubicBezTo>
                <a:cubicBezTo>
                  <a:pt x="5022" y="9159"/>
                  <a:pt x="4968" y="9131"/>
                  <a:pt x="4911" y="9128"/>
                </a:cubicBezTo>
                <a:cubicBezTo>
                  <a:pt x="4872" y="9126"/>
                  <a:pt x="4800" y="9157"/>
                  <a:pt x="4787" y="9203"/>
                </a:cubicBezTo>
                <a:cubicBezTo>
                  <a:pt x="4767" y="9273"/>
                  <a:pt x="4800" y="9368"/>
                  <a:pt x="4837" y="9426"/>
                </a:cubicBezTo>
                <a:cubicBezTo>
                  <a:pt x="4861" y="9462"/>
                  <a:pt x="4901" y="9480"/>
                  <a:pt x="4936" y="9500"/>
                </a:cubicBezTo>
              </a:path>
              <a:path w="3126" h="819">
                <a:moveTo>
                  <a:pt x="5259" y="9103"/>
                </a:moveTo>
                <a:cubicBezTo>
                  <a:pt x="5285" y="9198"/>
                  <a:pt x="5309" y="9247"/>
                  <a:pt x="5358" y="9327"/>
                </a:cubicBezTo>
                <a:cubicBezTo>
                  <a:pt x="5397" y="9391"/>
                  <a:pt x="5417" y="9437"/>
                  <a:pt x="5482" y="9475"/>
                </a:cubicBezTo>
                <a:cubicBezTo>
                  <a:pt x="5546" y="9513"/>
                  <a:pt x="5581" y="9541"/>
                  <a:pt x="5655" y="9550"/>
                </a:cubicBezTo>
              </a:path>
              <a:path w="3126" h="819">
                <a:moveTo>
                  <a:pt x="5556" y="9103"/>
                </a:moveTo>
                <a:cubicBezTo>
                  <a:pt x="5528" y="9153"/>
                  <a:pt x="5487" y="9181"/>
                  <a:pt x="5457" y="9227"/>
                </a:cubicBezTo>
                <a:cubicBezTo>
                  <a:pt x="5421" y="9283"/>
                  <a:pt x="5398" y="9348"/>
                  <a:pt x="5358" y="9401"/>
                </a:cubicBezTo>
                <a:cubicBezTo>
                  <a:pt x="5336" y="9431"/>
                  <a:pt x="5269" y="9491"/>
                  <a:pt x="5259" y="9525"/>
                </a:cubicBezTo>
                <a:cubicBezTo>
                  <a:pt x="5259" y="9575"/>
                  <a:pt x="5259" y="9592"/>
                  <a:pt x="5259" y="9525"/>
                </a:cubicBezTo>
              </a:path>
              <a:path w="3126" h="819">
                <a:moveTo>
                  <a:pt x="5655" y="8806"/>
                </a:moveTo>
                <a:cubicBezTo>
                  <a:pt x="5737" y="8816"/>
                  <a:pt x="5799" y="8824"/>
                  <a:pt x="5779" y="8930"/>
                </a:cubicBezTo>
                <a:cubicBezTo>
                  <a:pt x="5768" y="8989"/>
                  <a:pt x="5720" y="9039"/>
                  <a:pt x="5680" y="9079"/>
                </a:cubicBezTo>
                <a:cubicBezTo>
                  <a:pt x="5738" y="9135"/>
                  <a:pt x="5772" y="9128"/>
                  <a:pt x="5854" y="9128"/>
                </a:cubicBezTo>
                <a:cubicBezTo>
                  <a:pt x="5871" y="9128"/>
                  <a:pt x="5887" y="9128"/>
                  <a:pt x="5904" y="9128"/>
                </a:cubicBezTo>
              </a:path>
              <a:path w="3126" h="819">
                <a:moveTo>
                  <a:pt x="6300" y="9004"/>
                </a:moveTo>
                <a:cubicBezTo>
                  <a:pt x="6300" y="9125"/>
                  <a:pt x="6309" y="9234"/>
                  <a:pt x="6325" y="9351"/>
                </a:cubicBezTo>
                <a:cubicBezTo>
                  <a:pt x="6325" y="9396"/>
                  <a:pt x="6322" y="9409"/>
                  <a:pt x="6350" y="9426"/>
                </a:cubicBezTo>
              </a:path>
              <a:path w="3126" h="819">
                <a:moveTo>
                  <a:pt x="6152" y="9153"/>
                </a:moveTo>
                <a:cubicBezTo>
                  <a:pt x="6260" y="9153"/>
                  <a:pt x="6328" y="9144"/>
                  <a:pt x="6424" y="9128"/>
                </a:cubicBezTo>
                <a:cubicBezTo>
                  <a:pt x="6441" y="9128"/>
                  <a:pt x="6457" y="9128"/>
                  <a:pt x="6474" y="9128"/>
                </a:cubicBezTo>
              </a:path>
              <a:path w="3126" h="819">
                <a:moveTo>
                  <a:pt x="6846" y="8979"/>
                </a:moveTo>
                <a:cubicBezTo>
                  <a:pt x="6805" y="9095"/>
                  <a:pt x="6796" y="9137"/>
                  <a:pt x="6796" y="9252"/>
                </a:cubicBezTo>
                <a:cubicBezTo>
                  <a:pt x="6796" y="9325"/>
                  <a:pt x="6834" y="9382"/>
                  <a:pt x="6846" y="9451"/>
                </a:cubicBezTo>
                <a:cubicBezTo>
                  <a:pt x="6854" y="9497"/>
                  <a:pt x="6841" y="9590"/>
                  <a:pt x="6871" y="9624"/>
                </a:cubicBezTo>
                <a:cubicBezTo>
                  <a:pt x="6879" y="9624"/>
                  <a:pt x="6888" y="9624"/>
                  <a:pt x="6896" y="9624"/>
                </a:cubicBezTo>
              </a:path>
              <a:path w="3126" h="819">
                <a:moveTo>
                  <a:pt x="7094" y="8830"/>
                </a:moveTo>
                <a:cubicBezTo>
                  <a:pt x="7094" y="9054"/>
                  <a:pt x="7083" y="9285"/>
                  <a:pt x="7119" y="9500"/>
                </a:cubicBezTo>
                <a:cubicBezTo>
                  <a:pt x="7129" y="9559"/>
                  <a:pt x="7112" y="9561"/>
                  <a:pt x="7169" y="9575"/>
                </a:cubicBezTo>
              </a:path>
              <a:path w="3126" h="819">
                <a:moveTo>
                  <a:pt x="7268" y="9227"/>
                </a:moveTo>
                <a:cubicBezTo>
                  <a:pt x="7302" y="9270"/>
                  <a:pt x="7327" y="9311"/>
                  <a:pt x="7367" y="9351"/>
                </a:cubicBezTo>
                <a:cubicBezTo>
                  <a:pt x="7423" y="9407"/>
                  <a:pt x="7482" y="9451"/>
                  <a:pt x="7541" y="9500"/>
                </a:cubicBezTo>
                <a:cubicBezTo>
                  <a:pt x="7607" y="9556"/>
                  <a:pt x="7649" y="9566"/>
                  <a:pt x="7714" y="9599"/>
                </a:cubicBezTo>
                <a:cubicBezTo>
                  <a:pt x="7722" y="9607"/>
                  <a:pt x="7731" y="9616"/>
                  <a:pt x="7739" y="9624"/>
                </a:cubicBezTo>
              </a:path>
              <a:path w="3126" h="819">
                <a:moveTo>
                  <a:pt x="7590" y="9203"/>
                </a:moveTo>
                <a:cubicBezTo>
                  <a:pt x="7517" y="9276"/>
                  <a:pt x="7441" y="9332"/>
                  <a:pt x="7367" y="9401"/>
                </a:cubicBezTo>
                <a:cubicBezTo>
                  <a:pt x="7301" y="9463"/>
                  <a:pt x="7241" y="9524"/>
                  <a:pt x="7193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0"/>
          <p:cNvSpPr/>
          <p:nvPr/>
        </p:nvSpPr>
        <p:spPr>
          <a:xfrm>
            <a:off x="1465200" y="3446640"/>
            <a:ext cx="1803600" cy="876240"/>
          </a:xfrm>
          <a:custGeom>
            <a:avLst/>
            <a:gdLst/>
            <a:ahLst/>
            <a:rect l="l" t="t" r="r" b="b"/>
            <a:pathLst>
              <a:path w="5012" h="2431">
                <a:moveTo>
                  <a:pt x="4961" y="9897"/>
                </a:moveTo>
                <a:cubicBezTo>
                  <a:pt x="4937" y="9960"/>
                  <a:pt x="4931" y="10012"/>
                  <a:pt x="4911" y="10071"/>
                </a:cubicBezTo>
                <a:cubicBezTo>
                  <a:pt x="4886" y="10142"/>
                  <a:pt x="4866" y="10219"/>
                  <a:pt x="4862" y="10294"/>
                </a:cubicBezTo>
                <a:cubicBezTo>
                  <a:pt x="4858" y="10363"/>
                  <a:pt x="4853" y="10431"/>
                  <a:pt x="4887" y="10492"/>
                </a:cubicBezTo>
                <a:cubicBezTo>
                  <a:pt x="4916" y="10544"/>
                  <a:pt x="4969" y="10626"/>
                  <a:pt x="5035" y="10641"/>
                </a:cubicBezTo>
                <a:cubicBezTo>
                  <a:pt x="5110" y="10659"/>
                  <a:pt x="5158" y="10642"/>
                  <a:pt x="5209" y="10592"/>
                </a:cubicBezTo>
                <a:cubicBezTo>
                  <a:pt x="5245" y="10557"/>
                  <a:pt x="5287" y="10495"/>
                  <a:pt x="5283" y="10443"/>
                </a:cubicBezTo>
                <a:cubicBezTo>
                  <a:pt x="5280" y="10402"/>
                  <a:pt x="5236" y="10284"/>
                  <a:pt x="5184" y="10269"/>
                </a:cubicBezTo>
                <a:cubicBezTo>
                  <a:pt x="5129" y="10253"/>
                  <a:pt x="5072" y="10323"/>
                  <a:pt x="5060" y="10368"/>
                </a:cubicBezTo>
                <a:cubicBezTo>
                  <a:pt x="5042" y="10434"/>
                  <a:pt x="5072" y="10492"/>
                  <a:pt x="5110" y="10542"/>
                </a:cubicBezTo>
                <a:cubicBezTo>
                  <a:pt x="5132" y="10564"/>
                  <a:pt x="5137" y="10573"/>
                  <a:pt x="5159" y="10567"/>
                </a:cubicBezTo>
              </a:path>
              <a:path w="5012" h="2431">
                <a:moveTo>
                  <a:pt x="5383" y="10170"/>
                </a:moveTo>
                <a:cubicBezTo>
                  <a:pt x="5425" y="10224"/>
                  <a:pt x="5449" y="10287"/>
                  <a:pt x="5482" y="10344"/>
                </a:cubicBezTo>
                <a:cubicBezTo>
                  <a:pt x="5514" y="10400"/>
                  <a:pt x="5561" y="10444"/>
                  <a:pt x="5606" y="10492"/>
                </a:cubicBezTo>
                <a:cubicBezTo>
                  <a:pt x="5663" y="10553"/>
                  <a:pt x="5691" y="10592"/>
                  <a:pt x="5755" y="10641"/>
                </a:cubicBezTo>
                <a:cubicBezTo>
                  <a:pt x="5783" y="10670"/>
                  <a:pt x="5796" y="10678"/>
                  <a:pt x="5829" y="10666"/>
                </a:cubicBezTo>
              </a:path>
              <a:path w="5012" h="2431">
                <a:moveTo>
                  <a:pt x="5705" y="10120"/>
                </a:moveTo>
                <a:cubicBezTo>
                  <a:pt x="5656" y="10176"/>
                  <a:pt x="5616" y="10228"/>
                  <a:pt x="5581" y="10294"/>
                </a:cubicBezTo>
                <a:cubicBezTo>
                  <a:pt x="5546" y="10361"/>
                  <a:pt x="5507" y="10403"/>
                  <a:pt x="5482" y="10468"/>
                </a:cubicBezTo>
                <a:cubicBezTo>
                  <a:pt x="5454" y="10541"/>
                  <a:pt x="5413" y="10587"/>
                  <a:pt x="5407" y="10666"/>
                </a:cubicBezTo>
                <a:cubicBezTo>
                  <a:pt x="5407" y="10674"/>
                  <a:pt x="5407" y="10683"/>
                  <a:pt x="5407" y="10691"/>
                </a:cubicBezTo>
              </a:path>
              <a:path w="5012" h="2431">
                <a:moveTo>
                  <a:pt x="5804" y="9897"/>
                </a:moveTo>
                <a:cubicBezTo>
                  <a:pt x="5905" y="9917"/>
                  <a:pt x="5923" y="9929"/>
                  <a:pt x="5854" y="10021"/>
                </a:cubicBezTo>
                <a:cubicBezTo>
                  <a:pt x="5814" y="10075"/>
                  <a:pt x="5778" y="10115"/>
                  <a:pt x="5879" y="10145"/>
                </a:cubicBezTo>
                <a:cubicBezTo>
                  <a:pt x="5936" y="10162"/>
                  <a:pt x="6000" y="10134"/>
                  <a:pt x="6052" y="10120"/>
                </a:cubicBezTo>
              </a:path>
              <a:path w="5012" h="2431">
                <a:moveTo>
                  <a:pt x="6524" y="10220"/>
                </a:moveTo>
                <a:cubicBezTo>
                  <a:pt x="6515" y="10322"/>
                  <a:pt x="6519" y="10391"/>
                  <a:pt x="6524" y="10492"/>
                </a:cubicBezTo>
                <a:cubicBezTo>
                  <a:pt x="6528" y="10559"/>
                  <a:pt x="6546" y="10605"/>
                  <a:pt x="6573" y="10666"/>
                </a:cubicBezTo>
              </a:path>
              <a:path w="5012" h="2431">
                <a:moveTo>
                  <a:pt x="6375" y="10418"/>
                </a:moveTo>
                <a:cubicBezTo>
                  <a:pt x="6456" y="10400"/>
                  <a:pt x="6532" y="10418"/>
                  <a:pt x="6623" y="10418"/>
                </a:cubicBezTo>
                <a:cubicBezTo>
                  <a:pt x="6639" y="10418"/>
                  <a:pt x="6656" y="10418"/>
                  <a:pt x="6672" y="10418"/>
                </a:cubicBezTo>
              </a:path>
              <a:path w="5012" h="2431">
                <a:moveTo>
                  <a:pt x="6921" y="10195"/>
                </a:moveTo>
                <a:cubicBezTo>
                  <a:pt x="6884" y="10276"/>
                  <a:pt x="6851" y="10354"/>
                  <a:pt x="6846" y="10443"/>
                </a:cubicBezTo>
                <a:cubicBezTo>
                  <a:pt x="6842" y="10516"/>
                  <a:pt x="6842" y="10575"/>
                  <a:pt x="6871" y="10641"/>
                </a:cubicBezTo>
                <a:cubicBezTo>
                  <a:pt x="6898" y="10701"/>
                  <a:pt x="6936" y="10763"/>
                  <a:pt x="6995" y="10790"/>
                </a:cubicBezTo>
                <a:cubicBezTo>
                  <a:pt x="7078" y="10828"/>
                  <a:pt x="7155" y="10799"/>
                  <a:pt x="7193" y="10716"/>
                </a:cubicBezTo>
                <a:cubicBezTo>
                  <a:pt x="7221" y="10653"/>
                  <a:pt x="7207" y="10579"/>
                  <a:pt x="7169" y="10517"/>
                </a:cubicBezTo>
                <a:cubicBezTo>
                  <a:pt x="7161" y="10509"/>
                  <a:pt x="7152" y="10500"/>
                  <a:pt x="7144" y="10492"/>
                </a:cubicBezTo>
                <a:cubicBezTo>
                  <a:pt x="7063" y="10593"/>
                  <a:pt x="7126" y="10667"/>
                  <a:pt x="7193" y="10765"/>
                </a:cubicBezTo>
                <a:cubicBezTo>
                  <a:pt x="7228" y="10817"/>
                  <a:pt x="7259" y="10815"/>
                  <a:pt x="7317" y="10815"/>
                </a:cubicBezTo>
              </a:path>
              <a:path w="5012" h="2431">
                <a:moveTo>
                  <a:pt x="7417" y="10443"/>
                </a:moveTo>
                <a:cubicBezTo>
                  <a:pt x="7425" y="10510"/>
                  <a:pt x="7447" y="10585"/>
                  <a:pt x="7491" y="10641"/>
                </a:cubicBezTo>
                <a:cubicBezTo>
                  <a:pt x="7557" y="10725"/>
                  <a:pt x="7670" y="10866"/>
                  <a:pt x="7764" y="10889"/>
                </a:cubicBezTo>
              </a:path>
              <a:path w="5012" h="2431">
                <a:moveTo>
                  <a:pt x="7764" y="10468"/>
                </a:moveTo>
                <a:cubicBezTo>
                  <a:pt x="7642" y="10468"/>
                  <a:pt x="7617" y="10491"/>
                  <a:pt x="7516" y="10542"/>
                </a:cubicBezTo>
                <a:cubicBezTo>
                  <a:pt x="7436" y="10582"/>
                  <a:pt x="7371" y="10623"/>
                  <a:pt x="7293" y="10666"/>
                </a:cubicBezTo>
                <a:cubicBezTo>
                  <a:pt x="7276" y="10674"/>
                  <a:pt x="7260" y="10683"/>
                  <a:pt x="7243" y="10691"/>
                </a:cubicBezTo>
              </a:path>
              <a:path w="5012" h="2431">
                <a:moveTo>
                  <a:pt x="4663" y="10864"/>
                </a:moveTo>
                <a:cubicBezTo>
                  <a:pt x="4750" y="10864"/>
                  <a:pt x="4831" y="10882"/>
                  <a:pt x="4911" y="10889"/>
                </a:cubicBezTo>
                <a:cubicBezTo>
                  <a:pt x="5024" y="10899"/>
                  <a:pt x="5118" y="10911"/>
                  <a:pt x="5234" y="10914"/>
                </a:cubicBezTo>
                <a:cubicBezTo>
                  <a:pt x="5352" y="10917"/>
                  <a:pt x="5464" y="10953"/>
                  <a:pt x="5581" y="10964"/>
                </a:cubicBezTo>
                <a:cubicBezTo>
                  <a:pt x="5703" y="10976"/>
                  <a:pt x="5832" y="10979"/>
                  <a:pt x="5953" y="10988"/>
                </a:cubicBezTo>
                <a:cubicBezTo>
                  <a:pt x="6093" y="10998"/>
                  <a:pt x="6235" y="11010"/>
                  <a:pt x="6375" y="11013"/>
                </a:cubicBezTo>
                <a:cubicBezTo>
                  <a:pt x="6593" y="11018"/>
                  <a:pt x="6805" y="11021"/>
                  <a:pt x="7020" y="11038"/>
                </a:cubicBezTo>
                <a:cubicBezTo>
                  <a:pt x="7335" y="11062"/>
                  <a:pt x="7681" y="11048"/>
                  <a:pt x="7987" y="11013"/>
                </a:cubicBezTo>
                <a:cubicBezTo>
                  <a:pt x="8138" y="10996"/>
                  <a:pt x="8094" y="11068"/>
                  <a:pt x="8037" y="10939"/>
                </a:cubicBezTo>
              </a:path>
              <a:path w="5012" h="2431">
                <a:moveTo>
                  <a:pt x="4266" y="9798"/>
                </a:moveTo>
                <a:cubicBezTo>
                  <a:pt x="4339" y="9808"/>
                  <a:pt x="4382" y="9823"/>
                  <a:pt x="4465" y="9823"/>
                </a:cubicBezTo>
                <a:cubicBezTo>
                  <a:pt x="4533" y="9823"/>
                  <a:pt x="4552" y="9820"/>
                  <a:pt x="4589" y="9847"/>
                </a:cubicBezTo>
              </a:path>
              <a:path w="5012" h="2431">
                <a:moveTo>
                  <a:pt x="4415" y="9575"/>
                </a:moveTo>
                <a:cubicBezTo>
                  <a:pt x="4346" y="9583"/>
                  <a:pt x="4275" y="9595"/>
                  <a:pt x="4217" y="9624"/>
                </a:cubicBezTo>
                <a:cubicBezTo>
                  <a:pt x="4173" y="9646"/>
                  <a:pt x="4121" y="9680"/>
                  <a:pt x="4093" y="9723"/>
                </a:cubicBezTo>
                <a:cubicBezTo>
                  <a:pt x="4057" y="9779"/>
                  <a:pt x="4053" y="9848"/>
                  <a:pt x="4093" y="9897"/>
                </a:cubicBezTo>
                <a:cubicBezTo>
                  <a:pt x="4119" y="9929"/>
                  <a:pt x="4201" y="9986"/>
                  <a:pt x="4242" y="9996"/>
                </a:cubicBezTo>
                <a:cubicBezTo>
                  <a:pt x="4315" y="10013"/>
                  <a:pt x="4389" y="10021"/>
                  <a:pt x="4465" y="10021"/>
                </a:cubicBezTo>
                <a:cubicBezTo>
                  <a:pt x="4527" y="10021"/>
                  <a:pt x="4642" y="9996"/>
                  <a:pt x="4688" y="9947"/>
                </a:cubicBezTo>
                <a:cubicBezTo>
                  <a:pt x="4762" y="9868"/>
                  <a:pt x="4769" y="9825"/>
                  <a:pt x="4738" y="9723"/>
                </a:cubicBezTo>
                <a:cubicBezTo>
                  <a:pt x="4717" y="9654"/>
                  <a:pt x="4684" y="9602"/>
                  <a:pt x="4614" y="9575"/>
                </a:cubicBezTo>
                <a:cubicBezTo>
                  <a:pt x="4567" y="9557"/>
                  <a:pt x="4506" y="9576"/>
                  <a:pt x="4490" y="9599"/>
                </a:cubicBezTo>
              </a:path>
              <a:path w="5012" h="2431">
                <a:moveTo>
                  <a:pt x="6276" y="9947"/>
                </a:moveTo>
                <a:cubicBezTo>
                  <a:pt x="6345" y="9905"/>
                  <a:pt x="6393" y="9944"/>
                  <a:pt x="6474" y="9947"/>
                </a:cubicBezTo>
                <a:cubicBezTo>
                  <a:pt x="6532" y="9947"/>
                  <a:pt x="6540" y="9947"/>
                  <a:pt x="6573" y="9947"/>
                </a:cubicBezTo>
              </a:path>
              <a:path w="5012" h="2431">
                <a:moveTo>
                  <a:pt x="6598" y="9773"/>
                </a:moveTo>
                <a:cubicBezTo>
                  <a:pt x="6560" y="9735"/>
                  <a:pt x="6493" y="9695"/>
                  <a:pt x="6449" y="9699"/>
                </a:cubicBezTo>
                <a:cubicBezTo>
                  <a:pt x="6387" y="9705"/>
                  <a:pt x="6278" y="9722"/>
                  <a:pt x="6226" y="9748"/>
                </a:cubicBezTo>
                <a:cubicBezTo>
                  <a:pt x="6179" y="9771"/>
                  <a:pt x="6099" y="9866"/>
                  <a:pt x="6102" y="9922"/>
                </a:cubicBezTo>
                <a:cubicBezTo>
                  <a:pt x="6106" y="9995"/>
                  <a:pt x="6191" y="10005"/>
                  <a:pt x="6226" y="10046"/>
                </a:cubicBezTo>
                <a:cubicBezTo>
                  <a:pt x="6276" y="10105"/>
                  <a:pt x="6342" y="10134"/>
                  <a:pt x="6424" y="10145"/>
                </a:cubicBezTo>
                <a:cubicBezTo>
                  <a:pt x="6505" y="10156"/>
                  <a:pt x="6571" y="10171"/>
                  <a:pt x="6648" y="10145"/>
                </a:cubicBezTo>
                <a:cubicBezTo>
                  <a:pt x="6690" y="10131"/>
                  <a:pt x="6748" y="10085"/>
                  <a:pt x="6772" y="10046"/>
                </a:cubicBezTo>
                <a:cubicBezTo>
                  <a:pt x="6809" y="9988"/>
                  <a:pt x="6774" y="9871"/>
                  <a:pt x="6722" y="9823"/>
                </a:cubicBezTo>
                <a:cubicBezTo>
                  <a:pt x="6672" y="9777"/>
                  <a:pt x="6512" y="9779"/>
                  <a:pt x="6449" y="9773"/>
                </a:cubicBezTo>
              </a:path>
              <a:path w="5012" h="2431">
                <a:moveTo>
                  <a:pt x="6970" y="11410"/>
                </a:moveTo>
                <a:cubicBezTo>
                  <a:pt x="7059" y="11410"/>
                  <a:pt x="7137" y="11420"/>
                  <a:pt x="7218" y="11385"/>
                </a:cubicBezTo>
                <a:cubicBezTo>
                  <a:pt x="7235" y="11377"/>
                  <a:pt x="7251" y="11369"/>
                  <a:pt x="7268" y="11361"/>
                </a:cubicBezTo>
              </a:path>
              <a:path w="5012" h="2431">
                <a:moveTo>
                  <a:pt x="7069" y="11261"/>
                </a:moveTo>
                <a:cubicBezTo>
                  <a:pt x="7013" y="11296"/>
                  <a:pt x="6913" y="11345"/>
                  <a:pt x="6871" y="11410"/>
                </a:cubicBezTo>
                <a:cubicBezTo>
                  <a:pt x="6847" y="11458"/>
                  <a:pt x="6839" y="11472"/>
                  <a:pt x="6846" y="11509"/>
                </a:cubicBezTo>
                <a:cubicBezTo>
                  <a:pt x="6901" y="11542"/>
                  <a:pt x="6952" y="11534"/>
                  <a:pt x="7020" y="11534"/>
                </a:cubicBezTo>
                <a:cubicBezTo>
                  <a:pt x="7103" y="11534"/>
                  <a:pt x="7156" y="11554"/>
                  <a:pt x="7218" y="11609"/>
                </a:cubicBezTo>
                <a:cubicBezTo>
                  <a:pt x="7277" y="11661"/>
                  <a:pt x="7335" y="11720"/>
                  <a:pt x="7317" y="11807"/>
                </a:cubicBezTo>
                <a:cubicBezTo>
                  <a:pt x="7297" y="11907"/>
                  <a:pt x="7168" y="11881"/>
                  <a:pt x="7094" y="11881"/>
                </a:cubicBezTo>
                <a:cubicBezTo>
                  <a:pt x="7008" y="11881"/>
                  <a:pt x="6984" y="11871"/>
                  <a:pt x="6995" y="11807"/>
                </a:cubicBezTo>
              </a:path>
              <a:path w="5012" h="2431">
                <a:moveTo>
                  <a:pt x="7491" y="11460"/>
                </a:moveTo>
                <a:cubicBezTo>
                  <a:pt x="7521" y="11512"/>
                  <a:pt x="7559" y="11558"/>
                  <a:pt x="7590" y="11609"/>
                </a:cubicBezTo>
                <a:cubicBezTo>
                  <a:pt x="7643" y="11696"/>
                  <a:pt x="7706" y="11817"/>
                  <a:pt x="7789" y="11881"/>
                </a:cubicBezTo>
                <a:cubicBezTo>
                  <a:pt x="7832" y="11903"/>
                  <a:pt x="7844" y="11907"/>
                  <a:pt x="7863" y="11931"/>
                </a:cubicBezTo>
              </a:path>
              <a:path w="5012" h="2431">
                <a:moveTo>
                  <a:pt x="7764" y="11509"/>
                </a:moveTo>
                <a:cubicBezTo>
                  <a:pt x="7695" y="11573"/>
                  <a:pt x="7619" y="11655"/>
                  <a:pt x="7541" y="11708"/>
                </a:cubicBezTo>
                <a:cubicBezTo>
                  <a:pt x="7505" y="11732"/>
                  <a:pt x="7412" y="11771"/>
                  <a:pt x="7417" y="11832"/>
                </a:cubicBezTo>
                <a:cubicBezTo>
                  <a:pt x="7425" y="11840"/>
                  <a:pt x="7433" y="11849"/>
                  <a:pt x="7441" y="11857"/>
                </a:cubicBezTo>
              </a:path>
              <a:path w="5012" h="2431">
                <a:moveTo>
                  <a:pt x="8359" y="11410"/>
                </a:moveTo>
                <a:cubicBezTo>
                  <a:pt x="8359" y="11501"/>
                  <a:pt x="8359" y="11592"/>
                  <a:pt x="8359" y="11683"/>
                </a:cubicBezTo>
              </a:path>
              <a:path w="5012" h="2431">
                <a:moveTo>
                  <a:pt x="8186" y="11534"/>
                </a:moveTo>
                <a:cubicBezTo>
                  <a:pt x="8261" y="11562"/>
                  <a:pt x="8354" y="11580"/>
                  <a:pt x="8434" y="11584"/>
                </a:cubicBezTo>
                <a:cubicBezTo>
                  <a:pt x="8493" y="11584"/>
                  <a:pt x="8519" y="11581"/>
                  <a:pt x="8558" y="11559"/>
                </a:cubicBezTo>
              </a:path>
              <a:path w="5012" h="2431">
                <a:moveTo>
                  <a:pt x="8781" y="11385"/>
                </a:moveTo>
                <a:cubicBezTo>
                  <a:pt x="8847" y="11385"/>
                  <a:pt x="8913" y="11385"/>
                  <a:pt x="8979" y="11385"/>
                </a:cubicBezTo>
              </a:path>
              <a:path w="5012" h="2431">
                <a:moveTo>
                  <a:pt x="8756" y="11361"/>
                </a:moveTo>
                <a:cubicBezTo>
                  <a:pt x="8706" y="11439"/>
                  <a:pt x="8639" y="11499"/>
                  <a:pt x="8706" y="11584"/>
                </a:cubicBezTo>
                <a:cubicBezTo>
                  <a:pt x="8741" y="11629"/>
                  <a:pt x="8797" y="11655"/>
                  <a:pt x="8855" y="11633"/>
                </a:cubicBezTo>
                <a:cubicBezTo>
                  <a:pt x="8901" y="11616"/>
                  <a:pt x="8957" y="11620"/>
                  <a:pt x="9004" y="11658"/>
                </a:cubicBezTo>
                <a:cubicBezTo>
                  <a:pt x="9057" y="11700"/>
                  <a:pt x="9076" y="11740"/>
                  <a:pt x="9079" y="11807"/>
                </a:cubicBezTo>
                <a:cubicBezTo>
                  <a:pt x="9081" y="11853"/>
                  <a:pt x="9069" y="11951"/>
                  <a:pt x="9029" y="11981"/>
                </a:cubicBezTo>
                <a:cubicBezTo>
                  <a:pt x="8971" y="12025"/>
                  <a:pt x="8867" y="12011"/>
                  <a:pt x="8806" y="11981"/>
                </a:cubicBezTo>
                <a:cubicBezTo>
                  <a:pt x="8751" y="11953"/>
                  <a:pt x="8707" y="11920"/>
                  <a:pt x="8657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1"/>
          <p:cNvSpPr/>
          <p:nvPr/>
        </p:nvSpPr>
        <p:spPr>
          <a:xfrm>
            <a:off x="4983120" y="4884840"/>
            <a:ext cx="1830600" cy="544320"/>
          </a:xfrm>
          <a:custGeom>
            <a:avLst/>
            <a:gdLst/>
            <a:ahLst/>
            <a:rect l="l" t="t" r="r" b="b"/>
            <a:pathLst>
              <a:path w="5086" h="1514">
                <a:moveTo>
                  <a:pt x="13891" y="14089"/>
                </a:moveTo>
                <a:cubicBezTo>
                  <a:pt x="13839" y="14115"/>
                  <a:pt x="13913" y="13987"/>
                  <a:pt x="13940" y="13940"/>
                </a:cubicBezTo>
                <a:cubicBezTo>
                  <a:pt x="13965" y="13896"/>
                  <a:pt x="14002" y="13853"/>
                  <a:pt x="14039" y="13816"/>
                </a:cubicBezTo>
                <a:cubicBezTo>
                  <a:pt x="14065" y="13790"/>
                  <a:pt x="14160" y="13738"/>
                  <a:pt x="14188" y="13742"/>
                </a:cubicBezTo>
                <a:cubicBezTo>
                  <a:pt x="14246" y="13750"/>
                  <a:pt x="14317" y="13776"/>
                  <a:pt x="14362" y="13816"/>
                </a:cubicBezTo>
                <a:cubicBezTo>
                  <a:pt x="14402" y="13852"/>
                  <a:pt x="14400" y="13916"/>
                  <a:pt x="14436" y="13965"/>
                </a:cubicBezTo>
                <a:cubicBezTo>
                  <a:pt x="14465" y="14004"/>
                  <a:pt x="14477" y="14088"/>
                  <a:pt x="14486" y="14139"/>
                </a:cubicBezTo>
                <a:cubicBezTo>
                  <a:pt x="14501" y="14227"/>
                  <a:pt x="14475" y="14307"/>
                  <a:pt x="14461" y="14387"/>
                </a:cubicBezTo>
                <a:cubicBezTo>
                  <a:pt x="14449" y="14456"/>
                  <a:pt x="14441" y="14520"/>
                  <a:pt x="14412" y="14585"/>
                </a:cubicBezTo>
                <a:cubicBezTo>
                  <a:pt x="14383" y="14650"/>
                  <a:pt x="14374" y="14698"/>
                  <a:pt x="14337" y="14759"/>
                </a:cubicBezTo>
                <a:cubicBezTo>
                  <a:pt x="14306" y="14810"/>
                  <a:pt x="14266" y="14874"/>
                  <a:pt x="14213" y="14908"/>
                </a:cubicBezTo>
                <a:cubicBezTo>
                  <a:pt x="14166" y="14938"/>
                  <a:pt x="14070" y="14947"/>
                  <a:pt x="14015" y="14932"/>
                </a:cubicBezTo>
                <a:cubicBezTo>
                  <a:pt x="13949" y="14914"/>
                  <a:pt x="13891" y="14845"/>
                  <a:pt x="13866" y="14784"/>
                </a:cubicBezTo>
                <a:cubicBezTo>
                  <a:pt x="13833" y="14703"/>
                  <a:pt x="13830" y="14632"/>
                  <a:pt x="13866" y="14560"/>
                </a:cubicBezTo>
                <a:cubicBezTo>
                  <a:pt x="13899" y="14494"/>
                  <a:pt x="13917" y="14465"/>
                  <a:pt x="13990" y="14461"/>
                </a:cubicBezTo>
                <a:cubicBezTo>
                  <a:pt x="14066" y="14456"/>
                  <a:pt x="14096" y="14508"/>
                  <a:pt x="14139" y="14560"/>
                </a:cubicBezTo>
                <a:cubicBezTo>
                  <a:pt x="14177" y="14606"/>
                  <a:pt x="14210" y="14656"/>
                  <a:pt x="14238" y="14709"/>
                </a:cubicBezTo>
                <a:cubicBezTo>
                  <a:pt x="14266" y="14761"/>
                  <a:pt x="14318" y="14831"/>
                  <a:pt x="14337" y="14883"/>
                </a:cubicBezTo>
                <a:cubicBezTo>
                  <a:pt x="14377" y="14993"/>
                  <a:pt x="14365" y="15002"/>
                  <a:pt x="14461" y="15056"/>
                </a:cubicBezTo>
              </a:path>
              <a:path w="5086" h="1514">
                <a:moveTo>
                  <a:pt x="14734" y="14362"/>
                </a:moveTo>
                <a:cubicBezTo>
                  <a:pt x="14743" y="14422"/>
                  <a:pt x="14767" y="14458"/>
                  <a:pt x="14784" y="14511"/>
                </a:cubicBezTo>
                <a:cubicBezTo>
                  <a:pt x="14812" y="14599"/>
                  <a:pt x="14800" y="14663"/>
                  <a:pt x="14858" y="14734"/>
                </a:cubicBezTo>
                <a:cubicBezTo>
                  <a:pt x="14923" y="14813"/>
                  <a:pt x="14971" y="14903"/>
                  <a:pt x="15032" y="14982"/>
                </a:cubicBezTo>
                <a:cubicBezTo>
                  <a:pt x="15082" y="15047"/>
                  <a:pt x="15107" y="15052"/>
                  <a:pt x="15180" y="15081"/>
                </a:cubicBezTo>
              </a:path>
              <a:path w="5086" h="1514">
                <a:moveTo>
                  <a:pt x="15106" y="14263"/>
                </a:moveTo>
                <a:cubicBezTo>
                  <a:pt x="15071" y="14324"/>
                  <a:pt x="15053" y="14352"/>
                  <a:pt x="15032" y="14412"/>
                </a:cubicBezTo>
                <a:cubicBezTo>
                  <a:pt x="15011" y="14472"/>
                  <a:pt x="14961" y="14526"/>
                  <a:pt x="14932" y="14585"/>
                </a:cubicBezTo>
                <a:cubicBezTo>
                  <a:pt x="14900" y="14650"/>
                  <a:pt x="14903" y="14699"/>
                  <a:pt x="14858" y="14759"/>
                </a:cubicBezTo>
                <a:cubicBezTo>
                  <a:pt x="14818" y="14813"/>
                  <a:pt x="14810" y="14857"/>
                  <a:pt x="14784" y="14908"/>
                </a:cubicBezTo>
                <a:cubicBezTo>
                  <a:pt x="14766" y="14944"/>
                  <a:pt x="14755" y="14971"/>
                  <a:pt x="14734" y="15007"/>
                </a:cubicBezTo>
              </a:path>
              <a:path w="5086" h="1514">
                <a:moveTo>
                  <a:pt x="15156" y="13593"/>
                </a:moveTo>
                <a:cubicBezTo>
                  <a:pt x="15229" y="13565"/>
                  <a:pt x="15263" y="13558"/>
                  <a:pt x="15329" y="13593"/>
                </a:cubicBezTo>
                <a:cubicBezTo>
                  <a:pt x="15395" y="13628"/>
                  <a:pt x="15425" y="13642"/>
                  <a:pt x="15429" y="13717"/>
                </a:cubicBezTo>
                <a:cubicBezTo>
                  <a:pt x="15433" y="13782"/>
                  <a:pt x="15397" y="13798"/>
                  <a:pt x="15354" y="13841"/>
                </a:cubicBezTo>
                <a:cubicBezTo>
                  <a:pt x="15332" y="13863"/>
                  <a:pt x="15263" y="13936"/>
                  <a:pt x="15255" y="13965"/>
                </a:cubicBezTo>
                <a:cubicBezTo>
                  <a:pt x="15228" y="14060"/>
                  <a:pt x="15350" y="14039"/>
                  <a:pt x="15404" y="14039"/>
                </a:cubicBezTo>
                <a:cubicBezTo>
                  <a:pt x="15467" y="14039"/>
                  <a:pt x="15500" y="14051"/>
                  <a:pt x="15553" y="14064"/>
                </a:cubicBezTo>
              </a:path>
              <a:path w="5086" h="1514">
                <a:moveTo>
                  <a:pt x="15825" y="14238"/>
                </a:moveTo>
                <a:cubicBezTo>
                  <a:pt x="15825" y="14420"/>
                  <a:pt x="15825" y="14602"/>
                  <a:pt x="15825" y="14784"/>
                </a:cubicBezTo>
              </a:path>
              <a:path w="5086" h="1514">
                <a:moveTo>
                  <a:pt x="15652" y="14387"/>
                </a:moveTo>
                <a:cubicBezTo>
                  <a:pt x="15741" y="14396"/>
                  <a:pt x="15764" y="14435"/>
                  <a:pt x="15850" y="14461"/>
                </a:cubicBezTo>
                <a:cubicBezTo>
                  <a:pt x="15858" y="14461"/>
                  <a:pt x="15867" y="14461"/>
                  <a:pt x="15875" y="14461"/>
                </a:cubicBezTo>
              </a:path>
              <a:path w="5086" h="1514">
                <a:moveTo>
                  <a:pt x="16470" y="13816"/>
                </a:moveTo>
                <a:cubicBezTo>
                  <a:pt x="16515" y="13905"/>
                  <a:pt x="16481" y="13967"/>
                  <a:pt x="16470" y="14064"/>
                </a:cubicBezTo>
                <a:cubicBezTo>
                  <a:pt x="16460" y="14150"/>
                  <a:pt x="16446" y="14223"/>
                  <a:pt x="16446" y="14312"/>
                </a:cubicBezTo>
                <a:cubicBezTo>
                  <a:pt x="16446" y="14431"/>
                  <a:pt x="16422" y="14575"/>
                  <a:pt x="16470" y="14684"/>
                </a:cubicBezTo>
                <a:cubicBezTo>
                  <a:pt x="16505" y="14763"/>
                  <a:pt x="16532" y="14806"/>
                  <a:pt x="16594" y="14858"/>
                </a:cubicBezTo>
                <a:cubicBezTo>
                  <a:pt x="16638" y="14895"/>
                  <a:pt x="16676" y="14934"/>
                  <a:pt x="16743" y="14908"/>
                </a:cubicBezTo>
                <a:cubicBezTo>
                  <a:pt x="16809" y="14882"/>
                  <a:pt x="16820" y="14804"/>
                  <a:pt x="16842" y="14759"/>
                </a:cubicBezTo>
                <a:cubicBezTo>
                  <a:pt x="16868" y="14707"/>
                  <a:pt x="16883" y="14626"/>
                  <a:pt x="16867" y="14560"/>
                </a:cubicBezTo>
                <a:cubicBezTo>
                  <a:pt x="16851" y="14495"/>
                  <a:pt x="16797" y="14411"/>
                  <a:pt x="16718" y="14436"/>
                </a:cubicBezTo>
                <a:cubicBezTo>
                  <a:pt x="16632" y="14463"/>
                  <a:pt x="16654" y="14578"/>
                  <a:pt x="16669" y="14635"/>
                </a:cubicBezTo>
                <a:cubicBezTo>
                  <a:pt x="16685" y="14697"/>
                  <a:pt x="16705" y="14736"/>
                  <a:pt x="16743" y="14784"/>
                </a:cubicBezTo>
              </a:path>
              <a:path w="5086" h="1514">
                <a:moveTo>
                  <a:pt x="17066" y="14238"/>
                </a:moveTo>
                <a:cubicBezTo>
                  <a:pt x="17096" y="14330"/>
                  <a:pt x="17127" y="14423"/>
                  <a:pt x="17165" y="14511"/>
                </a:cubicBezTo>
                <a:cubicBezTo>
                  <a:pt x="17203" y="14600"/>
                  <a:pt x="17241" y="14675"/>
                  <a:pt x="17289" y="14759"/>
                </a:cubicBezTo>
                <a:cubicBezTo>
                  <a:pt x="17340" y="14846"/>
                  <a:pt x="17391" y="14910"/>
                  <a:pt x="17462" y="14982"/>
                </a:cubicBezTo>
                <a:cubicBezTo>
                  <a:pt x="17470" y="14990"/>
                  <a:pt x="17479" y="14999"/>
                  <a:pt x="17487" y="15007"/>
                </a:cubicBezTo>
              </a:path>
              <a:path w="5086" h="1514">
                <a:moveTo>
                  <a:pt x="17363" y="14213"/>
                </a:moveTo>
                <a:cubicBezTo>
                  <a:pt x="17330" y="14272"/>
                  <a:pt x="17295" y="14326"/>
                  <a:pt x="17264" y="14387"/>
                </a:cubicBezTo>
                <a:cubicBezTo>
                  <a:pt x="17234" y="14447"/>
                  <a:pt x="17196" y="14499"/>
                  <a:pt x="17165" y="14560"/>
                </a:cubicBezTo>
                <a:cubicBezTo>
                  <a:pt x="17128" y="14634"/>
                  <a:pt x="17098" y="14708"/>
                  <a:pt x="17066" y="14784"/>
                </a:cubicBezTo>
                <a:cubicBezTo>
                  <a:pt x="17041" y="14842"/>
                  <a:pt x="17024" y="14870"/>
                  <a:pt x="17016" y="14932"/>
                </a:cubicBezTo>
              </a:path>
              <a:path w="5086" h="1514">
                <a:moveTo>
                  <a:pt x="17859" y="14188"/>
                </a:moveTo>
                <a:cubicBezTo>
                  <a:pt x="17879" y="14269"/>
                  <a:pt x="17896" y="14356"/>
                  <a:pt x="17909" y="14436"/>
                </a:cubicBezTo>
                <a:cubicBezTo>
                  <a:pt x="17923" y="14518"/>
                  <a:pt x="17921" y="14605"/>
                  <a:pt x="17934" y="14684"/>
                </a:cubicBezTo>
                <a:cubicBezTo>
                  <a:pt x="17934" y="14734"/>
                  <a:pt x="17934" y="14751"/>
                  <a:pt x="17934" y="14784"/>
                </a:cubicBezTo>
              </a:path>
              <a:path w="5086" h="1514">
                <a:moveTo>
                  <a:pt x="17760" y="14486"/>
                </a:moveTo>
                <a:cubicBezTo>
                  <a:pt x="17760" y="14469"/>
                  <a:pt x="17760" y="14453"/>
                  <a:pt x="17760" y="14436"/>
                </a:cubicBezTo>
                <a:cubicBezTo>
                  <a:pt x="17836" y="14457"/>
                  <a:pt x="17910" y="14467"/>
                  <a:pt x="17983" y="14486"/>
                </a:cubicBezTo>
                <a:cubicBezTo>
                  <a:pt x="18048" y="14508"/>
                  <a:pt x="18063" y="14516"/>
                  <a:pt x="18107" y="14511"/>
                </a:cubicBezTo>
              </a:path>
              <a:path w="5086" h="1514">
                <a:moveTo>
                  <a:pt x="18504" y="13965"/>
                </a:moveTo>
                <a:cubicBezTo>
                  <a:pt x="18609" y="13920"/>
                  <a:pt x="18690" y="13910"/>
                  <a:pt x="18802" y="13891"/>
                </a:cubicBezTo>
                <a:cubicBezTo>
                  <a:pt x="18810" y="13891"/>
                  <a:pt x="18819" y="13891"/>
                  <a:pt x="18827" y="13891"/>
                </a:cubicBezTo>
              </a:path>
              <a:path w="5086" h="1514">
                <a:moveTo>
                  <a:pt x="18703" y="13791"/>
                </a:moveTo>
                <a:cubicBezTo>
                  <a:pt x="18632" y="13841"/>
                  <a:pt x="18594" y="13865"/>
                  <a:pt x="18554" y="13940"/>
                </a:cubicBezTo>
                <a:cubicBezTo>
                  <a:pt x="18521" y="14002"/>
                  <a:pt x="18514" y="14056"/>
                  <a:pt x="18479" y="14114"/>
                </a:cubicBezTo>
                <a:cubicBezTo>
                  <a:pt x="18460" y="14145"/>
                  <a:pt x="18416" y="14247"/>
                  <a:pt x="18430" y="14288"/>
                </a:cubicBezTo>
                <a:cubicBezTo>
                  <a:pt x="18438" y="14296"/>
                  <a:pt x="18447" y="14304"/>
                  <a:pt x="18455" y="14312"/>
                </a:cubicBezTo>
                <a:cubicBezTo>
                  <a:pt x="18497" y="14279"/>
                  <a:pt x="18558" y="14247"/>
                  <a:pt x="18604" y="14238"/>
                </a:cubicBezTo>
                <a:cubicBezTo>
                  <a:pt x="18667" y="14225"/>
                  <a:pt x="18742" y="14258"/>
                  <a:pt x="18777" y="14312"/>
                </a:cubicBezTo>
                <a:cubicBezTo>
                  <a:pt x="18814" y="14369"/>
                  <a:pt x="18846" y="14425"/>
                  <a:pt x="18876" y="14486"/>
                </a:cubicBezTo>
                <a:cubicBezTo>
                  <a:pt x="18912" y="14559"/>
                  <a:pt x="18922" y="14653"/>
                  <a:pt x="18926" y="14734"/>
                </a:cubicBezTo>
                <a:cubicBezTo>
                  <a:pt x="18930" y="14814"/>
                  <a:pt x="18933" y="14885"/>
                  <a:pt x="18901" y="14957"/>
                </a:cubicBezTo>
                <a:cubicBezTo>
                  <a:pt x="18870" y="15026"/>
                  <a:pt x="18837" y="15072"/>
                  <a:pt x="18752" y="15056"/>
                </a:cubicBezTo>
                <a:cubicBezTo>
                  <a:pt x="18698" y="15046"/>
                  <a:pt x="18622" y="14990"/>
                  <a:pt x="18579" y="14957"/>
                </a:cubicBezTo>
                <a:cubicBezTo>
                  <a:pt x="18540" y="14928"/>
                  <a:pt x="18511" y="14847"/>
                  <a:pt x="18529" y="14908"/>
                </a:cubicBezTo>
                <a:cubicBezTo>
                  <a:pt x="18529" y="14916"/>
                  <a:pt x="18529" y="14924"/>
                  <a:pt x="18529" y="149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2"/>
          <p:cNvSpPr/>
          <p:nvPr/>
        </p:nvSpPr>
        <p:spPr>
          <a:xfrm>
            <a:off x="2313000" y="4286160"/>
            <a:ext cx="1017720" cy="768600"/>
          </a:xfrm>
          <a:custGeom>
            <a:avLst/>
            <a:gdLst/>
            <a:ahLst/>
            <a:rect l="l" t="t" r="r" b="b"/>
            <a:pathLst>
              <a:path w="2829" h="2134">
                <a:moveTo>
                  <a:pt x="7144" y="12303"/>
                </a:moveTo>
                <a:cubicBezTo>
                  <a:pt x="7228" y="12282"/>
                  <a:pt x="7247" y="12280"/>
                  <a:pt x="7293" y="12254"/>
                </a:cubicBezTo>
              </a:path>
              <a:path w="2829" h="2134">
                <a:moveTo>
                  <a:pt x="7069" y="12303"/>
                </a:moveTo>
                <a:cubicBezTo>
                  <a:pt x="7009" y="12363"/>
                  <a:pt x="6933" y="12400"/>
                  <a:pt x="6995" y="12477"/>
                </a:cubicBezTo>
                <a:cubicBezTo>
                  <a:pt x="7040" y="12533"/>
                  <a:pt x="7131" y="12488"/>
                  <a:pt x="7193" y="12502"/>
                </a:cubicBezTo>
                <a:cubicBezTo>
                  <a:pt x="7261" y="12518"/>
                  <a:pt x="7310" y="12597"/>
                  <a:pt x="7342" y="12650"/>
                </a:cubicBezTo>
                <a:cubicBezTo>
                  <a:pt x="7369" y="12694"/>
                  <a:pt x="7387" y="12798"/>
                  <a:pt x="7367" y="12849"/>
                </a:cubicBezTo>
                <a:cubicBezTo>
                  <a:pt x="7341" y="12916"/>
                  <a:pt x="7266" y="12903"/>
                  <a:pt x="7218" y="12874"/>
                </a:cubicBezTo>
                <a:cubicBezTo>
                  <a:pt x="7169" y="12844"/>
                  <a:pt x="7172" y="12720"/>
                  <a:pt x="7169" y="12675"/>
                </a:cubicBezTo>
              </a:path>
              <a:path w="2829" h="2134">
                <a:moveTo>
                  <a:pt x="7441" y="12402"/>
                </a:moveTo>
                <a:cubicBezTo>
                  <a:pt x="7469" y="12478"/>
                  <a:pt x="7499" y="12556"/>
                  <a:pt x="7541" y="12626"/>
                </a:cubicBezTo>
                <a:cubicBezTo>
                  <a:pt x="7600" y="12724"/>
                  <a:pt x="7678" y="12776"/>
                  <a:pt x="7764" y="12849"/>
                </a:cubicBezTo>
              </a:path>
              <a:path w="2829" h="2134">
                <a:moveTo>
                  <a:pt x="7764" y="12502"/>
                </a:moveTo>
                <a:cubicBezTo>
                  <a:pt x="7655" y="12560"/>
                  <a:pt x="7549" y="12616"/>
                  <a:pt x="7441" y="12675"/>
                </a:cubicBezTo>
                <a:cubicBezTo>
                  <a:pt x="7402" y="12696"/>
                  <a:pt x="7380" y="12716"/>
                  <a:pt x="7342" y="12725"/>
                </a:cubicBezTo>
              </a:path>
              <a:path w="2829" h="2134">
                <a:moveTo>
                  <a:pt x="8235" y="12452"/>
                </a:moveTo>
                <a:cubicBezTo>
                  <a:pt x="8209" y="12529"/>
                  <a:pt x="8210" y="12593"/>
                  <a:pt x="8210" y="12675"/>
                </a:cubicBezTo>
                <a:cubicBezTo>
                  <a:pt x="8210" y="12752"/>
                  <a:pt x="8225" y="12756"/>
                  <a:pt x="8235" y="12824"/>
                </a:cubicBezTo>
              </a:path>
              <a:path w="2829" h="2134">
                <a:moveTo>
                  <a:pt x="8086" y="12576"/>
                </a:moveTo>
                <a:cubicBezTo>
                  <a:pt x="8162" y="12559"/>
                  <a:pt x="8225" y="12576"/>
                  <a:pt x="8310" y="12576"/>
                </a:cubicBezTo>
                <a:cubicBezTo>
                  <a:pt x="8326" y="12576"/>
                  <a:pt x="8343" y="12576"/>
                  <a:pt x="8359" y="12576"/>
                </a:cubicBezTo>
              </a:path>
              <a:path w="2829" h="2134">
                <a:moveTo>
                  <a:pt x="8558" y="12452"/>
                </a:moveTo>
                <a:cubicBezTo>
                  <a:pt x="8647" y="12452"/>
                  <a:pt x="8720" y="12471"/>
                  <a:pt x="8806" y="12477"/>
                </a:cubicBezTo>
                <a:cubicBezTo>
                  <a:pt x="8814" y="12477"/>
                  <a:pt x="8822" y="12477"/>
                  <a:pt x="8830" y="12477"/>
                </a:cubicBezTo>
              </a:path>
              <a:path w="2829" h="2134">
                <a:moveTo>
                  <a:pt x="8781" y="12378"/>
                </a:moveTo>
                <a:cubicBezTo>
                  <a:pt x="8731" y="12397"/>
                  <a:pt x="8644" y="12434"/>
                  <a:pt x="8607" y="12477"/>
                </a:cubicBezTo>
                <a:cubicBezTo>
                  <a:pt x="8571" y="12519"/>
                  <a:pt x="8537" y="12593"/>
                  <a:pt x="8558" y="12650"/>
                </a:cubicBezTo>
                <a:cubicBezTo>
                  <a:pt x="8589" y="12732"/>
                  <a:pt x="8655" y="12684"/>
                  <a:pt x="8706" y="12675"/>
                </a:cubicBezTo>
                <a:cubicBezTo>
                  <a:pt x="8743" y="12669"/>
                  <a:pt x="8832" y="12696"/>
                  <a:pt x="8855" y="12725"/>
                </a:cubicBezTo>
                <a:cubicBezTo>
                  <a:pt x="8888" y="12767"/>
                  <a:pt x="8953" y="12945"/>
                  <a:pt x="8880" y="12973"/>
                </a:cubicBezTo>
                <a:cubicBezTo>
                  <a:pt x="8808" y="13001"/>
                  <a:pt x="8780" y="12955"/>
                  <a:pt x="8731" y="12923"/>
                </a:cubicBezTo>
                <a:cubicBezTo>
                  <a:pt x="8696" y="12900"/>
                  <a:pt x="8668" y="12883"/>
                  <a:pt x="8632" y="12874"/>
                </a:cubicBezTo>
              </a:path>
              <a:path w="2829" h="2134">
                <a:moveTo>
                  <a:pt x="9252" y="13022"/>
                </a:moveTo>
                <a:cubicBezTo>
                  <a:pt x="9199" y="13042"/>
                  <a:pt x="9170" y="13047"/>
                  <a:pt x="9103" y="13047"/>
                </a:cubicBezTo>
                <a:cubicBezTo>
                  <a:pt x="8966" y="13047"/>
                  <a:pt x="8838" y="13034"/>
                  <a:pt x="8706" y="13022"/>
                </a:cubicBezTo>
                <a:cubicBezTo>
                  <a:pt x="8585" y="13011"/>
                  <a:pt x="8474" y="13036"/>
                  <a:pt x="8359" y="13047"/>
                </a:cubicBezTo>
                <a:cubicBezTo>
                  <a:pt x="8155" y="13066"/>
                  <a:pt x="7943" y="13045"/>
                  <a:pt x="7739" y="13072"/>
                </a:cubicBezTo>
                <a:cubicBezTo>
                  <a:pt x="7615" y="13089"/>
                  <a:pt x="7490" y="13131"/>
                  <a:pt x="7367" y="13146"/>
                </a:cubicBezTo>
                <a:cubicBezTo>
                  <a:pt x="7260" y="13159"/>
                  <a:pt x="7193" y="13199"/>
                  <a:pt x="7094" y="13221"/>
                </a:cubicBezTo>
                <a:cubicBezTo>
                  <a:pt x="7029" y="13236"/>
                  <a:pt x="6963" y="13257"/>
                  <a:pt x="6896" y="13271"/>
                </a:cubicBezTo>
                <a:cubicBezTo>
                  <a:pt x="6888" y="13271"/>
                  <a:pt x="6879" y="13271"/>
                  <a:pt x="6871" y="13271"/>
                </a:cubicBezTo>
              </a:path>
              <a:path w="2829" h="2134">
                <a:moveTo>
                  <a:pt x="6524" y="12129"/>
                </a:moveTo>
                <a:cubicBezTo>
                  <a:pt x="6610" y="12136"/>
                  <a:pt x="6685" y="12154"/>
                  <a:pt x="6772" y="12154"/>
                </a:cubicBezTo>
                <a:cubicBezTo>
                  <a:pt x="6813" y="12154"/>
                  <a:pt x="6821" y="12154"/>
                  <a:pt x="6846" y="12154"/>
                </a:cubicBezTo>
              </a:path>
              <a:path w="2829" h="2134">
                <a:moveTo>
                  <a:pt x="6697" y="11906"/>
                </a:moveTo>
                <a:cubicBezTo>
                  <a:pt x="6580" y="11913"/>
                  <a:pt x="6530" y="11901"/>
                  <a:pt x="6449" y="11981"/>
                </a:cubicBezTo>
                <a:cubicBezTo>
                  <a:pt x="6399" y="12029"/>
                  <a:pt x="6424" y="12098"/>
                  <a:pt x="6449" y="12154"/>
                </a:cubicBezTo>
                <a:cubicBezTo>
                  <a:pt x="6485" y="12234"/>
                  <a:pt x="6531" y="12231"/>
                  <a:pt x="6598" y="12254"/>
                </a:cubicBezTo>
                <a:cubicBezTo>
                  <a:pt x="6656" y="12274"/>
                  <a:pt x="6731" y="12295"/>
                  <a:pt x="6796" y="12278"/>
                </a:cubicBezTo>
                <a:cubicBezTo>
                  <a:pt x="6844" y="12265"/>
                  <a:pt x="6894" y="12197"/>
                  <a:pt x="6921" y="12154"/>
                </a:cubicBezTo>
                <a:cubicBezTo>
                  <a:pt x="6953" y="12103"/>
                  <a:pt x="6970" y="11980"/>
                  <a:pt x="6921" y="11931"/>
                </a:cubicBezTo>
                <a:cubicBezTo>
                  <a:pt x="6896" y="11931"/>
                  <a:pt x="6888" y="11931"/>
                  <a:pt x="6896" y="11956"/>
                </a:cubicBezTo>
              </a:path>
              <a:path w="2829" h="2134">
                <a:moveTo>
                  <a:pt x="8086" y="12154"/>
                </a:moveTo>
                <a:cubicBezTo>
                  <a:pt x="8167" y="12154"/>
                  <a:pt x="8232" y="12166"/>
                  <a:pt x="8310" y="12179"/>
                </a:cubicBezTo>
              </a:path>
              <a:path w="2829" h="2134">
                <a:moveTo>
                  <a:pt x="8210" y="11981"/>
                </a:moveTo>
                <a:cubicBezTo>
                  <a:pt x="8133" y="11981"/>
                  <a:pt x="8031" y="11963"/>
                  <a:pt x="7962" y="12005"/>
                </a:cubicBezTo>
                <a:cubicBezTo>
                  <a:pt x="7915" y="12034"/>
                  <a:pt x="7893" y="12153"/>
                  <a:pt x="7913" y="12204"/>
                </a:cubicBezTo>
                <a:cubicBezTo>
                  <a:pt x="7937" y="12267"/>
                  <a:pt x="7991" y="12312"/>
                  <a:pt x="8037" y="12353"/>
                </a:cubicBezTo>
                <a:cubicBezTo>
                  <a:pt x="8099" y="12408"/>
                  <a:pt x="8146" y="12447"/>
                  <a:pt x="8235" y="12427"/>
                </a:cubicBezTo>
                <a:cubicBezTo>
                  <a:pt x="8295" y="12414"/>
                  <a:pt x="8371" y="12373"/>
                  <a:pt x="8384" y="12303"/>
                </a:cubicBezTo>
                <a:cubicBezTo>
                  <a:pt x="8398" y="12227"/>
                  <a:pt x="8371" y="12165"/>
                  <a:pt x="8359" y="12105"/>
                </a:cubicBezTo>
                <a:cubicBezTo>
                  <a:pt x="8344" y="12033"/>
                  <a:pt x="8303" y="12001"/>
                  <a:pt x="8235" y="12055"/>
                </a:cubicBezTo>
                <a:cubicBezTo>
                  <a:pt x="8227" y="12063"/>
                  <a:pt x="8218" y="12072"/>
                  <a:pt x="8210" y="12080"/>
                </a:cubicBezTo>
              </a:path>
              <a:path w="2829" h="2134">
                <a:moveTo>
                  <a:pt x="8731" y="13419"/>
                </a:moveTo>
                <a:cubicBezTo>
                  <a:pt x="8691" y="13470"/>
                  <a:pt x="8667" y="13538"/>
                  <a:pt x="8657" y="13593"/>
                </a:cubicBezTo>
                <a:cubicBezTo>
                  <a:pt x="8642" y="13675"/>
                  <a:pt x="8670" y="13743"/>
                  <a:pt x="8682" y="13816"/>
                </a:cubicBezTo>
                <a:cubicBezTo>
                  <a:pt x="8697" y="13903"/>
                  <a:pt x="8727" y="13925"/>
                  <a:pt x="8781" y="13990"/>
                </a:cubicBezTo>
                <a:cubicBezTo>
                  <a:pt x="8829" y="14048"/>
                  <a:pt x="8896" y="14057"/>
                  <a:pt x="8954" y="14015"/>
                </a:cubicBezTo>
                <a:cubicBezTo>
                  <a:pt x="9013" y="13972"/>
                  <a:pt x="9065" y="13913"/>
                  <a:pt x="9079" y="13841"/>
                </a:cubicBezTo>
                <a:cubicBezTo>
                  <a:pt x="9091" y="13783"/>
                  <a:pt x="9134" y="13670"/>
                  <a:pt x="9128" y="13618"/>
                </a:cubicBezTo>
                <a:cubicBezTo>
                  <a:pt x="9123" y="13573"/>
                  <a:pt x="9091" y="13453"/>
                  <a:pt x="9054" y="13419"/>
                </a:cubicBezTo>
                <a:cubicBezTo>
                  <a:pt x="9007" y="13376"/>
                  <a:pt x="8916" y="13357"/>
                  <a:pt x="8855" y="13370"/>
                </a:cubicBezTo>
                <a:cubicBezTo>
                  <a:pt x="8753" y="13392"/>
                  <a:pt x="8703" y="13448"/>
                  <a:pt x="8632" y="135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3"/>
          <p:cNvSpPr/>
          <p:nvPr/>
        </p:nvSpPr>
        <p:spPr>
          <a:xfrm>
            <a:off x="5867280" y="2768760"/>
            <a:ext cx="258840" cy="401400"/>
          </a:xfrm>
          <a:custGeom>
            <a:avLst/>
            <a:gdLst/>
            <a:ahLst/>
            <a:rect l="l" t="t" r="r" b="b"/>
            <a:pathLst>
              <a:path w="720" h="1118">
                <a:moveTo>
                  <a:pt x="17016" y="7789"/>
                </a:moveTo>
                <a:cubicBezTo>
                  <a:pt x="16969" y="7742"/>
                  <a:pt x="16958" y="7742"/>
                  <a:pt x="16892" y="7739"/>
                </a:cubicBezTo>
                <a:cubicBezTo>
                  <a:pt x="16794" y="7735"/>
                  <a:pt x="16713" y="7754"/>
                  <a:pt x="16619" y="7764"/>
                </a:cubicBezTo>
                <a:cubicBezTo>
                  <a:pt x="16539" y="7773"/>
                  <a:pt x="16472" y="7794"/>
                  <a:pt x="16396" y="7838"/>
                </a:cubicBezTo>
                <a:cubicBezTo>
                  <a:pt x="16310" y="7888"/>
                  <a:pt x="16278" y="7905"/>
                  <a:pt x="16321" y="7987"/>
                </a:cubicBezTo>
                <a:cubicBezTo>
                  <a:pt x="16349" y="8040"/>
                  <a:pt x="16379" y="8069"/>
                  <a:pt x="16421" y="8111"/>
                </a:cubicBezTo>
                <a:cubicBezTo>
                  <a:pt x="16460" y="8150"/>
                  <a:pt x="16483" y="8195"/>
                  <a:pt x="16520" y="8235"/>
                </a:cubicBezTo>
                <a:cubicBezTo>
                  <a:pt x="16561" y="8281"/>
                  <a:pt x="16583" y="8335"/>
                  <a:pt x="16619" y="8384"/>
                </a:cubicBezTo>
                <a:cubicBezTo>
                  <a:pt x="16656" y="8433"/>
                  <a:pt x="16689" y="8479"/>
                  <a:pt x="16718" y="8533"/>
                </a:cubicBezTo>
                <a:cubicBezTo>
                  <a:pt x="16760" y="8612"/>
                  <a:pt x="16788" y="8612"/>
                  <a:pt x="16793" y="8706"/>
                </a:cubicBezTo>
                <a:cubicBezTo>
                  <a:pt x="16796" y="8758"/>
                  <a:pt x="16762" y="8829"/>
                  <a:pt x="16694" y="8806"/>
                </a:cubicBezTo>
                <a:cubicBezTo>
                  <a:pt x="16651" y="8792"/>
                  <a:pt x="16579" y="8732"/>
                  <a:pt x="16570" y="8682"/>
                </a:cubicBezTo>
                <a:cubicBezTo>
                  <a:pt x="16556" y="8602"/>
                  <a:pt x="16575" y="8508"/>
                  <a:pt x="16594" y="8434"/>
                </a:cubicBezTo>
                <a:cubicBezTo>
                  <a:pt x="16612" y="8366"/>
                  <a:pt x="16650" y="8267"/>
                  <a:pt x="16694" y="8210"/>
                </a:cubicBezTo>
                <a:cubicBezTo>
                  <a:pt x="16756" y="8130"/>
                  <a:pt x="16803" y="8043"/>
                  <a:pt x="16867" y="7962"/>
                </a:cubicBezTo>
                <a:cubicBezTo>
                  <a:pt x="16915" y="7901"/>
                  <a:pt x="16944" y="7826"/>
                  <a:pt x="16991" y="7764"/>
                </a:cubicBezTo>
                <a:cubicBezTo>
                  <a:pt x="17019" y="7736"/>
                  <a:pt x="17028" y="7722"/>
                  <a:pt x="17016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4"/>
          <p:cNvSpPr/>
          <p:nvPr/>
        </p:nvSpPr>
        <p:spPr>
          <a:xfrm>
            <a:off x="6912000" y="2759040"/>
            <a:ext cx="152280" cy="420840"/>
          </a:xfrm>
          <a:custGeom>
            <a:avLst/>
            <a:gdLst/>
            <a:ahLst/>
            <a:rect l="l" t="t" r="r" b="b"/>
            <a:pathLst>
              <a:path w="423" h="1166">
                <a:moveTo>
                  <a:pt x="19199" y="7789"/>
                </a:moveTo>
                <a:cubicBezTo>
                  <a:pt x="19218" y="7891"/>
                  <a:pt x="19224" y="7982"/>
                  <a:pt x="19224" y="8086"/>
                </a:cubicBezTo>
                <a:cubicBezTo>
                  <a:pt x="19224" y="8179"/>
                  <a:pt x="19203" y="8266"/>
                  <a:pt x="19199" y="8359"/>
                </a:cubicBezTo>
                <a:cubicBezTo>
                  <a:pt x="19197" y="8401"/>
                  <a:pt x="19178" y="8657"/>
                  <a:pt x="19224" y="8657"/>
                </a:cubicBezTo>
                <a:cubicBezTo>
                  <a:pt x="19232" y="8649"/>
                  <a:pt x="19240" y="8640"/>
                  <a:pt x="19248" y="8632"/>
                </a:cubicBezTo>
              </a:path>
              <a:path w="423" h="1166">
                <a:moveTo>
                  <a:pt x="19621" y="7665"/>
                </a:moveTo>
                <a:cubicBezTo>
                  <a:pt x="19595" y="7716"/>
                  <a:pt x="19574" y="7778"/>
                  <a:pt x="19571" y="7838"/>
                </a:cubicBezTo>
                <a:cubicBezTo>
                  <a:pt x="19564" y="7999"/>
                  <a:pt x="19578" y="8154"/>
                  <a:pt x="19596" y="8310"/>
                </a:cubicBezTo>
                <a:cubicBezTo>
                  <a:pt x="19609" y="8420"/>
                  <a:pt x="19612" y="8548"/>
                  <a:pt x="19621" y="8657"/>
                </a:cubicBezTo>
                <a:cubicBezTo>
                  <a:pt x="19625" y="8713"/>
                  <a:pt x="19621" y="8773"/>
                  <a:pt x="19621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5"/>
          <p:cNvSpPr/>
          <p:nvPr/>
        </p:nvSpPr>
        <p:spPr>
          <a:xfrm>
            <a:off x="7831080" y="2732040"/>
            <a:ext cx="233280" cy="465120"/>
          </a:xfrm>
          <a:custGeom>
            <a:avLst/>
            <a:gdLst/>
            <a:ahLst/>
            <a:rect l="l" t="t" r="r" b="b"/>
            <a:pathLst>
              <a:path w="646" h="1291">
                <a:moveTo>
                  <a:pt x="22101" y="7590"/>
                </a:moveTo>
                <a:cubicBezTo>
                  <a:pt x="22200" y="7590"/>
                  <a:pt x="22300" y="7590"/>
                  <a:pt x="22399" y="7590"/>
                </a:cubicBezTo>
              </a:path>
              <a:path w="646" h="1291">
                <a:moveTo>
                  <a:pt x="21903" y="7665"/>
                </a:moveTo>
                <a:cubicBezTo>
                  <a:pt x="21836" y="7738"/>
                  <a:pt x="21791" y="7790"/>
                  <a:pt x="21779" y="7888"/>
                </a:cubicBezTo>
                <a:cubicBezTo>
                  <a:pt x="21766" y="7992"/>
                  <a:pt x="21779" y="8105"/>
                  <a:pt x="21779" y="8210"/>
                </a:cubicBezTo>
                <a:cubicBezTo>
                  <a:pt x="21842" y="8192"/>
                  <a:pt x="21844" y="8128"/>
                  <a:pt x="21903" y="8111"/>
                </a:cubicBezTo>
                <a:cubicBezTo>
                  <a:pt x="21964" y="8093"/>
                  <a:pt x="22041" y="8087"/>
                  <a:pt x="22101" y="8111"/>
                </a:cubicBezTo>
                <a:cubicBezTo>
                  <a:pt x="22145" y="8129"/>
                  <a:pt x="22223" y="8201"/>
                  <a:pt x="22250" y="8235"/>
                </a:cubicBezTo>
                <a:cubicBezTo>
                  <a:pt x="22293" y="8288"/>
                  <a:pt x="22323" y="8393"/>
                  <a:pt x="22349" y="8458"/>
                </a:cubicBezTo>
                <a:cubicBezTo>
                  <a:pt x="22385" y="8549"/>
                  <a:pt x="22422" y="8611"/>
                  <a:pt x="22374" y="8706"/>
                </a:cubicBezTo>
                <a:cubicBezTo>
                  <a:pt x="22350" y="8753"/>
                  <a:pt x="22307" y="8817"/>
                  <a:pt x="22250" y="8830"/>
                </a:cubicBezTo>
                <a:cubicBezTo>
                  <a:pt x="22186" y="8845"/>
                  <a:pt x="22115" y="8869"/>
                  <a:pt x="22051" y="8880"/>
                </a:cubicBezTo>
                <a:cubicBezTo>
                  <a:pt x="21972" y="8893"/>
                  <a:pt x="21867" y="8889"/>
                  <a:pt x="21803" y="8855"/>
                </a:cubicBezTo>
                <a:cubicBezTo>
                  <a:pt x="21787" y="8847"/>
                  <a:pt x="21770" y="8838"/>
                  <a:pt x="21754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6"/>
          <p:cNvSpPr/>
          <p:nvPr/>
        </p:nvSpPr>
        <p:spPr>
          <a:xfrm>
            <a:off x="4705200" y="4116240"/>
            <a:ext cx="3527640" cy="44640"/>
          </a:xfrm>
          <a:custGeom>
            <a:avLst/>
            <a:gdLst/>
            <a:ahLst/>
            <a:rect l="l" t="t" r="r" b="b"/>
            <a:pathLst>
              <a:path w="9799" h="125">
                <a:moveTo>
                  <a:pt x="13122" y="11435"/>
                </a:moveTo>
                <a:cubicBezTo>
                  <a:pt x="13198" y="11454"/>
                  <a:pt x="13168" y="11476"/>
                  <a:pt x="13246" y="11485"/>
                </a:cubicBezTo>
                <a:cubicBezTo>
                  <a:pt x="13315" y="11493"/>
                  <a:pt x="13405" y="11505"/>
                  <a:pt x="13469" y="11509"/>
                </a:cubicBezTo>
                <a:cubicBezTo>
                  <a:pt x="13590" y="11517"/>
                  <a:pt x="13727" y="11529"/>
                  <a:pt x="13841" y="11534"/>
                </a:cubicBezTo>
                <a:cubicBezTo>
                  <a:pt x="15116" y="11592"/>
                  <a:pt x="16411" y="11559"/>
                  <a:pt x="17686" y="11559"/>
                </a:cubicBezTo>
                <a:cubicBezTo>
                  <a:pt x="17887" y="11559"/>
                  <a:pt x="18081" y="11538"/>
                  <a:pt x="18281" y="11534"/>
                </a:cubicBezTo>
                <a:cubicBezTo>
                  <a:pt x="19810" y="11506"/>
                  <a:pt x="21341" y="11534"/>
                  <a:pt x="22870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– 10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– 2x + 4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x + 3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Ink 5"/>
          <p:cNvSpPr/>
          <p:nvPr/>
        </p:nvSpPr>
        <p:spPr>
          <a:xfrm>
            <a:off x="1071720" y="1625760"/>
            <a:ext cx="634680" cy="463320"/>
          </a:xfrm>
          <a:custGeom>
            <a:avLst/>
            <a:gdLst/>
            <a:ahLst/>
            <a:rect l="l" t="t" r="r" b="b"/>
            <a:pathLst>
              <a:path w="1762" h="1291">
                <a:moveTo>
                  <a:pt x="2977" y="5060"/>
                </a:moveTo>
                <a:cubicBezTo>
                  <a:pt x="3036" y="5024"/>
                  <a:pt x="3101" y="5035"/>
                  <a:pt x="3175" y="5035"/>
                </a:cubicBezTo>
                <a:cubicBezTo>
                  <a:pt x="3263" y="5035"/>
                  <a:pt x="3333" y="5011"/>
                  <a:pt x="3423" y="5011"/>
                </a:cubicBezTo>
                <a:cubicBezTo>
                  <a:pt x="3486" y="5011"/>
                  <a:pt x="3516" y="5024"/>
                  <a:pt x="3572" y="5035"/>
                </a:cubicBezTo>
              </a:path>
              <a:path w="1762" h="1291">
                <a:moveTo>
                  <a:pt x="3746" y="4738"/>
                </a:moveTo>
                <a:cubicBezTo>
                  <a:pt x="3798" y="4692"/>
                  <a:pt x="3856" y="4651"/>
                  <a:pt x="3919" y="4638"/>
                </a:cubicBezTo>
                <a:cubicBezTo>
                  <a:pt x="3990" y="4624"/>
                  <a:pt x="4068" y="4667"/>
                  <a:pt x="4118" y="4713"/>
                </a:cubicBezTo>
                <a:cubicBezTo>
                  <a:pt x="4179" y="4769"/>
                  <a:pt x="4107" y="4838"/>
                  <a:pt x="4068" y="4887"/>
                </a:cubicBezTo>
                <a:cubicBezTo>
                  <a:pt x="4026" y="4939"/>
                  <a:pt x="3971" y="4970"/>
                  <a:pt x="3919" y="5011"/>
                </a:cubicBezTo>
                <a:cubicBezTo>
                  <a:pt x="3891" y="5038"/>
                  <a:pt x="3877" y="5046"/>
                  <a:pt x="3845" y="5035"/>
                </a:cubicBezTo>
                <a:cubicBezTo>
                  <a:pt x="3913" y="5010"/>
                  <a:pt x="3957" y="4995"/>
                  <a:pt x="4018" y="5035"/>
                </a:cubicBezTo>
                <a:cubicBezTo>
                  <a:pt x="4092" y="5083"/>
                  <a:pt x="4166" y="5147"/>
                  <a:pt x="4192" y="5234"/>
                </a:cubicBezTo>
                <a:cubicBezTo>
                  <a:pt x="4213" y="5304"/>
                  <a:pt x="4170" y="5387"/>
                  <a:pt x="4118" y="5432"/>
                </a:cubicBezTo>
                <a:cubicBezTo>
                  <a:pt x="4058" y="5485"/>
                  <a:pt x="3968" y="5503"/>
                  <a:pt x="3894" y="5507"/>
                </a:cubicBezTo>
                <a:cubicBezTo>
                  <a:pt x="3845" y="5509"/>
                  <a:pt x="3743" y="5519"/>
                  <a:pt x="3721" y="5457"/>
                </a:cubicBezTo>
                <a:cubicBezTo>
                  <a:pt x="3721" y="5416"/>
                  <a:pt x="3721" y="5408"/>
                  <a:pt x="3721" y="5383"/>
                </a:cubicBezTo>
              </a:path>
              <a:path w="1762" h="1291">
                <a:moveTo>
                  <a:pt x="4614" y="4514"/>
                </a:moveTo>
                <a:cubicBezTo>
                  <a:pt x="4614" y="4629"/>
                  <a:pt x="4624" y="4727"/>
                  <a:pt x="4638" y="4837"/>
                </a:cubicBezTo>
                <a:cubicBezTo>
                  <a:pt x="4652" y="4943"/>
                  <a:pt x="4650" y="5057"/>
                  <a:pt x="4663" y="5159"/>
                </a:cubicBezTo>
                <a:cubicBezTo>
                  <a:pt x="4675" y="5252"/>
                  <a:pt x="4673" y="5343"/>
                  <a:pt x="4688" y="5432"/>
                </a:cubicBezTo>
                <a:cubicBezTo>
                  <a:pt x="4699" y="5497"/>
                  <a:pt x="4694" y="5546"/>
                  <a:pt x="4713" y="5606"/>
                </a:cubicBezTo>
                <a:cubicBezTo>
                  <a:pt x="4737" y="5654"/>
                  <a:pt x="4746" y="5668"/>
                  <a:pt x="4738" y="5705"/>
                </a:cubicBezTo>
                <a:cubicBezTo>
                  <a:pt x="4673" y="5712"/>
                  <a:pt x="4636" y="5730"/>
                  <a:pt x="4564" y="5730"/>
                </a:cubicBezTo>
                <a:cubicBezTo>
                  <a:pt x="4458" y="5730"/>
                  <a:pt x="4368" y="5743"/>
                  <a:pt x="4266" y="5755"/>
                </a:cubicBezTo>
                <a:cubicBezTo>
                  <a:pt x="4143" y="5769"/>
                  <a:pt x="4015" y="5766"/>
                  <a:pt x="3894" y="5779"/>
                </a:cubicBezTo>
                <a:cubicBezTo>
                  <a:pt x="3768" y="5793"/>
                  <a:pt x="3646" y="5786"/>
                  <a:pt x="3522" y="5804"/>
                </a:cubicBezTo>
                <a:cubicBezTo>
                  <a:pt x="3443" y="5815"/>
                  <a:pt x="3354" y="5804"/>
                  <a:pt x="3274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2108160" y="1652760"/>
            <a:ext cx="7920" cy="384120"/>
          </a:xfrm>
          <a:custGeom>
            <a:avLst/>
            <a:gdLst/>
            <a:ahLst/>
            <a:rect l="l" t="t" r="r" b="b"/>
            <a:pathLst>
              <a:path w="26" h="1067">
                <a:moveTo>
                  <a:pt x="5854" y="4589"/>
                </a:moveTo>
                <a:cubicBezTo>
                  <a:pt x="5863" y="4653"/>
                  <a:pt x="5879" y="4691"/>
                  <a:pt x="5879" y="4762"/>
                </a:cubicBezTo>
                <a:cubicBezTo>
                  <a:pt x="5879" y="4947"/>
                  <a:pt x="5880" y="5128"/>
                  <a:pt x="5854" y="5308"/>
                </a:cubicBezTo>
                <a:cubicBezTo>
                  <a:pt x="5839" y="5414"/>
                  <a:pt x="5842" y="5558"/>
                  <a:pt x="5879" y="56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2840040" y="1633680"/>
            <a:ext cx="339840" cy="349200"/>
          </a:xfrm>
          <a:custGeom>
            <a:avLst/>
            <a:gdLst/>
            <a:ahLst/>
            <a:rect l="l" t="t" r="r" b="b"/>
            <a:pathLst>
              <a:path w="943" h="969">
                <a:moveTo>
                  <a:pt x="8186" y="4589"/>
                </a:moveTo>
                <a:cubicBezTo>
                  <a:pt x="8121" y="4626"/>
                  <a:pt x="8097" y="4646"/>
                  <a:pt x="8062" y="4713"/>
                </a:cubicBezTo>
                <a:cubicBezTo>
                  <a:pt x="8032" y="4769"/>
                  <a:pt x="8014" y="4812"/>
                  <a:pt x="7987" y="4862"/>
                </a:cubicBezTo>
                <a:cubicBezTo>
                  <a:pt x="7936" y="4956"/>
                  <a:pt x="7904" y="5059"/>
                  <a:pt x="7888" y="5159"/>
                </a:cubicBezTo>
                <a:cubicBezTo>
                  <a:pt x="7877" y="5227"/>
                  <a:pt x="7885" y="5303"/>
                  <a:pt x="7913" y="5358"/>
                </a:cubicBezTo>
                <a:cubicBezTo>
                  <a:pt x="7928" y="5388"/>
                  <a:pt x="7973" y="5471"/>
                  <a:pt x="8012" y="5482"/>
                </a:cubicBezTo>
                <a:cubicBezTo>
                  <a:pt x="8102" y="5508"/>
                  <a:pt x="8144" y="5495"/>
                  <a:pt x="8235" y="5482"/>
                </a:cubicBezTo>
                <a:cubicBezTo>
                  <a:pt x="8307" y="5472"/>
                  <a:pt x="8375" y="5464"/>
                  <a:pt x="8434" y="5432"/>
                </a:cubicBezTo>
                <a:cubicBezTo>
                  <a:pt x="8487" y="5403"/>
                  <a:pt x="8532" y="5363"/>
                  <a:pt x="8582" y="5333"/>
                </a:cubicBezTo>
                <a:cubicBezTo>
                  <a:pt x="8646" y="5294"/>
                  <a:pt x="8657" y="5264"/>
                  <a:pt x="8706" y="5209"/>
                </a:cubicBezTo>
                <a:cubicBezTo>
                  <a:pt x="8753" y="5156"/>
                  <a:pt x="8755" y="5112"/>
                  <a:pt x="8781" y="5060"/>
                </a:cubicBezTo>
                <a:cubicBezTo>
                  <a:pt x="8806" y="5009"/>
                  <a:pt x="8843" y="4927"/>
                  <a:pt x="8830" y="4862"/>
                </a:cubicBezTo>
                <a:cubicBezTo>
                  <a:pt x="8820" y="4813"/>
                  <a:pt x="8801" y="4728"/>
                  <a:pt x="8781" y="4688"/>
                </a:cubicBezTo>
                <a:cubicBezTo>
                  <a:pt x="8757" y="4641"/>
                  <a:pt x="8699" y="4589"/>
                  <a:pt x="8657" y="4564"/>
                </a:cubicBezTo>
                <a:cubicBezTo>
                  <a:pt x="8580" y="4518"/>
                  <a:pt x="8557" y="4560"/>
                  <a:pt x="8483" y="4564"/>
                </a:cubicBezTo>
                <a:cubicBezTo>
                  <a:pt x="8418" y="4568"/>
                  <a:pt x="8375" y="4599"/>
                  <a:pt x="8310" y="4614"/>
                </a:cubicBezTo>
                <a:cubicBezTo>
                  <a:pt x="8302" y="4614"/>
                  <a:pt x="8293" y="4614"/>
                  <a:pt x="8285" y="4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8"/>
          <p:cNvSpPr/>
          <p:nvPr/>
        </p:nvSpPr>
        <p:spPr>
          <a:xfrm>
            <a:off x="3803760" y="1660680"/>
            <a:ext cx="554040" cy="322200"/>
          </a:xfrm>
          <a:custGeom>
            <a:avLst/>
            <a:gdLst/>
            <a:ahLst/>
            <a:rect l="l" t="t" r="r" b="b"/>
            <a:pathLst>
              <a:path w="1539" h="894">
                <a:moveTo>
                  <a:pt x="10567" y="4961"/>
                </a:moveTo>
                <a:cubicBezTo>
                  <a:pt x="10696" y="4961"/>
                  <a:pt x="10908" y="4922"/>
                  <a:pt x="11013" y="4986"/>
                </a:cubicBezTo>
              </a:path>
              <a:path w="1539" h="894">
                <a:moveTo>
                  <a:pt x="11261" y="4614"/>
                </a:moveTo>
                <a:cubicBezTo>
                  <a:pt x="11228" y="4704"/>
                  <a:pt x="11237" y="4789"/>
                  <a:pt x="11237" y="4887"/>
                </a:cubicBezTo>
                <a:cubicBezTo>
                  <a:pt x="11237" y="5016"/>
                  <a:pt x="11232" y="5137"/>
                  <a:pt x="11212" y="5259"/>
                </a:cubicBezTo>
                <a:cubicBezTo>
                  <a:pt x="11200" y="5332"/>
                  <a:pt x="11175" y="5539"/>
                  <a:pt x="11237" y="5457"/>
                </a:cubicBezTo>
              </a:path>
              <a:path w="1539" h="894">
                <a:moveTo>
                  <a:pt x="11633" y="4713"/>
                </a:moveTo>
                <a:cubicBezTo>
                  <a:pt x="11622" y="4794"/>
                  <a:pt x="11588" y="4871"/>
                  <a:pt x="11584" y="4961"/>
                </a:cubicBezTo>
                <a:cubicBezTo>
                  <a:pt x="11578" y="5078"/>
                  <a:pt x="11575" y="5197"/>
                  <a:pt x="11609" y="5308"/>
                </a:cubicBezTo>
                <a:cubicBezTo>
                  <a:pt x="11628" y="5370"/>
                  <a:pt x="11664" y="5438"/>
                  <a:pt x="11733" y="5457"/>
                </a:cubicBezTo>
                <a:cubicBezTo>
                  <a:pt x="11840" y="5486"/>
                  <a:pt x="11889" y="5433"/>
                  <a:pt x="11956" y="5383"/>
                </a:cubicBezTo>
                <a:cubicBezTo>
                  <a:pt x="12011" y="5342"/>
                  <a:pt x="12063" y="5284"/>
                  <a:pt x="12080" y="5209"/>
                </a:cubicBezTo>
                <a:cubicBezTo>
                  <a:pt x="12104" y="5100"/>
                  <a:pt x="12119" y="4998"/>
                  <a:pt x="12080" y="4887"/>
                </a:cubicBezTo>
                <a:cubicBezTo>
                  <a:pt x="12049" y="4797"/>
                  <a:pt x="12055" y="4793"/>
                  <a:pt x="11981" y="4738"/>
                </a:cubicBezTo>
                <a:cubicBezTo>
                  <a:pt x="11923" y="4694"/>
                  <a:pt x="11909" y="4673"/>
                  <a:pt x="11832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9"/>
          <p:cNvSpPr/>
          <p:nvPr/>
        </p:nvSpPr>
        <p:spPr>
          <a:xfrm>
            <a:off x="4902120" y="1643040"/>
            <a:ext cx="428760" cy="357120"/>
          </a:xfrm>
          <a:custGeom>
            <a:avLst/>
            <a:gdLst/>
            <a:ahLst/>
            <a:rect l="l" t="t" r="r" b="b"/>
            <a:pathLst>
              <a:path w="1191" h="993">
                <a:moveTo>
                  <a:pt x="13618" y="4936"/>
                </a:moveTo>
                <a:cubicBezTo>
                  <a:pt x="13700" y="4936"/>
                  <a:pt x="13761" y="4957"/>
                  <a:pt x="13841" y="4961"/>
                </a:cubicBezTo>
                <a:cubicBezTo>
                  <a:pt x="13932" y="4965"/>
                  <a:pt x="14023" y="4961"/>
                  <a:pt x="14114" y="4961"/>
                </a:cubicBezTo>
              </a:path>
              <a:path w="1191" h="993">
                <a:moveTo>
                  <a:pt x="14213" y="4738"/>
                </a:moveTo>
                <a:cubicBezTo>
                  <a:pt x="14282" y="4669"/>
                  <a:pt x="14334" y="4605"/>
                  <a:pt x="14436" y="4589"/>
                </a:cubicBezTo>
                <a:cubicBezTo>
                  <a:pt x="14502" y="4579"/>
                  <a:pt x="14571" y="4560"/>
                  <a:pt x="14635" y="4589"/>
                </a:cubicBezTo>
                <a:cubicBezTo>
                  <a:pt x="14708" y="4623"/>
                  <a:pt x="14679" y="4683"/>
                  <a:pt x="14660" y="4738"/>
                </a:cubicBezTo>
                <a:cubicBezTo>
                  <a:pt x="14635" y="4811"/>
                  <a:pt x="14597" y="4848"/>
                  <a:pt x="14560" y="4911"/>
                </a:cubicBezTo>
                <a:cubicBezTo>
                  <a:pt x="14510" y="4996"/>
                  <a:pt x="14449" y="5083"/>
                  <a:pt x="14387" y="5159"/>
                </a:cubicBezTo>
                <a:cubicBezTo>
                  <a:pt x="14335" y="5223"/>
                  <a:pt x="14277" y="5266"/>
                  <a:pt x="14238" y="5333"/>
                </a:cubicBezTo>
                <a:cubicBezTo>
                  <a:pt x="14208" y="5385"/>
                  <a:pt x="14129" y="5452"/>
                  <a:pt x="14114" y="5507"/>
                </a:cubicBezTo>
                <a:cubicBezTo>
                  <a:pt x="14114" y="5523"/>
                  <a:pt x="14114" y="5540"/>
                  <a:pt x="14114" y="5556"/>
                </a:cubicBezTo>
                <a:cubicBezTo>
                  <a:pt x="14245" y="5556"/>
                  <a:pt x="14360" y="5549"/>
                  <a:pt x="14486" y="5531"/>
                </a:cubicBezTo>
                <a:cubicBezTo>
                  <a:pt x="14549" y="5522"/>
                  <a:pt x="14616" y="5556"/>
                  <a:pt x="14684" y="5556"/>
                </a:cubicBezTo>
                <a:cubicBezTo>
                  <a:pt x="14742" y="5556"/>
                  <a:pt x="14763" y="5559"/>
                  <a:pt x="14808" y="55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0"/>
          <p:cNvSpPr/>
          <p:nvPr/>
        </p:nvSpPr>
        <p:spPr>
          <a:xfrm>
            <a:off x="5867280" y="1608120"/>
            <a:ext cx="249480" cy="436680"/>
          </a:xfrm>
          <a:custGeom>
            <a:avLst/>
            <a:gdLst/>
            <a:ahLst/>
            <a:rect l="l" t="t" r="r" b="b"/>
            <a:pathLst>
              <a:path w="695" h="1216">
                <a:moveTo>
                  <a:pt x="16396" y="4564"/>
                </a:moveTo>
                <a:cubicBezTo>
                  <a:pt x="16413" y="4572"/>
                  <a:pt x="16429" y="4581"/>
                  <a:pt x="16446" y="4589"/>
                </a:cubicBezTo>
                <a:cubicBezTo>
                  <a:pt x="16414" y="4641"/>
                  <a:pt x="16421" y="4708"/>
                  <a:pt x="16396" y="4762"/>
                </a:cubicBezTo>
                <a:cubicBezTo>
                  <a:pt x="16371" y="4816"/>
                  <a:pt x="16344" y="4885"/>
                  <a:pt x="16321" y="4936"/>
                </a:cubicBezTo>
                <a:cubicBezTo>
                  <a:pt x="16297" y="4961"/>
                  <a:pt x="16289" y="4969"/>
                  <a:pt x="16321" y="4986"/>
                </a:cubicBezTo>
                <a:cubicBezTo>
                  <a:pt x="16404" y="4986"/>
                  <a:pt x="16465" y="4999"/>
                  <a:pt x="16545" y="5011"/>
                </a:cubicBezTo>
                <a:cubicBezTo>
                  <a:pt x="16619" y="5022"/>
                  <a:pt x="16673" y="4990"/>
                  <a:pt x="16743" y="4986"/>
                </a:cubicBezTo>
                <a:cubicBezTo>
                  <a:pt x="16814" y="4982"/>
                  <a:pt x="16858" y="4985"/>
                  <a:pt x="16917" y="4961"/>
                </a:cubicBezTo>
                <a:cubicBezTo>
                  <a:pt x="16942" y="4953"/>
                  <a:pt x="16966" y="4944"/>
                  <a:pt x="16991" y="4936"/>
                </a:cubicBezTo>
              </a:path>
              <a:path w="695" h="1216">
                <a:moveTo>
                  <a:pt x="16942" y="4465"/>
                </a:moveTo>
                <a:cubicBezTo>
                  <a:pt x="16942" y="4698"/>
                  <a:pt x="16948" y="4931"/>
                  <a:pt x="16917" y="5159"/>
                </a:cubicBezTo>
                <a:cubicBezTo>
                  <a:pt x="16907" y="5234"/>
                  <a:pt x="16896" y="5310"/>
                  <a:pt x="16892" y="5383"/>
                </a:cubicBezTo>
                <a:cubicBezTo>
                  <a:pt x="16888" y="5462"/>
                  <a:pt x="16867" y="5522"/>
                  <a:pt x="16867" y="5606"/>
                </a:cubicBezTo>
                <a:cubicBezTo>
                  <a:pt x="16867" y="5653"/>
                  <a:pt x="16913" y="5701"/>
                  <a:pt x="16867" y="56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1"/>
          <p:cNvSpPr/>
          <p:nvPr/>
        </p:nvSpPr>
        <p:spPr>
          <a:xfrm>
            <a:off x="5643720" y="2633760"/>
            <a:ext cx="393480" cy="1162080"/>
          </a:xfrm>
          <a:custGeom>
            <a:avLst/>
            <a:gdLst/>
            <a:ahLst/>
            <a:rect l="l" t="t" r="r" b="b"/>
            <a:pathLst>
              <a:path w="1092" h="3226">
                <a:moveTo>
                  <a:pt x="15677" y="7863"/>
                </a:moveTo>
                <a:cubicBezTo>
                  <a:pt x="15735" y="7863"/>
                  <a:pt x="15792" y="7863"/>
                  <a:pt x="15850" y="7863"/>
                </a:cubicBezTo>
              </a:path>
              <a:path w="1092" h="3226">
                <a:moveTo>
                  <a:pt x="16197" y="7541"/>
                </a:moveTo>
                <a:cubicBezTo>
                  <a:pt x="16229" y="7478"/>
                  <a:pt x="16266" y="7363"/>
                  <a:pt x="16346" y="7342"/>
                </a:cubicBezTo>
                <a:cubicBezTo>
                  <a:pt x="16424" y="7321"/>
                  <a:pt x="16441" y="7329"/>
                  <a:pt x="16520" y="7342"/>
                </a:cubicBezTo>
                <a:cubicBezTo>
                  <a:pt x="16559" y="7349"/>
                  <a:pt x="16629" y="7364"/>
                  <a:pt x="16644" y="7417"/>
                </a:cubicBezTo>
                <a:cubicBezTo>
                  <a:pt x="16661" y="7475"/>
                  <a:pt x="16643" y="7545"/>
                  <a:pt x="16619" y="7590"/>
                </a:cubicBezTo>
                <a:cubicBezTo>
                  <a:pt x="16591" y="7643"/>
                  <a:pt x="16562" y="7672"/>
                  <a:pt x="16520" y="7714"/>
                </a:cubicBezTo>
                <a:cubicBezTo>
                  <a:pt x="16495" y="7739"/>
                  <a:pt x="16470" y="7764"/>
                  <a:pt x="16446" y="7789"/>
                </a:cubicBezTo>
                <a:cubicBezTo>
                  <a:pt x="16487" y="7747"/>
                  <a:pt x="16580" y="7710"/>
                  <a:pt x="16644" y="7764"/>
                </a:cubicBezTo>
                <a:cubicBezTo>
                  <a:pt x="16677" y="7792"/>
                  <a:pt x="16759" y="7931"/>
                  <a:pt x="16768" y="7962"/>
                </a:cubicBezTo>
                <a:cubicBezTo>
                  <a:pt x="16786" y="8024"/>
                  <a:pt x="16772" y="8153"/>
                  <a:pt x="16743" y="8210"/>
                </a:cubicBezTo>
                <a:cubicBezTo>
                  <a:pt x="16710" y="8276"/>
                  <a:pt x="16644" y="8261"/>
                  <a:pt x="16594" y="8285"/>
                </a:cubicBezTo>
                <a:cubicBezTo>
                  <a:pt x="16525" y="8317"/>
                  <a:pt x="16500" y="8289"/>
                  <a:pt x="16421" y="8285"/>
                </a:cubicBezTo>
                <a:cubicBezTo>
                  <a:pt x="16357" y="8281"/>
                  <a:pt x="16323" y="8251"/>
                  <a:pt x="16272" y="8210"/>
                </a:cubicBezTo>
              </a:path>
              <a:path w="1092" h="3226">
                <a:moveTo>
                  <a:pt x="16520" y="9203"/>
                </a:moveTo>
                <a:cubicBezTo>
                  <a:pt x="16556" y="9262"/>
                  <a:pt x="16545" y="9327"/>
                  <a:pt x="16545" y="9401"/>
                </a:cubicBezTo>
                <a:cubicBezTo>
                  <a:pt x="16545" y="9689"/>
                  <a:pt x="16526" y="9990"/>
                  <a:pt x="16570" y="10269"/>
                </a:cubicBezTo>
                <a:cubicBezTo>
                  <a:pt x="16578" y="10318"/>
                  <a:pt x="16570" y="10611"/>
                  <a:pt x="16570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2"/>
          <p:cNvSpPr/>
          <p:nvPr/>
        </p:nvSpPr>
        <p:spPr>
          <a:xfrm>
            <a:off x="4929120" y="2581200"/>
            <a:ext cx="214560" cy="384120"/>
          </a:xfrm>
          <a:custGeom>
            <a:avLst/>
            <a:gdLst/>
            <a:ahLst/>
            <a:rect l="l" t="t" r="r" b="b"/>
            <a:pathLst>
              <a:path w="597" h="1067">
                <a:moveTo>
                  <a:pt x="13717" y="7417"/>
                </a:moveTo>
                <a:cubicBezTo>
                  <a:pt x="13784" y="7379"/>
                  <a:pt x="13789" y="7337"/>
                  <a:pt x="13841" y="7293"/>
                </a:cubicBezTo>
                <a:cubicBezTo>
                  <a:pt x="13919" y="7227"/>
                  <a:pt x="14094" y="7155"/>
                  <a:pt x="14188" y="7169"/>
                </a:cubicBezTo>
                <a:cubicBezTo>
                  <a:pt x="14252" y="7179"/>
                  <a:pt x="14261" y="7279"/>
                  <a:pt x="14263" y="7317"/>
                </a:cubicBezTo>
                <a:cubicBezTo>
                  <a:pt x="14267" y="7402"/>
                  <a:pt x="14217" y="7457"/>
                  <a:pt x="14163" y="7516"/>
                </a:cubicBezTo>
                <a:cubicBezTo>
                  <a:pt x="14111" y="7573"/>
                  <a:pt x="14058" y="7629"/>
                  <a:pt x="13990" y="7665"/>
                </a:cubicBezTo>
                <a:cubicBezTo>
                  <a:pt x="13946" y="7686"/>
                  <a:pt x="13935" y="7699"/>
                  <a:pt x="13915" y="7665"/>
                </a:cubicBezTo>
                <a:cubicBezTo>
                  <a:pt x="13988" y="7665"/>
                  <a:pt x="14052" y="7666"/>
                  <a:pt x="14114" y="7714"/>
                </a:cubicBezTo>
                <a:cubicBezTo>
                  <a:pt x="14178" y="7764"/>
                  <a:pt x="14232" y="7865"/>
                  <a:pt x="14263" y="7938"/>
                </a:cubicBezTo>
                <a:cubicBezTo>
                  <a:pt x="14295" y="8015"/>
                  <a:pt x="14298" y="8070"/>
                  <a:pt x="14263" y="8136"/>
                </a:cubicBezTo>
                <a:cubicBezTo>
                  <a:pt x="14210" y="8235"/>
                  <a:pt x="14130" y="8258"/>
                  <a:pt x="14015" y="8235"/>
                </a:cubicBezTo>
                <a:cubicBezTo>
                  <a:pt x="13918" y="8215"/>
                  <a:pt x="13855" y="8182"/>
                  <a:pt x="13767" y="8136"/>
                </a:cubicBezTo>
                <a:cubicBezTo>
                  <a:pt x="13717" y="8111"/>
                  <a:pt x="13701" y="8103"/>
                  <a:pt x="13692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3"/>
          <p:cNvSpPr/>
          <p:nvPr/>
        </p:nvSpPr>
        <p:spPr>
          <a:xfrm>
            <a:off x="5045040" y="3276720"/>
            <a:ext cx="19080" cy="482400"/>
          </a:xfrm>
          <a:custGeom>
            <a:avLst/>
            <a:gdLst/>
            <a:ahLst/>
            <a:rect l="l" t="t" r="r" b="b"/>
            <a:pathLst>
              <a:path w="50" h="1341">
                <a:moveTo>
                  <a:pt x="14039" y="9103"/>
                </a:moveTo>
                <a:cubicBezTo>
                  <a:pt x="14039" y="9519"/>
                  <a:pt x="13985" y="9998"/>
                  <a:pt x="14064" y="10393"/>
                </a:cubicBezTo>
                <a:cubicBezTo>
                  <a:pt x="14084" y="10492"/>
                  <a:pt x="14038" y="10417"/>
                  <a:pt x="14015" y="103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4"/>
          <p:cNvSpPr/>
          <p:nvPr/>
        </p:nvSpPr>
        <p:spPr>
          <a:xfrm>
            <a:off x="3751200" y="2500200"/>
            <a:ext cx="384120" cy="1214640"/>
          </a:xfrm>
          <a:custGeom>
            <a:avLst/>
            <a:gdLst/>
            <a:ahLst/>
            <a:rect l="l" t="t" r="r" b="b"/>
            <a:pathLst>
              <a:path w="1068" h="3375">
                <a:moveTo>
                  <a:pt x="11361" y="7367"/>
                </a:moveTo>
                <a:cubicBezTo>
                  <a:pt x="11383" y="7404"/>
                  <a:pt x="11388" y="7429"/>
                  <a:pt x="11410" y="7466"/>
                </a:cubicBezTo>
                <a:cubicBezTo>
                  <a:pt x="11410" y="7370"/>
                  <a:pt x="11422" y="7260"/>
                  <a:pt x="11385" y="7169"/>
                </a:cubicBezTo>
                <a:cubicBezTo>
                  <a:pt x="11370" y="7131"/>
                  <a:pt x="11313" y="6985"/>
                  <a:pt x="11261" y="6970"/>
                </a:cubicBezTo>
                <a:cubicBezTo>
                  <a:pt x="11199" y="6952"/>
                  <a:pt x="11151" y="6931"/>
                  <a:pt x="11088" y="6970"/>
                </a:cubicBezTo>
                <a:cubicBezTo>
                  <a:pt x="11013" y="7017"/>
                  <a:pt x="10988" y="7076"/>
                  <a:pt x="10964" y="7144"/>
                </a:cubicBezTo>
                <a:cubicBezTo>
                  <a:pt x="10935" y="7226"/>
                  <a:pt x="10914" y="7279"/>
                  <a:pt x="10914" y="7367"/>
                </a:cubicBezTo>
                <a:cubicBezTo>
                  <a:pt x="10914" y="7438"/>
                  <a:pt x="10941" y="7468"/>
                  <a:pt x="10988" y="7516"/>
                </a:cubicBezTo>
                <a:cubicBezTo>
                  <a:pt x="11048" y="7577"/>
                  <a:pt x="11129" y="7527"/>
                  <a:pt x="11187" y="7516"/>
                </a:cubicBezTo>
                <a:cubicBezTo>
                  <a:pt x="11271" y="7500"/>
                  <a:pt x="11259" y="7485"/>
                  <a:pt x="11311" y="7417"/>
                </a:cubicBezTo>
                <a:cubicBezTo>
                  <a:pt x="11346" y="7371"/>
                  <a:pt x="11382" y="7346"/>
                  <a:pt x="11410" y="7293"/>
                </a:cubicBezTo>
                <a:cubicBezTo>
                  <a:pt x="11418" y="7276"/>
                  <a:pt x="11427" y="7260"/>
                  <a:pt x="11435" y="7243"/>
                </a:cubicBezTo>
                <a:cubicBezTo>
                  <a:pt x="11435" y="7542"/>
                  <a:pt x="11467" y="7881"/>
                  <a:pt x="11410" y="8161"/>
                </a:cubicBezTo>
                <a:cubicBezTo>
                  <a:pt x="11410" y="8205"/>
                  <a:pt x="11413" y="8225"/>
                  <a:pt x="11385" y="8186"/>
                </a:cubicBezTo>
              </a:path>
              <a:path w="1068" h="3375">
                <a:moveTo>
                  <a:pt x="10418" y="9351"/>
                </a:moveTo>
                <a:cubicBezTo>
                  <a:pt x="10473" y="9384"/>
                  <a:pt x="10524" y="9376"/>
                  <a:pt x="10592" y="9376"/>
                </a:cubicBezTo>
                <a:cubicBezTo>
                  <a:pt x="10676" y="9376"/>
                  <a:pt x="10748" y="9396"/>
                  <a:pt x="10840" y="9401"/>
                </a:cubicBezTo>
              </a:path>
              <a:path w="1068" h="3375">
                <a:moveTo>
                  <a:pt x="11435" y="9054"/>
                </a:moveTo>
                <a:cubicBezTo>
                  <a:pt x="11399" y="9114"/>
                  <a:pt x="11410" y="9178"/>
                  <a:pt x="11410" y="9252"/>
                </a:cubicBezTo>
                <a:cubicBezTo>
                  <a:pt x="11410" y="9346"/>
                  <a:pt x="11435" y="9427"/>
                  <a:pt x="11435" y="9525"/>
                </a:cubicBezTo>
                <a:cubicBezTo>
                  <a:pt x="11435" y="9631"/>
                  <a:pt x="11456" y="9721"/>
                  <a:pt x="11460" y="9823"/>
                </a:cubicBezTo>
                <a:cubicBezTo>
                  <a:pt x="11463" y="9912"/>
                  <a:pt x="11480" y="9987"/>
                  <a:pt x="11485" y="10071"/>
                </a:cubicBezTo>
                <a:cubicBezTo>
                  <a:pt x="11489" y="10148"/>
                  <a:pt x="11507" y="10310"/>
                  <a:pt x="11460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5"/>
          <p:cNvSpPr/>
          <p:nvPr/>
        </p:nvSpPr>
        <p:spPr>
          <a:xfrm>
            <a:off x="2714760" y="2490840"/>
            <a:ext cx="420480" cy="420480"/>
          </a:xfrm>
          <a:custGeom>
            <a:avLst/>
            <a:gdLst/>
            <a:ahLst/>
            <a:rect l="l" t="t" r="r" b="b"/>
            <a:pathLst>
              <a:path w="1166" h="1166">
                <a:moveTo>
                  <a:pt x="7541" y="7392"/>
                </a:moveTo>
                <a:cubicBezTo>
                  <a:pt x="7624" y="7417"/>
                  <a:pt x="7700" y="7417"/>
                  <a:pt x="7789" y="7417"/>
                </a:cubicBezTo>
                <a:cubicBezTo>
                  <a:pt x="7859" y="7417"/>
                  <a:pt x="7893" y="7411"/>
                  <a:pt x="7962" y="7392"/>
                </a:cubicBezTo>
              </a:path>
              <a:path w="1166" h="1166">
                <a:moveTo>
                  <a:pt x="8210" y="7169"/>
                </a:moveTo>
                <a:cubicBezTo>
                  <a:pt x="8234" y="7104"/>
                  <a:pt x="8236" y="7049"/>
                  <a:pt x="8285" y="6995"/>
                </a:cubicBezTo>
                <a:cubicBezTo>
                  <a:pt x="8325" y="6950"/>
                  <a:pt x="8402" y="6923"/>
                  <a:pt x="8458" y="6921"/>
                </a:cubicBezTo>
                <a:cubicBezTo>
                  <a:pt x="8548" y="6917"/>
                  <a:pt x="8602" y="6929"/>
                  <a:pt x="8607" y="7020"/>
                </a:cubicBezTo>
                <a:cubicBezTo>
                  <a:pt x="8612" y="7106"/>
                  <a:pt x="8588" y="7120"/>
                  <a:pt x="8558" y="7193"/>
                </a:cubicBezTo>
                <a:cubicBezTo>
                  <a:pt x="8524" y="7276"/>
                  <a:pt x="8498" y="7303"/>
                  <a:pt x="8434" y="7367"/>
                </a:cubicBezTo>
                <a:cubicBezTo>
                  <a:pt x="8401" y="7400"/>
                  <a:pt x="8367" y="7433"/>
                  <a:pt x="8334" y="7466"/>
                </a:cubicBezTo>
                <a:cubicBezTo>
                  <a:pt x="8426" y="7449"/>
                  <a:pt x="8475" y="7457"/>
                  <a:pt x="8558" y="7516"/>
                </a:cubicBezTo>
                <a:cubicBezTo>
                  <a:pt x="8627" y="7564"/>
                  <a:pt x="8650" y="7617"/>
                  <a:pt x="8682" y="7689"/>
                </a:cubicBezTo>
                <a:cubicBezTo>
                  <a:pt x="8710" y="7752"/>
                  <a:pt x="8724" y="7844"/>
                  <a:pt x="8706" y="7913"/>
                </a:cubicBezTo>
                <a:cubicBezTo>
                  <a:pt x="8684" y="8000"/>
                  <a:pt x="8632" y="8026"/>
                  <a:pt x="8558" y="8062"/>
                </a:cubicBezTo>
                <a:cubicBezTo>
                  <a:pt x="8486" y="8097"/>
                  <a:pt x="8413" y="8086"/>
                  <a:pt x="8334" y="8086"/>
                </a:cubicBezTo>
                <a:cubicBezTo>
                  <a:pt x="8264" y="8086"/>
                  <a:pt x="8166" y="8092"/>
                  <a:pt x="8111" y="8037"/>
                </a:cubicBezTo>
                <a:cubicBezTo>
                  <a:pt x="8045" y="7971"/>
                  <a:pt x="8017" y="7877"/>
                  <a:pt x="7987" y="77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6"/>
          <p:cNvSpPr/>
          <p:nvPr/>
        </p:nvSpPr>
        <p:spPr>
          <a:xfrm>
            <a:off x="2652840" y="3232080"/>
            <a:ext cx="4363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7367" y="9351"/>
                </a:moveTo>
                <a:cubicBezTo>
                  <a:pt x="7470" y="9360"/>
                  <a:pt x="7559" y="9376"/>
                  <a:pt x="7665" y="9376"/>
                </a:cubicBezTo>
                <a:cubicBezTo>
                  <a:pt x="7723" y="9376"/>
                  <a:pt x="7780" y="9376"/>
                  <a:pt x="7838" y="9376"/>
                </a:cubicBezTo>
              </a:path>
              <a:path w="1216" h="1167">
                <a:moveTo>
                  <a:pt x="7987" y="9153"/>
                </a:moveTo>
                <a:cubicBezTo>
                  <a:pt x="8021" y="9094"/>
                  <a:pt x="8053" y="9064"/>
                  <a:pt x="8111" y="9029"/>
                </a:cubicBezTo>
                <a:cubicBezTo>
                  <a:pt x="8151" y="9005"/>
                  <a:pt x="8265" y="8968"/>
                  <a:pt x="8310" y="8979"/>
                </a:cubicBezTo>
                <a:cubicBezTo>
                  <a:pt x="8379" y="8995"/>
                  <a:pt x="8452" y="9048"/>
                  <a:pt x="8434" y="9128"/>
                </a:cubicBezTo>
                <a:cubicBezTo>
                  <a:pt x="8421" y="9187"/>
                  <a:pt x="8370" y="9283"/>
                  <a:pt x="8334" y="9327"/>
                </a:cubicBezTo>
                <a:cubicBezTo>
                  <a:pt x="8301" y="9367"/>
                  <a:pt x="8248" y="9388"/>
                  <a:pt x="8210" y="9426"/>
                </a:cubicBezTo>
                <a:cubicBezTo>
                  <a:pt x="8283" y="9451"/>
                  <a:pt x="8349" y="9446"/>
                  <a:pt x="8409" y="9500"/>
                </a:cubicBezTo>
                <a:cubicBezTo>
                  <a:pt x="8457" y="9543"/>
                  <a:pt x="8479" y="9592"/>
                  <a:pt x="8508" y="9649"/>
                </a:cubicBezTo>
                <a:cubicBezTo>
                  <a:pt x="8539" y="9710"/>
                  <a:pt x="8571" y="9754"/>
                  <a:pt x="8582" y="9823"/>
                </a:cubicBezTo>
                <a:cubicBezTo>
                  <a:pt x="8591" y="9881"/>
                  <a:pt x="8557" y="9951"/>
                  <a:pt x="8533" y="9996"/>
                </a:cubicBezTo>
                <a:cubicBezTo>
                  <a:pt x="8496" y="10066"/>
                  <a:pt x="8459" y="10091"/>
                  <a:pt x="8384" y="10120"/>
                </a:cubicBezTo>
                <a:cubicBezTo>
                  <a:pt x="8317" y="10146"/>
                  <a:pt x="8230" y="10135"/>
                  <a:pt x="8161" y="10096"/>
                </a:cubicBezTo>
                <a:cubicBezTo>
                  <a:pt x="8116" y="10070"/>
                  <a:pt x="8074" y="10008"/>
                  <a:pt x="8037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7"/>
          <p:cNvSpPr/>
          <p:nvPr/>
        </p:nvSpPr>
        <p:spPr>
          <a:xfrm>
            <a:off x="1785960" y="3956040"/>
            <a:ext cx="3965400" cy="955800"/>
          </a:xfrm>
          <a:custGeom>
            <a:avLst/>
            <a:gdLst/>
            <a:ahLst/>
            <a:rect l="l" t="t" r="r" b="b"/>
            <a:pathLst>
              <a:path w="11014" h="2656">
                <a:moveTo>
                  <a:pt x="5209" y="11435"/>
                </a:moveTo>
                <a:cubicBezTo>
                  <a:pt x="5248" y="11483"/>
                  <a:pt x="5297" y="11534"/>
                  <a:pt x="5333" y="11584"/>
                </a:cubicBezTo>
                <a:cubicBezTo>
                  <a:pt x="5387" y="11660"/>
                  <a:pt x="5451" y="11732"/>
                  <a:pt x="5507" y="11807"/>
                </a:cubicBezTo>
                <a:cubicBezTo>
                  <a:pt x="5582" y="11907"/>
                  <a:pt x="5654" y="12007"/>
                  <a:pt x="5730" y="12105"/>
                </a:cubicBezTo>
                <a:cubicBezTo>
                  <a:pt x="5798" y="12193"/>
                  <a:pt x="5861" y="12289"/>
                  <a:pt x="5928" y="12378"/>
                </a:cubicBezTo>
                <a:cubicBezTo>
                  <a:pt x="5975" y="12440"/>
                  <a:pt x="6013" y="12509"/>
                  <a:pt x="6077" y="12477"/>
                </a:cubicBezTo>
              </a:path>
              <a:path w="11014" h="2656">
                <a:moveTo>
                  <a:pt x="5804" y="11485"/>
                </a:moveTo>
                <a:cubicBezTo>
                  <a:pt x="5741" y="11594"/>
                  <a:pt x="5683" y="11717"/>
                  <a:pt x="5631" y="11832"/>
                </a:cubicBezTo>
                <a:cubicBezTo>
                  <a:pt x="5580" y="11944"/>
                  <a:pt x="5559" y="12067"/>
                  <a:pt x="5507" y="12179"/>
                </a:cubicBezTo>
                <a:cubicBezTo>
                  <a:pt x="5494" y="12207"/>
                  <a:pt x="5453" y="12335"/>
                  <a:pt x="5457" y="12353"/>
                </a:cubicBezTo>
                <a:cubicBezTo>
                  <a:pt x="5480" y="12376"/>
                  <a:pt x="5488" y="12387"/>
                  <a:pt x="5482" y="12353"/>
                </a:cubicBezTo>
              </a:path>
              <a:path w="11014" h="2656">
                <a:moveTo>
                  <a:pt x="5928" y="11013"/>
                </a:moveTo>
                <a:cubicBezTo>
                  <a:pt x="5996" y="10998"/>
                  <a:pt x="6068" y="10991"/>
                  <a:pt x="6127" y="11038"/>
                </a:cubicBezTo>
                <a:cubicBezTo>
                  <a:pt x="6177" y="11078"/>
                  <a:pt x="6193" y="11110"/>
                  <a:pt x="6152" y="11162"/>
                </a:cubicBezTo>
                <a:cubicBezTo>
                  <a:pt x="6116" y="11208"/>
                  <a:pt x="6107" y="11204"/>
                  <a:pt x="6052" y="11212"/>
                </a:cubicBezTo>
                <a:cubicBezTo>
                  <a:pt x="6098" y="11291"/>
                  <a:pt x="6116" y="11262"/>
                  <a:pt x="6176" y="11311"/>
                </a:cubicBezTo>
                <a:cubicBezTo>
                  <a:pt x="6232" y="11356"/>
                  <a:pt x="6224" y="11382"/>
                  <a:pt x="6251" y="11435"/>
                </a:cubicBezTo>
                <a:cubicBezTo>
                  <a:pt x="6288" y="11508"/>
                  <a:pt x="6173" y="11521"/>
                  <a:pt x="6102" y="11509"/>
                </a:cubicBezTo>
                <a:cubicBezTo>
                  <a:pt x="6052" y="11500"/>
                  <a:pt x="5976" y="11453"/>
                  <a:pt x="5928" y="11435"/>
                </a:cubicBezTo>
              </a:path>
              <a:path w="11014" h="2656">
                <a:moveTo>
                  <a:pt x="4961" y="11435"/>
                </a:moveTo>
                <a:cubicBezTo>
                  <a:pt x="4989" y="11490"/>
                  <a:pt x="5007" y="11565"/>
                  <a:pt x="5011" y="11633"/>
                </a:cubicBezTo>
                <a:cubicBezTo>
                  <a:pt x="5018" y="11763"/>
                  <a:pt x="5000" y="11912"/>
                  <a:pt x="5011" y="12030"/>
                </a:cubicBezTo>
                <a:cubicBezTo>
                  <a:pt x="5019" y="12114"/>
                  <a:pt x="5035" y="12189"/>
                  <a:pt x="5035" y="12278"/>
                </a:cubicBezTo>
                <a:cubicBezTo>
                  <a:pt x="5035" y="12345"/>
                  <a:pt x="5049" y="12398"/>
                  <a:pt x="5060" y="12452"/>
                </a:cubicBezTo>
                <a:cubicBezTo>
                  <a:pt x="5060" y="12494"/>
                  <a:pt x="5060" y="12519"/>
                  <a:pt x="5060" y="12477"/>
                </a:cubicBezTo>
              </a:path>
              <a:path w="11014" h="2656">
                <a:moveTo>
                  <a:pt x="6350" y="11931"/>
                </a:moveTo>
                <a:cubicBezTo>
                  <a:pt x="6404" y="11967"/>
                  <a:pt x="6483" y="11997"/>
                  <a:pt x="6548" y="12005"/>
                </a:cubicBezTo>
                <a:cubicBezTo>
                  <a:pt x="6614" y="12005"/>
                  <a:pt x="6631" y="12005"/>
                  <a:pt x="6672" y="12005"/>
                </a:cubicBezTo>
              </a:path>
              <a:path w="11014" h="2656">
                <a:moveTo>
                  <a:pt x="7094" y="11609"/>
                </a:moveTo>
                <a:cubicBezTo>
                  <a:pt x="7146" y="11536"/>
                  <a:pt x="7195" y="11515"/>
                  <a:pt x="7293" y="11534"/>
                </a:cubicBezTo>
                <a:cubicBezTo>
                  <a:pt x="7325" y="11540"/>
                  <a:pt x="7431" y="11586"/>
                  <a:pt x="7441" y="11633"/>
                </a:cubicBezTo>
                <a:cubicBezTo>
                  <a:pt x="7458" y="11716"/>
                  <a:pt x="7415" y="11764"/>
                  <a:pt x="7367" y="11807"/>
                </a:cubicBezTo>
                <a:cubicBezTo>
                  <a:pt x="7321" y="11848"/>
                  <a:pt x="7267" y="11870"/>
                  <a:pt x="7218" y="11906"/>
                </a:cubicBezTo>
                <a:cubicBezTo>
                  <a:pt x="7166" y="11945"/>
                  <a:pt x="7189" y="11946"/>
                  <a:pt x="7119" y="11956"/>
                </a:cubicBezTo>
                <a:cubicBezTo>
                  <a:pt x="7192" y="11956"/>
                  <a:pt x="7274" y="11962"/>
                  <a:pt x="7342" y="11981"/>
                </a:cubicBezTo>
                <a:cubicBezTo>
                  <a:pt x="7427" y="12005"/>
                  <a:pt x="7487" y="12094"/>
                  <a:pt x="7541" y="12154"/>
                </a:cubicBezTo>
                <a:cubicBezTo>
                  <a:pt x="7599" y="12219"/>
                  <a:pt x="7669" y="12316"/>
                  <a:pt x="7689" y="12402"/>
                </a:cubicBezTo>
                <a:cubicBezTo>
                  <a:pt x="7709" y="12490"/>
                  <a:pt x="7676" y="12566"/>
                  <a:pt x="7590" y="12601"/>
                </a:cubicBezTo>
                <a:cubicBezTo>
                  <a:pt x="7527" y="12626"/>
                  <a:pt x="7402" y="12599"/>
                  <a:pt x="7342" y="12576"/>
                </a:cubicBezTo>
                <a:cubicBezTo>
                  <a:pt x="7283" y="12553"/>
                  <a:pt x="7237" y="12521"/>
                  <a:pt x="7193" y="12477"/>
                </a:cubicBezTo>
                <a:cubicBezTo>
                  <a:pt x="7165" y="12448"/>
                  <a:pt x="7157" y="12435"/>
                  <a:pt x="7169" y="12402"/>
                </a:cubicBezTo>
              </a:path>
              <a:path w="11014" h="2656">
                <a:moveTo>
                  <a:pt x="7888" y="11981"/>
                </a:moveTo>
                <a:cubicBezTo>
                  <a:pt x="7937" y="12085"/>
                  <a:pt x="7975" y="12182"/>
                  <a:pt x="8037" y="12278"/>
                </a:cubicBezTo>
                <a:cubicBezTo>
                  <a:pt x="8106" y="12384"/>
                  <a:pt x="8187" y="12474"/>
                  <a:pt x="8260" y="12576"/>
                </a:cubicBezTo>
                <a:cubicBezTo>
                  <a:pt x="8329" y="12673"/>
                  <a:pt x="8388" y="12707"/>
                  <a:pt x="8483" y="12774"/>
                </a:cubicBezTo>
                <a:cubicBezTo>
                  <a:pt x="8506" y="12797"/>
                  <a:pt x="8510" y="12805"/>
                  <a:pt x="8533" y="12799"/>
                </a:cubicBezTo>
              </a:path>
              <a:path w="11014" h="2656">
                <a:moveTo>
                  <a:pt x="8235" y="11857"/>
                </a:moveTo>
                <a:cubicBezTo>
                  <a:pt x="8197" y="11922"/>
                  <a:pt x="8163" y="11983"/>
                  <a:pt x="8136" y="12055"/>
                </a:cubicBezTo>
                <a:cubicBezTo>
                  <a:pt x="8102" y="12146"/>
                  <a:pt x="8068" y="12236"/>
                  <a:pt x="8037" y="12328"/>
                </a:cubicBezTo>
                <a:cubicBezTo>
                  <a:pt x="8008" y="12414"/>
                  <a:pt x="7978" y="12495"/>
                  <a:pt x="7938" y="12576"/>
                </a:cubicBezTo>
                <a:cubicBezTo>
                  <a:pt x="7917" y="12619"/>
                  <a:pt x="7897" y="12655"/>
                  <a:pt x="7888" y="12700"/>
                </a:cubicBezTo>
              </a:path>
              <a:path w="11014" h="2656">
                <a:moveTo>
                  <a:pt x="8310" y="11336"/>
                </a:moveTo>
                <a:cubicBezTo>
                  <a:pt x="8379" y="11275"/>
                  <a:pt x="8402" y="11243"/>
                  <a:pt x="8483" y="11286"/>
                </a:cubicBezTo>
                <a:cubicBezTo>
                  <a:pt x="8541" y="11317"/>
                  <a:pt x="8598" y="11385"/>
                  <a:pt x="8582" y="11460"/>
                </a:cubicBezTo>
                <a:cubicBezTo>
                  <a:pt x="8565" y="11539"/>
                  <a:pt x="8511" y="11588"/>
                  <a:pt x="8458" y="11633"/>
                </a:cubicBezTo>
                <a:cubicBezTo>
                  <a:pt x="8450" y="11641"/>
                  <a:pt x="8442" y="11650"/>
                  <a:pt x="8434" y="11658"/>
                </a:cubicBezTo>
                <a:cubicBezTo>
                  <a:pt x="8493" y="11694"/>
                  <a:pt x="8558" y="11683"/>
                  <a:pt x="8632" y="11683"/>
                </a:cubicBezTo>
                <a:cubicBezTo>
                  <a:pt x="8706" y="11683"/>
                  <a:pt x="8781" y="11683"/>
                  <a:pt x="8855" y="11683"/>
                </a:cubicBezTo>
              </a:path>
              <a:path w="11014" h="2656">
                <a:moveTo>
                  <a:pt x="8682" y="12204"/>
                </a:moveTo>
                <a:cubicBezTo>
                  <a:pt x="8764" y="12204"/>
                  <a:pt x="8824" y="12226"/>
                  <a:pt x="8905" y="12229"/>
                </a:cubicBezTo>
                <a:cubicBezTo>
                  <a:pt x="9004" y="12233"/>
                  <a:pt x="9104" y="12229"/>
                  <a:pt x="9203" y="12229"/>
                </a:cubicBezTo>
              </a:path>
              <a:path w="11014" h="2656">
                <a:moveTo>
                  <a:pt x="9748" y="11509"/>
                </a:moveTo>
                <a:cubicBezTo>
                  <a:pt x="9804" y="11579"/>
                  <a:pt x="9798" y="11619"/>
                  <a:pt x="9798" y="11708"/>
                </a:cubicBezTo>
                <a:cubicBezTo>
                  <a:pt x="9798" y="12044"/>
                  <a:pt x="9771" y="12400"/>
                  <a:pt x="9823" y="12725"/>
                </a:cubicBezTo>
                <a:cubicBezTo>
                  <a:pt x="9832" y="12782"/>
                  <a:pt x="9808" y="12797"/>
                  <a:pt x="9847" y="12824"/>
                </a:cubicBezTo>
              </a:path>
              <a:path w="11014" h="2656">
                <a:moveTo>
                  <a:pt x="10269" y="12055"/>
                </a:moveTo>
                <a:cubicBezTo>
                  <a:pt x="10316" y="12167"/>
                  <a:pt x="10352" y="12257"/>
                  <a:pt x="10418" y="12353"/>
                </a:cubicBezTo>
                <a:cubicBezTo>
                  <a:pt x="10527" y="12512"/>
                  <a:pt x="10613" y="12682"/>
                  <a:pt x="10740" y="12824"/>
                </a:cubicBezTo>
                <a:cubicBezTo>
                  <a:pt x="10793" y="12883"/>
                  <a:pt x="10908" y="13023"/>
                  <a:pt x="10988" y="13047"/>
                </a:cubicBezTo>
                <a:cubicBezTo>
                  <a:pt x="11013" y="13047"/>
                  <a:pt x="11038" y="13047"/>
                  <a:pt x="11063" y="13047"/>
                </a:cubicBezTo>
              </a:path>
              <a:path w="11014" h="2656">
                <a:moveTo>
                  <a:pt x="10740" y="11906"/>
                </a:moveTo>
                <a:cubicBezTo>
                  <a:pt x="10635" y="12034"/>
                  <a:pt x="10615" y="12137"/>
                  <a:pt x="10542" y="12278"/>
                </a:cubicBezTo>
                <a:cubicBezTo>
                  <a:pt x="10490" y="12378"/>
                  <a:pt x="10441" y="12474"/>
                  <a:pt x="10393" y="12576"/>
                </a:cubicBezTo>
                <a:cubicBezTo>
                  <a:pt x="10345" y="12679"/>
                  <a:pt x="10320" y="12798"/>
                  <a:pt x="10269" y="12898"/>
                </a:cubicBezTo>
                <a:cubicBezTo>
                  <a:pt x="10223" y="12969"/>
                  <a:pt x="10207" y="12988"/>
                  <a:pt x="10220" y="13047"/>
                </a:cubicBezTo>
              </a:path>
              <a:path w="11014" h="2656">
                <a:moveTo>
                  <a:pt x="11509" y="12105"/>
                </a:moveTo>
                <a:cubicBezTo>
                  <a:pt x="11509" y="12203"/>
                  <a:pt x="11520" y="12283"/>
                  <a:pt x="11534" y="12378"/>
                </a:cubicBezTo>
                <a:cubicBezTo>
                  <a:pt x="11546" y="12463"/>
                  <a:pt x="11557" y="12545"/>
                  <a:pt x="11584" y="12626"/>
                </a:cubicBezTo>
                <a:cubicBezTo>
                  <a:pt x="11607" y="12693"/>
                  <a:pt x="11640" y="12765"/>
                  <a:pt x="11658" y="12824"/>
                </a:cubicBezTo>
                <a:cubicBezTo>
                  <a:pt x="11658" y="12832"/>
                  <a:pt x="11658" y="12841"/>
                  <a:pt x="11658" y="12849"/>
                </a:cubicBezTo>
              </a:path>
              <a:path w="11014" h="2656">
                <a:moveTo>
                  <a:pt x="11336" y="12452"/>
                </a:moveTo>
                <a:cubicBezTo>
                  <a:pt x="11453" y="12427"/>
                  <a:pt x="11496" y="12447"/>
                  <a:pt x="11609" y="12452"/>
                </a:cubicBezTo>
                <a:cubicBezTo>
                  <a:pt x="11683" y="12452"/>
                  <a:pt x="11708" y="12452"/>
                  <a:pt x="11757" y="12452"/>
                </a:cubicBezTo>
              </a:path>
              <a:path w="11014" h="2656">
                <a:moveTo>
                  <a:pt x="12353" y="12030"/>
                </a:moveTo>
                <a:cubicBezTo>
                  <a:pt x="12358" y="12160"/>
                  <a:pt x="12358" y="12298"/>
                  <a:pt x="12378" y="12427"/>
                </a:cubicBezTo>
                <a:cubicBezTo>
                  <a:pt x="12396" y="12545"/>
                  <a:pt x="12439" y="12657"/>
                  <a:pt x="12452" y="12774"/>
                </a:cubicBezTo>
                <a:cubicBezTo>
                  <a:pt x="12462" y="12868"/>
                  <a:pt x="12488" y="12958"/>
                  <a:pt x="12502" y="13047"/>
                </a:cubicBezTo>
                <a:cubicBezTo>
                  <a:pt x="12509" y="13093"/>
                  <a:pt x="12502" y="13149"/>
                  <a:pt x="12502" y="13196"/>
                </a:cubicBezTo>
              </a:path>
              <a:path w="11014" h="2656">
                <a:moveTo>
                  <a:pt x="13221" y="12254"/>
                </a:moveTo>
                <a:cubicBezTo>
                  <a:pt x="13227" y="12363"/>
                  <a:pt x="13258" y="12451"/>
                  <a:pt x="13271" y="12551"/>
                </a:cubicBezTo>
                <a:cubicBezTo>
                  <a:pt x="13282" y="12633"/>
                  <a:pt x="13295" y="12747"/>
                  <a:pt x="13320" y="12824"/>
                </a:cubicBezTo>
                <a:cubicBezTo>
                  <a:pt x="13328" y="12832"/>
                  <a:pt x="13337" y="12841"/>
                  <a:pt x="13345" y="12849"/>
                </a:cubicBezTo>
              </a:path>
              <a:path w="11014" h="2656">
                <a:moveTo>
                  <a:pt x="13022" y="12477"/>
                </a:moveTo>
                <a:cubicBezTo>
                  <a:pt x="13075" y="12424"/>
                  <a:pt x="13095" y="12427"/>
                  <a:pt x="13171" y="12427"/>
                </a:cubicBezTo>
                <a:cubicBezTo>
                  <a:pt x="13252" y="12427"/>
                  <a:pt x="13313" y="12452"/>
                  <a:pt x="13395" y="12452"/>
                </a:cubicBezTo>
                <a:cubicBezTo>
                  <a:pt x="13468" y="12452"/>
                  <a:pt x="13567" y="12486"/>
                  <a:pt x="13593" y="12402"/>
                </a:cubicBezTo>
                <a:cubicBezTo>
                  <a:pt x="13603" y="12370"/>
                  <a:pt x="13592" y="12306"/>
                  <a:pt x="13568" y="12353"/>
                </a:cubicBezTo>
              </a:path>
              <a:path w="11014" h="2656">
                <a:moveTo>
                  <a:pt x="14585" y="11485"/>
                </a:moveTo>
                <a:cubicBezTo>
                  <a:pt x="14585" y="11623"/>
                  <a:pt x="14595" y="11745"/>
                  <a:pt x="14610" y="11881"/>
                </a:cubicBezTo>
                <a:cubicBezTo>
                  <a:pt x="14618" y="11957"/>
                  <a:pt x="14616" y="12032"/>
                  <a:pt x="14635" y="12105"/>
                </a:cubicBezTo>
                <a:cubicBezTo>
                  <a:pt x="14650" y="12166"/>
                  <a:pt x="14660" y="12193"/>
                  <a:pt x="14660" y="12254"/>
                </a:cubicBezTo>
              </a:path>
              <a:path w="11014" h="2656">
                <a:moveTo>
                  <a:pt x="14288" y="12477"/>
                </a:moveTo>
                <a:cubicBezTo>
                  <a:pt x="14359" y="12441"/>
                  <a:pt x="14435" y="12412"/>
                  <a:pt x="14511" y="12402"/>
                </a:cubicBezTo>
                <a:cubicBezTo>
                  <a:pt x="14608" y="12390"/>
                  <a:pt x="14711" y="12381"/>
                  <a:pt x="14808" y="12378"/>
                </a:cubicBezTo>
                <a:cubicBezTo>
                  <a:pt x="14927" y="12374"/>
                  <a:pt x="15038" y="12340"/>
                  <a:pt x="15156" y="12328"/>
                </a:cubicBezTo>
                <a:cubicBezTo>
                  <a:pt x="15263" y="12317"/>
                  <a:pt x="15372" y="12308"/>
                  <a:pt x="15478" y="12303"/>
                </a:cubicBezTo>
                <a:cubicBezTo>
                  <a:pt x="15566" y="12299"/>
                  <a:pt x="15644" y="12291"/>
                  <a:pt x="15726" y="12278"/>
                </a:cubicBezTo>
                <a:cubicBezTo>
                  <a:pt x="15781" y="12269"/>
                  <a:pt x="15844" y="12278"/>
                  <a:pt x="15900" y="12278"/>
                </a:cubicBezTo>
              </a:path>
              <a:path w="11014" h="2656">
                <a:moveTo>
                  <a:pt x="14461" y="12799"/>
                </a:moveTo>
                <a:cubicBezTo>
                  <a:pt x="14492" y="12853"/>
                  <a:pt x="14522" y="12925"/>
                  <a:pt x="14560" y="12973"/>
                </a:cubicBezTo>
                <a:cubicBezTo>
                  <a:pt x="14627" y="13059"/>
                  <a:pt x="14688" y="13133"/>
                  <a:pt x="14759" y="13221"/>
                </a:cubicBezTo>
                <a:cubicBezTo>
                  <a:pt x="14842" y="13324"/>
                  <a:pt x="14901" y="13433"/>
                  <a:pt x="15007" y="13519"/>
                </a:cubicBezTo>
                <a:cubicBezTo>
                  <a:pt x="15069" y="13570"/>
                  <a:pt x="15128" y="13637"/>
                  <a:pt x="15205" y="13643"/>
                </a:cubicBezTo>
                <a:cubicBezTo>
                  <a:pt x="15213" y="13643"/>
                  <a:pt x="15222" y="13643"/>
                  <a:pt x="15230" y="13643"/>
                </a:cubicBezTo>
              </a:path>
              <a:path w="11014" h="2656">
                <a:moveTo>
                  <a:pt x="14908" y="12750"/>
                </a:moveTo>
                <a:cubicBezTo>
                  <a:pt x="14852" y="12805"/>
                  <a:pt x="14813" y="12848"/>
                  <a:pt x="14784" y="12923"/>
                </a:cubicBezTo>
                <a:cubicBezTo>
                  <a:pt x="14750" y="13011"/>
                  <a:pt x="14711" y="13068"/>
                  <a:pt x="14660" y="13146"/>
                </a:cubicBezTo>
                <a:cubicBezTo>
                  <a:pt x="14612" y="13219"/>
                  <a:pt x="14575" y="13292"/>
                  <a:pt x="14536" y="13370"/>
                </a:cubicBezTo>
                <a:cubicBezTo>
                  <a:pt x="14507" y="13427"/>
                  <a:pt x="14492" y="13490"/>
                  <a:pt x="14536" y="13519"/>
                </a:cubicBezTo>
              </a:path>
              <a:path w="11014" h="2656">
                <a:moveTo>
                  <a:pt x="15156" y="12874"/>
                </a:moveTo>
                <a:cubicBezTo>
                  <a:pt x="15156" y="12957"/>
                  <a:pt x="15154" y="13045"/>
                  <a:pt x="15180" y="13122"/>
                </a:cubicBezTo>
                <a:cubicBezTo>
                  <a:pt x="15209" y="13207"/>
                  <a:pt x="15258" y="13283"/>
                  <a:pt x="15280" y="13370"/>
                </a:cubicBezTo>
                <a:cubicBezTo>
                  <a:pt x="15280" y="13386"/>
                  <a:pt x="15280" y="13403"/>
                  <a:pt x="15280" y="13419"/>
                </a:cubicBezTo>
              </a:path>
              <a:path w="11014" h="2656">
                <a:moveTo>
                  <a:pt x="15056" y="13122"/>
                </a:moveTo>
                <a:cubicBezTo>
                  <a:pt x="15146" y="13092"/>
                  <a:pt x="15236" y="13082"/>
                  <a:pt x="15329" y="13047"/>
                </a:cubicBezTo>
                <a:cubicBezTo>
                  <a:pt x="15346" y="13039"/>
                  <a:pt x="15362" y="13030"/>
                  <a:pt x="15379" y="13022"/>
                </a:cubicBezTo>
              </a:path>
              <a:path w="11014" h="2656">
                <a:moveTo>
                  <a:pt x="15602" y="12799"/>
                </a:moveTo>
                <a:cubicBezTo>
                  <a:pt x="15688" y="12770"/>
                  <a:pt x="15727" y="12767"/>
                  <a:pt x="15801" y="12824"/>
                </a:cubicBezTo>
                <a:cubicBezTo>
                  <a:pt x="15868" y="12875"/>
                  <a:pt x="15865" y="12961"/>
                  <a:pt x="15825" y="13022"/>
                </a:cubicBezTo>
                <a:cubicBezTo>
                  <a:pt x="15789" y="13077"/>
                  <a:pt x="15739" y="13094"/>
                  <a:pt x="15677" y="13097"/>
                </a:cubicBezTo>
                <a:cubicBezTo>
                  <a:pt x="15547" y="13104"/>
                  <a:pt x="15758" y="13115"/>
                  <a:pt x="15776" y="13122"/>
                </a:cubicBezTo>
                <a:cubicBezTo>
                  <a:pt x="15841" y="13147"/>
                  <a:pt x="15889" y="13185"/>
                  <a:pt x="15925" y="13246"/>
                </a:cubicBezTo>
                <a:cubicBezTo>
                  <a:pt x="15975" y="13331"/>
                  <a:pt x="15984" y="13375"/>
                  <a:pt x="15949" y="13469"/>
                </a:cubicBezTo>
                <a:cubicBezTo>
                  <a:pt x="15926" y="13530"/>
                  <a:pt x="15874" y="13584"/>
                  <a:pt x="15801" y="13568"/>
                </a:cubicBezTo>
                <a:cubicBezTo>
                  <a:pt x="15728" y="13552"/>
                  <a:pt x="15666" y="13503"/>
                  <a:pt x="15602" y="13469"/>
                </a:cubicBezTo>
                <a:cubicBezTo>
                  <a:pt x="15543" y="13439"/>
                  <a:pt x="15517" y="13424"/>
                  <a:pt x="15478" y="13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8"/>
          <p:cNvSpPr/>
          <p:nvPr/>
        </p:nvSpPr>
        <p:spPr>
          <a:xfrm>
            <a:off x="1990800" y="2170080"/>
            <a:ext cx="171360" cy="1339920"/>
          </a:xfrm>
          <a:custGeom>
            <a:avLst/>
            <a:gdLst/>
            <a:ahLst/>
            <a:rect l="l" t="t" r="r" b="b"/>
            <a:pathLst>
              <a:path w="473" h="3721">
                <a:moveTo>
                  <a:pt x="5829" y="6028"/>
                </a:moveTo>
                <a:cubicBezTo>
                  <a:pt x="5829" y="6100"/>
                  <a:pt x="5815" y="6167"/>
                  <a:pt x="5804" y="6226"/>
                </a:cubicBezTo>
                <a:cubicBezTo>
                  <a:pt x="5789" y="6306"/>
                  <a:pt x="5792" y="6396"/>
                  <a:pt x="5779" y="6474"/>
                </a:cubicBezTo>
                <a:cubicBezTo>
                  <a:pt x="5763" y="6569"/>
                  <a:pt x="5758" y="6675"/>
                  <a:pt x="5755" y="6772"/>
                </a:cubicBezTo>
                <a:cubicBezTo>
                  <a:pt x="5750" y="6916"/>
                  <a:pt x="5749" y="7052"/>
                  <a:pt x="5730" y="7193"/>
                </a:cubicBezTo>
                <a:cubicBezTo>
                  <a:pt x="5712" y="7326"/>
                  <a:pt x="5739" y="7465"/>
                  <a:pt x="5755" y="7590"/>
                </a:cubicBezTo>
                <a:cubicBezTo>
                  <a:pt x="5772" y="7725"/>
                  <a:pt x="5765" y="7944"/>
                  <a:pt x="5730" y="8037"/>
                </a:cubicBezTo>
              </a:path>
              <a:path w="473" h="3721">
                <a:moveTo>
                  <a:pt x="5531" y="7888"/>
                </a:moveTo>
                <a:cubicBezTo>
                  <a:pt x="5560" y="7937"/>
                  <a:pt x="5576" y="7981"/>
                  <a:pt x="5606" y="8037"/>
                </a:cubicBezTo>
                <a:cubicBezTo>
                  <a:pt x="5630" y="8082"/>
                  <a:pt x="5655" y="8117"/>
                  <a:pt x="5680" y="8161"/>
                </a:cubicBezTo>
                <a:cubicBezTo>
                  <a:pt x="5708" y="8139"/>
                  <a:pt x="5771" y="8071"/>
                  <a:pt x="5804" y="8062"/>
                </a:cubicBezTo>
                <a:cubicBezTo>
                  <a:pt x="5869" y="8044"/>
                  <a:pt x="5877" y="8038"/>
                  <a:pt x="5928" y="7987"/>
                </a:cubicBezTo>
                <a:cubicBezTo>
                  <a:pt x="5969" y="7946"/>
                  <a:pt x="6010" y="7920"/>
                  <a:pt x="5978" y="7888"/>
                </a:cubicBezTo>
              </a:path>
              <a:path w="473" h="3721">
                <a:moveTo>
                  <a:pt x="5779" y="8632"/>
                </a:moveTo>
                <a:cubicBezTo>
                  <a:pt x="5819" y="8698"/>
                  <a:pt x="5782" y="8709"/>
                  <a:pt x="5779" y="8781"/>
                </a:cubicBezTo>
                <a:cubicBezTo>
                  <a:pt x="5773" y="8902"/>
                  <a:pt x="5771" y="9011"/>
                  <a:pt x="5755" y="9128"/>
                </a:cubicBezTo>
                <a:cubicBezTo>
                  <a:pt x="5734" y="9282"/>
                  <a:pt x="5750" y="9449"/>
                  <a:pt x="5730" y="9599"/>
                </a:cubicBezTo>
                <a:cubicBezTo>
                  <a:pt x="5720" y="9672"/>
                  <a:pt x="5740" y="9691"/>
                  <a:pt x="5705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9"/>
          <p:cNvSpPr/>
          <p:nvPr/>
        </p:nvSpPr>
        <p:spPr>
          <a:xfrm>
            <a:off x="1741320" y="3009960"/>
            <a:ext cx="4500720" cy="187200"/>
          </a:xfrm>
          <a:custGeom>
            <a:avLst/>
            <a:gdLst/>
            <a:ahLst/>
            <a:rect l="l" t="t" r="r" b="b"/>
            <a:pathLst>
              <a:path w="12502" h="522">
                <a:moveTo>
                  <a:pt x="4837" y="8434"/>
                </a:moveTo>
                <a:cubicBezTo>
                  <a:pt x="4885" y="8426"/>
                  <a:pt x="4920" y="8390"/>
                  <a:pt x="4986" y="8384"/>
                </a:cubicBezTo>
                <a:cubicBezTo>
                  <a:pt x="5527" y="8332"/>
                  <a:pt x="6084" y="8409"/>
                  <a:pt x="6623" y="8409"/>
                </a:cubicBezTo>
                <a:cubicBezTo>
                  <a:pt x="6882" y="8409"/>
                  <a:pt x="7133" y="8387"/>
                  <a:pt x="7392" y="8384"/>
                </a:cubicBezTo>
                <a:cubicBezTo>
                  <a:pt x="7964" y="8377"/>
                  <a:pt x="8534" y="8365"/>
                  <a:pt x="9103" y="8359"/>
                </a:cubicBezTo>
                <a:cubicBezTo>
                  <a:pt x="9810" y="8351"/>
                  <a:pt x="10511" y="8386"/>
                  <a:pt x="11212" y="8409"/>
                </a:cubicBezTo>
                <a:cubicBezTo>
                  <a:pt x="11395" y="8415"/>
                  <a:pt x="11575" y="8419"/>
                  <a:pt x="11757" y="8434"/>
                </a:cubicBezTo>
                <a:cubicBezTo>
                  <a:pt x="12021" y="8456"/>
                  <a:pt x="12287" y="8462"/>
                  <a:pt x="12551" y="8483"/>
                </a:cubicBezTo>
                <a:cubicBezTo>
                  <a:pt x="12856" y="8508"/>
                  <a:pt x="13161" y="8511"/>
                  <a:pt x="13469" y="8533"/>
                </a:cubicBezTo>
                <a:cubicBezTo>
                  <a:pt x="13650" y="8546"/>
                  <a:pt x="13834" y="8565"/>
                  <a:pt x="14015" y="8582"/>
                </a:cubicBezTo>
                <a:cubicBezTo>
                  <a:pt x="14189" y="8599"/>
                  <a:pt x="14361" y="8596"/>
                  <a:pt x="14536" y="8607"/>
                </a:cubicBezTo>
                <a:cubicBezTo>
                  <a:pt x="14700" y="8618"/>
                  <a:pt x="14868" y="8641"/>
                  <a:pt x="15032" y="8657"/>
                </a:cubicBezTo>
                <a:cubicBezTo>
                  <a:pt x="15189" y="8673"/>
                  <a:pt x="15345" y="8671"/>
                  <a:pt x="15503" y="8682"/>
                </a:cubicBezTo>
                <a:cubicBezTo>
                  <a:pt x="15693" y="8695"/>
                  <a:pt x="15885" y="8712"/>
                  <a:pt x="16073" y="8731"/>
                </a:cubicBezTo>
                <a:cubicBezTo>
                  <a:pt x="16214" y="8745"/>
                  <a:pt x="16354" y="8767"/>
                  <a:pt x="16495" y="8781"/>
                </a:cubicBezTo>
                <a:cubicBezTo>
                  <a:pt x="16613" y="8793"/>
                  <a:pt x="16725" y="8813"/>
                  <a:pt x="16842" y="8830"/>
                </a:cubicBezTo>
                <a:cubicBezTo>
                  <a:pt x="16932" y="8843"/>
                  <a:pt x="17026" y="8844"/>
                  <a:pt x="17115" y="8855"/>
                </a:cubicBezTo>
                <a:cubicBezTo>
                  <a:pt x="17202" y="8866"/>
                  <a:pt x="17259" y="8865"/>
                  <a:pt x="17338" y="8855"/>
                </a:cubicBezTo>
                <a:cubicBezTo>
                  <a:pt x="17330" y="8847"/>
                  <a:pt x="17322" y="8838"/>
                  <a:pt x="17314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2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- 14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20x - 7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x – 6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Ink 5"/>
          <p:cNvSpPr/>
          <p:nvPr/>
        </p:nvSpPr>
        <p:spPr>
          <a:xfrm>
            <a:off x="1089000" y="1616040"/>
            <a:ext cx="1081080" cy="563760"/>
          </a:xfrm>
          <a:custGeom>
            <a:avLst/>
            <a:gdLst/>
            <a:ahLst/>
            <a:rect l="l" t="t" r="r" b="b"/>
            <a:pathLst>
              <a:path w="3003" h="1563">
                <a:moveTo>
                  <a:pt x="3696" y="4762"/>
                </a:moveTo>
                <a:cubicBezTo>
                  <a:pt x="3665" y="4814"/>
                  <a:pt x="3666" y="4856"/>
                  <a:pt x="3646" y="4911"/>
                </a:cubicBezTo>
                <a:cubicBezTo>
                  <a:pt x="3618" y="4989"/>
                  <a:pt x="3601" y="5075"/>
                  <a:pt x="3597" y="5159"/>
                </a:cubicBezTo>
                <a:cubicBezTo>
                  <a:pt x="3593" y="5237"/>
                  <a:pt x="3572" y="5303"/>
                  <a:pt x="3572" y="5383"/>
                </a:cubicBezTo>
                <a:cubicBezTo>
                  <a:pt x="3572" y="5469"/>
                  <a:pt x="3549" y="5588"/>
                  <a:pt x="3597" y="5655"/>
                </a:cubicBezTo>
                <a:cubicBezTo>
                  <a:pt x="3633" y="5705"/>
                  <a:pt x="3663" y="5727"/>
                  <a:pt x="3721" y="5730"/>
                </a:cubicBezTo>
                <a:cubicBezTo>
                  <a:pt x="3795" y="5734"/>
                  <a:pt x="3859" y="5688"/>
                  <a:pt x="3919" y="5655"/>
                </a:cubicBezTo>
                <a:cubicBezTo>
                  <a:pt x="3950" y="5638"/>
                  <a:pt x="4031" y="5597"/>
                  <a:pt x="4043" y="5556"/>
                </a:cubicBezTo>
                <a:cubicBezTo>
                  <a:pt x="4059" y="5501"/>
                  <a:pt x="4083" y="5456"/>
                  <a:pt x="4043" y="5407"/>
                </a:cubicBezTo>
                <a:cubicBezTo>
                  <a:pt x="4008" y="5364"/>
                  <a:pt x="3952" y="5335"/>
                  <a:pt x="3894" y="5358"/>
                </a:cubicBezTo>
                <a:cubicBezTo>
                  <a:pt x="3838" y="5380"/>
                  <a:pt x="3797" y="5430"/>
                  <a:pt x="3770" y="5482"/>
                </a:cubicBezTo>
                <a:cubicBezTo>
                  <a:pt x="3736" y="5546"/>
                  <a:pt x="3746" y="5609"/>
                  <a:pt x="3746" y="5680"/>
                </a:cubicBezTo>
                <a:cubicBezTo>
                  <a:pt x="3746" y="5721"/>
                  <a:pt x="3764" y="5823"/>
                  <a:pt x="3795" y="5854"/>
                </a:cubicBezTo>
                <a:cubicBezTo>
                  <a:pt x="3803" y="5854"/>
                  <a:pt x="3812" y="5854"/>
                  <a:pt x="3820" y="5854"/>
                </a:cubicBezTo>
              </a:path>
              <a:path w="3003" h="1563">
                <a:moveTo>
                  <a:pt x="4465" y="4589"/>
                </a:moveTo>
                <a:cubicBezTo>
                  <a:pt x="4465" y="4672"/>
                  <a:pt x="4453" y="4736"/>
                  <a:pt x="4440" y="4812"/>
                </a:cubicBezTo>
                <a:cubicBezTo>
                  <a:pt x="4410" y="4991"/>
                  <a:pt x="4442" y="5211"/>
                  <a:pt x="4465" y="5383"/>
                </a:cubicBezTo>
                <a:cubicBezTo>
                  <a:pt x="4484" y="5531"/>
                  <a:pt x="4469" y="5682"/>
                  <a:pt x="4490" y="5829"/>
                </a:cubicBezTo>
                <a:cubicBezTo>
                  <a:pt x="4496" y="5868"/>
                  <a:pt x="4470" y="5953"/>
                  <a:pt x="4440" y="5978"/>
                </a:cubicBezTo>
                <a:cubicBezTo>
                  <a:pt x="4424" y="5992"/>
                  <a:pt x="4221" y="5999"/>
                  <a:pt x="4192" y="6003"/>
                </a:cubicBezTo>
                <a:cubicBezTo>
                  <a:pt x="4118" y="6013"/>
                  <a:pt x="4041" y="6024"/>
                  <a:pt x="3969" y="6028"/>
                </a:cubicBezTo>
                <a:cubicBezTo>
                  <a:pt x="3882" y="6033"/>
                  <a:pt x="3805" y="6043"/>
                  <a:pt x="3721" y="6052"/>
                </a:cubicBezTo>
                <a:cubicBezTo>
                  <a:pt x="3549" y="6071"/>
                  <a:pt x="3367" y="6050"/>
                  <a:pt x="3200" y="6028"/>
                </a:cubicBezTo>
                <a:cubicBezTo>
                  <a:pt x="3135" y="6019"/>
                  <a:pt x="3078" y="6027"/>
                  <a:pt x="3026" y="6052"/>
                </a:cubicBezTo>
                <a:cubicBezTo>
                  <a:pt x="3034" y="6052"/>
                  <a:pt x="3043" y="6052"/>
                  <a:pt x="3051" y="6052"/>
                </a:cubicBezTo>
              </a:path>
              <a:path w="3003" h="1563">
                <a:moveTo>
                  <a:pt x="5581" y="4837"/>
                </a:moveTo>
                <a:cubicBezTo>
                  <a:pt x="5533" y="4885"/>
                  <a:pt x="5592" y="4778"/>
                  <a:pt x="5606" y="4738"/>
                </a:cubicBezTo>
                <a:cubicBezTo>
                  <a:pt x="5623" y="4686"/>
                  <a:pt x="5674" y="4609"/>
                  <a:pt x="5705" y="4564"/>
                </a:cubicBezTo>
                <a:cubicBezTo>
                  <a:pt x="5739" y="4514"/>
                  <a:pt x="5772" y="4493"/>
                  <a:pt x="5829" y="4490"/>
                </a:cubicBezTo>
                <a:cubicBezTo>
                  <a:pt x="5881" y="4487"/>
                  <a:pt x="5956" y="4537"/>
                  <a:pt x="5978" y="4589"/>
                </a:cubicBezTo>
                <a:cubicBezTo>
                  <a:pt x="6001" y="4645"/>
                  <a:pt x="5986" y="4702"/>
                  <a:pt x="6003" y="4762"/>
                </a:cubicBezTo>
                <a:cubicBezTo>
                  <a:pt x="6023" y="4833"/>
                  <a:pt x="6028" y="4884"/>
                  <a:pt x="6028" y="4961"/>
                </a:cubicBezTo>
                <a:cubicBezTo>
                  <a:pt x="6028" y="5066"/>
                  <a:pt x="6015" y="5161"/>
                  <a:pt x="6003" y="5259"/>
                </a:cubicBezTo>
                <a:cubicBezTo>
                  <a:pt x="5992" y="5344"/>
                  <a:pt x="5985" y="5425"/>
                  <a:pt x="5953" y="5507"/>
                </a:cubicBezTo>
                <a:cubicBezTo>
                  <a:pt x="5922" y="5587"/>
                  <a:pt x="5873" y="5702"/>
                  <a:pt x="5804" y="5755"/>
                </a:cubicBezTo>
                <a:cubicBezTo>
                  <a:pt x="5750" y="5796"/>
                  <a:pt x="5689" y="5844"/>
                  <a:pt x="5631" y="5879"/>
                </a:cubicBezTo>
                <a:cubicBezTo>
                  <a:pt x="5566" y="5918"/>
                  <a:pt x="5487" y="5909"/>
                  <a:pt x="5432" y="5904"/>
                </a:cubicBezTo>
                <a:cubicBezTo>
                  <a:pt x="5359" y="5897"/>
                  <a:pt x="5303" y="5864"/>
                  <a:pt x="5283" y="5779"/>
                </a:cubicBezTo>
                <a:cubicBezTo>
                  <a:pt x="5270" y="5725"/>
                  <a:pt x="5319" y="5638"/>
                  <a:pt x="5358" y="5606"/>
                </a:cubicBezTo>
                <a:cubicBezTo>
                  <a:pt x="5429" y="5548"/>
                  <a:pt x="5480" y="5554"/>
                  <a:pt x="5556" y="5581"/>
                </a:cubicBezTo>
                <a:cubicBezTo>
                  <a:pt x="5609" y="5599"/>
                  <a:pt x="5695" y="5631"/>
                  <a:pt x="5730" y="5680"/>
                </a:cubicBezTo>
                <a:cubicBezTo>
                  <a:pt x="5770" y="5736"/>
                  <a:pt x="5811" y="5772"/>
                  <a:pt x="5854" y="5829"/>
                </a:cubicBezTo>
                <a:cubicBezTo>
                  <a:pt x="5880" y="5863"/>
                  <a:pt x="5889" y="5891"/>
                  <a:pt x="5904" y="59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6"/>
          <p:cNvSpPr/>
          <p:nvPr/>
        </p:nvSpPr>
        <p:spPr>
          <a:xfrm>
            <a:off x="2820960" y="1652760"/>
            <a:ext cx="608040" cy="455400"/>
          </a:xfrm>
          <a:custGeom>
            <a:avLst/>
            <a:gdLst/>
            <a:ahLst/>
            <a:rect l="l" t="t" r="r" b="b"/>
            <a:pathLst>
              <a:path w="1688" h="1266">
                <a:moveTo>
                  <a:pt x="7838" y="5110"/>
                </a:moveTo>
                <a:cubicBezTo>
                  <a:pt x="7911" y="5100"/>
                  <a:pt x="7954" y="5085"/>
                  <a:pt x="8037" y="5085"/>
                </a:cubicBezTo>
                <a:cubicBezTo>
                  <a:pt x="8177" y="5085"/>
                  <a:pt x="8318" y="5085"/>
                  <a:pt x="8458" y="5085"/>
                </a:cubicBezTo>
              </a:path>
              <a:path w="1688" h="1266">
                <a:moveTo>
                  <a:pt x="8905" y="4638"/>
                </a:moveTo>
                <a:cubicBezTo>
                  <a:pt x="8935" y="4749"/>
                  <a:pt x="8918" y="4778"/>
                  <a:pt x="8905" y="4887"/>
                </a:cubicBezTo>
                <a:cubicBezTo>
                  <a:pt x="8894" y="4985"/>
                  <a:pt x="8890" y="5088"/>
                  <a:pt x="8880" y="5184"/>
                </a:cubicBezTo>
                <a:cubicBezTo>
                  <a:pt x="8867" y="5302"/>
                  <a:pt x="8855" y="5441"/>
                  <a:pt x="8830" y="5556"/>
                </a:cubicBezTo>
                <a:cubicBezTo>
                  <a:pt x="8812" y="5637"/>
                  <a:pt x="8786" y="5720"/>
                  <a:pt x="8781" y="5804"/>
                </a:cubicBezTo>
                <a:cubicBezTo>
                  <a:pt x="8781" y="5854"/>
                  <a:pt x="8781" y="5871"/>
                  <a:pt x="8781" y="5804"/>
                </a:cubicBezTo>
              </a:path>
              <a:path w="1688" h="1266">
                <a:moveTo>
                  <a:pt x="9227" y="4812"/>
                </a:moveTo>
                <a:cubicBezTo>
                  <a:pt x="9227" y="4910"/>
                  <a:pt x="9199" y="4938"/>
                  <a:pt x="9178" y="5011"/>
                </a:cubicBezTo>
                <a:cubicBezTo>
                  <a:pt x="9161" y="5070"/>
                  <a:pt x="9136" y="5119"/>
                  <a:pt x="9128" y="5184"/>
                </a:cubicBezTo>
                <a:cubicBezTo>
                  <a:pt x="9206" y="5155"/>
                  <a:pt x="9271" y="5175"/>
                  <a:pt x="9351" y="5159"/>
                </a:cubicBezTo>
                <a:cubicBezTo>
                  <a:pt x="9413" y="5146"/>
                  <a:pt x="9475" y="5135"/>
                  <a:pt x="9525" y="5110"/>
                </a:cubicBezTo>
              </a:path>
              <a:path w="1688" h="1266">
                <a:moveTo>
                  <a:pt x="9525" y="4589"/>
                </a:moveTo>
                <a:cubicBezTo>
                  <a:pt x="9525" y="4751"/>
                  <a:pt x="9505" y="4902"/>
                  <a:pt x="9500" y="5060"/>
                </a:cubicBezTo>
                <a:cubicBezTo>
                  <a:pt x="9494" y="5254"/>
                  <a:pt x="9505" y="5445"/>
                  <a:pt x="9475" y="5631"/>
                </a:cubicBezTo>
                <a:cubicBezTo>
                  <a:pt x="9465" y="5692"/>
                  <a:pt x="9458" y="5768"/>
                  <a:pt x="9475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7"/>
          <p:cNvSpPr/>
          <p:nvPr/>
        </p:nvSpPr>
        <p:spPr>
          <a:xfrm>
            <a:off x="1893960" y="2197080"/>
            <a:ext cx="285840" cy="1312920"/>
          </a:xfrm>
          <a:custGeom>
            <a:avLst/>
            <a:gdLst/>
            <a:ahLst/>
            <a:rect l="l" t="t" r="r" b="b"/>
            <a:pathLst>
              <a:path w="794" h="3647">
                <a:moveTo>
                  <a:pt x="5655" y="6102"/>
                </a:moveTo>
                <a:cubicBezTo>
                  <a:pt x="5655" y="6417"/>
                  <a:pt x="5659" y="6735"/>
                  <a:pt x="5631" y="7045"/>
                </a:cubicBezTo>
                <a:cubicBezTo>
                  <a:pt x="5617" y="7194"/>
                  <a:pt x="5622" y="7345"/>
                  <a:pt x="5606" y="7491"/>
                </a:cubicBezTo>
                <a:cubicBezTo>
                  <a:pt x="5594" y="7598"/>
                  <a:pt x="5593" y="7705"/>
                  <a:pt x="5581" y="7813"/>
                </a:cubicBezTo>
                <a:cubicBezTo>
                  <a:pt x="5573" y="7885"/>
                  <a:pt x="5617" y="7983"/>
                  <a:pt x="5556" y="7962"/>
                </a:cubicBezTo>
              </a:path>
              <a:path w="794" h="3647">
                <a:moveTo>
                  <a:pt x="5259" y="7615"/>
                </a:moveTo>
                <a:cubicBezTo>
                  <a:pt x="5296" y="7663"/>
                  <a:pt x="5322" y="7716"/>
                  <a:pt x="5358" y="7764"/>
                </a:cubicBezTo>
                <a:cubicBezTo>
                  <a:pt x="5412" y="7836"/>
                  <a:pt x="5438" y="7885"/>
                  <a:pt x="5482" y="7962"/>
                </a:cubicBezTo>
                <a:cubicBezTo>
                  <a:pt x="5516" y="8023"/>
                  <a:pt x="5545" y="8011"/>
                  <a:pt x="5556" y="8086"/>
                </a:cubicBezTo>
                <a:cubicBezTo>
                  <a:pt x="5611" y="8071"/>
                  <a:pt x="5643" y="8044"/>
                  <a:pt x="5680" y="7987"/>
                </a:cubicBezTo>
                <a:cubicBezTo>
                  <a:pt x="5713" y="7936"/>
                  <a:pt x="5739" y="7883"/>
                  <a:pt x="5779" y="7838"/>
                </a:cubicBezTo>
                <a:cubicBezTo>
                  <a:pt x="5815" y="7797"/>
                  <a:pt x="5839" y="7754"/>
                  <a:pt x="5879" y="7714"/>
                </a:cubicBezTo>
                <a:cubicBezTo>
                  <a:pt x="5887" y="7706"/>
                  <a:pt x="5896" y="7697"/>
                  <a:pt x="5904" y="7689"/>
                </a:cubicBezTo>
              </a:path>
              <a:path w="794" h="3647">
                <a:moveTo>
                  <a:pt x="5556" y="8706"/>
                </a:moveTo>
                <a:cubicBezTo>
                  <a:pt x="5611" y="8720"/>
                  <a:pt x="5607" y="8668"/>
                  <a:pt x="5631" y="8607"/>
                </a:cubicBezTo>
                <a:cubicBezTo>
                  <a:pt x="5660" y="8533"/>
                  <a:pt x="5675" y="8512"/>
                  <a:pt x="5730" y="8458"/>
                </a:cubicBezTo>
                <a:cubicBezTo>
                  <a:pt x="5779" y="8410"/>
                  <a:pt x="5848" y="8433"/>
                  <a:pt x="5904" y="8458"/>
                </a:cubicBezTo>
                <a:cubicBezTo>
                  <a:pt x="5996" y="8499"/>
                  <a:pt x="5956" y="8532"/>
                  <a:pt x="6003" y="8607"/>
                </a:cubicBezTo>
                <a:cubicBezTo>
                  <a:pt x="6034" y="8656"/>
                  <a:pt x="6049" y="8718"/>
                  <a:pt x="6052" y="8781"/>
                </a:cubicBezTo>
                <a:cubicBezTo>
                  <a:pt x="6056" y="8864"/>
                  <a:pt x="6048" y="8950"/>
                  <a:pt x="6028" y="9029"/>
                </a:cubicBezTo>
                <a:cubicBezTo>
                  <a:pt x="6013" y="9088"/>
                  <a:pt x="5988" y="9203"/>
                  <a:pt x="5953" y="9252"/>
                </a:cubicBezTo>
                <a:cubicBezTo>
                  <a:pt x="5922" y="9295"/>
                  <a:pt x="5876" y="9371"/>
                  <a:pt x="5829" y="9401"/>
                </a:cubicBezTo>
                <a:cubicBezTo>
                  <a:pt x="5779" y="9433"/>
                  <a:pt x="5719" y="9489"/>
                  <a:pt x="5655" y="9475"/>
                </a:cubicBezTo>
                <a:cubicBezTo>
                  <a:pt x="5599" y="9463"/>
                  <a:pt x="5522" y="9407"/>
                  <a:pt x="5507" y="9351"/>
                </a:cubicBezTo>
                <a:cubicBezTo>
                  <a:pt x="5486" y="9271"/>
                  <a:pt x="5505" y="9231"/>
                  <a:pt x="5581" y="9227"/>
                </a:cubicBezTo>
                <a:cubicBezTo>
                  <a:pt x="5652" y="9223"/>
                  <a:pt x="5683" y="9255"/>
                  <a:pt x="5730" y="9302"/>
                </a:cubicBezTo>
                <a:cubicBezTo>
                  <a:pt x="5806" y="9378"/>
                  <a:pt x="5854" y="9479"/>
                  <a:pt x="5904" y="9575"/>
                </a:cubicBezTo>
                <a:cubicBezTo>
                  <a:pt x="5934" y="9633"/>
                  <a:pt x="6043" y="9748"/>
                  <a:pt x="5978" y="9748"/>
                </a:cubicBezTo>
                <a:cubicBezTo>
                  <a:pt x="5961" y="9740"/>
                  <a:pt x="5945" y="9731"/>
                  <a:pt x="5928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8"/>
          <p:cNvSpPr/>
          <p:nvPr/>
        </p:nvSpPr>
        <p:spPr>
          <a:xfrm>
            <a:off x="4313160" y="1608120"/>
            <a:ext cx="527040" cy="480960"/>
          </a:xfrm>
          <a:custGeom>
            <a:avLst/>
            <a:gdLst/>
            <a:ahLst/>
            <a:rect l="l" t="t" r="r" b="b"/>
            <a:pathLst>
              <a:path w="1464" h="1340">
                <a:moveTo>
                  <a:pt x="12229" y="4688"/>
                </a:moveTo>
                <a:cubicBezTo>
                  <a:pt x="12185" y="4634"/>
                  <a:pt x="12156" y="4598"/>
                  <a:pt x="12204" y="4539"/>
                </a:cubicBezTo>
                <a:cubicBezTo>
                  <a:pt x="12240" y="4494"/>
                  <a:pt x="12348" y="4474"/>
                  <a:pt x="12402" y="4465"/>
                </a:cubicBezTo>
                <a:cubicBezTo>
                  <a:pt x="12483" y="4451"/>
                  <a:pt x="12577" y="4462"/>
                  <a:pt x="12650" y="4490"/>
                </a:cubicBezTo>
                <a:cubicBezTo>
                  <a:pt x="12637" y="4594"/>
                  <a:pt x="12581" y="4652"/>
                  <a:pt x="12526" y="4738"/>
                </a:cubicBezTo>
                <a:cubicBezTo>
                  <a:pt x="12458" y="4843"/>
                  <a:pt x="12397" y="4955"/>
                  <a:pt x="12328" y="5060"/>
                </a:cubicBezTo>
                <a:cubicBezTo>
                  <a:pt x="12250" y="5179"/>
                  <a:pt x="12183" y="5318"/>
                  <a:pt x="12105" y="5432"/>
                </a:cubicBezTo>
                <a:cubicBezTo>
                  <a:pt x="12063" y="5494"/>
                  <a:pt x="11998" y="5551"/>
                  <a:pt x="11981" y="5631"/>
                </a:cubicBezTo>
                <a:cubicBezTo>
                  <a:pt x="11981" y="5647"/>
                  <a:pt x="11981" y="5664"/>
                  <a:pt x="11981" y="5680"/>
                </a:cubicBezTo>
                <a:cubicBezTo>
                  <a:pt x="12026" y="5634"/>
                  <a:pt x="12039" y="5609"/>
                  <a:pt x="12105" y="5606"/>
                </a:cubicBezTo>
                <a:cubicBezTo>
                  <a:pt x="12198" y="5602"/>
                  <a:pt x="12289" y="5602"/>
                  <a:pt x="12378" y="5631"/>
                </a:cubicBezTo>
                <a:cubicBezTo>
                  <a:pt x="12464" y="5659"/>
                  <a:pt x="12516" y="5662"/>
                  <a:pt x="12601" y="5631"/>
                </a:cubicBezTo>
              </a:path>
              <a:path w="1464" h="1340">
                <a:moveTo>
                  <a:pt x="13022" y="4762"/>
                </a:moveTo>
                <a:cubicBezTo>
                  <a:pt x="12994" y="4870"/>
                  <a:pt x="12997" y="4974"/>
                  <a:pt x="12973" y="5085"/>
                </a:cubicBezTo>
                <a:cubicBezTo>
                  <a:pt x="12949" y="5196"/>
                  <a:pt x="12948" y="5293"/>
                  <a:pt x="12948" y="5407"/>
                </a:cubicBezTo>
                <a:cubicBezTo>
                  <a:pt x="12948" y="5496"/>
                  <a:pt x="12967" y="5596"/>
                  <a:pt x="12998" y="5680"/>
                </a:cubicBezTo>
                <a:cubicBezTo>
                  <a:pt x="13013" y="5719"/>
                  <a:pt x="13069" y="5807"/>
                  <a:pt x="13122" y="5804"/>
                </a:cubicBezTo>
                <a:cubicBezTo>
                  <a:pt x="13200" y="5800"/>
                  <a:pt x="13308" y="5721"/>
                  <a:pt x="13345" y="5655"/>
                </a:cubicBezTo>
                <a:cubicBezTo>
                  <a:pt x="13402" y="5555"/>
                  <a:pt x="13440" y="5478"/>
                  <a:pt x="13444" y="5358"/>
                </a:cubicBezTo>
                <a:cubicBezTo>
                  <a:pt x="13448" y="5212"/>
                  <a:pt x="13425" y="5140"/>
                  <a:pt x="13370" y="5011"/>
                </a:cubicBezTo>
                <a:cubicBezTo>
                  <a:pt x="13317" y="4888"/>
                  <a:pt x="13270" y="4884"/>
                  <a:pt x="13171" y="4812"/>
                </a:cubicBezTo>
                <a:cubicBezTo>
                  <a:pt x="13138" y="4788"/>
                  <a:pt x="13011" y="4697"/>
                  <a:pt x="12973" y="4713"/>
                </a:cubicBezTo>
                <a:cubicBezTo>
                  <a:pt x="12973" y="4721"/>
                  <a:pt x="12973" y="4730"/>
                  <a:pt x="12973" y="47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9"/>
          <p:cNvSpPr/>
          <p:nvPr/>
        </p:nvSpPr>
        <p:spPr>
          <a:xfrm>
            <a:off x="5438880" y="1571760"/>
            <a:ext cx="714240" cy="2098440"/>
          </a:xfrm>
          <a:custGeom>
            <a:avLst/>
            <a:gdLst/>
            <a:ahLst/>
            <a:rect l="l" t="t" r="r" b="b"/>
            <a:pathLst>
              <a:path w="1985" h="5830">
                <a:moveTo>
                  <a:pt x="15478" y="4936"/>
                </a:moveTo>
                <a:cubicBezTo>
                  <a:pt x="15551" y="4899"/>
                  <a:pt x="15638" y="4911"/>
                  <a:pt x="15726" y="4911"/>
                </a:cubicBezTo>
                <a:cubicBezTo>
                  <a:pt x="15838" y="4911"/>
                  <a:pt x="15941" y="4898"/>
                  <a:pt x="16049" y="4887"/>
                </a:cubicBezTo>
                <a:cubicBezTo>
                  <a:pt x="16074" y="4887"/>
                  <a:pt x="16098" y="4887"/>
                  <a:pt x="16123" y="4887"/>
                </a:cubicBezTo>
              </a:path>
              <a:path w="1985" h="5830">
                <a:moveTo>
                  <a:pt x="16421" y="4440"/>
                </a:moveTo>
                <a:cubicBezTo>
                  <a:pt x="16526" y="4355"/>
                  <a:pt x="16536" y="4366"/>
                  <a:pt x="16669" y="4366"/>
                </a:cubicBezTo>
                <a:cubicBezTo>
                  <a:pt x="16789" y="4366"/>
                  <a:pt x="16909" y="4371"/>
                  <a:pt x="17016" y="4390"/>
                </a:cubicBezTo>
                <a:cubicBezTo>
                  <a:pt x="17095" y="4404"/>
                  <a:pt x="17106" y="4415"/>
                  <a:pt x="17066" y="4490"/>
                </a:cubicBezTo>
                <a:cubicBezTo>
                  <a:pt x="17031" y="4557"/>
                  <a:pt x="17019" y="4640"/>
                  <a:pt x="16991" y="4713"/>
                </a:cubicBezTo>
                <a:cubicBezTo>
                  <a:pt x="16939" y="4851"/>
                  <a:pt x="16952" y="4951"/>
                  <a:pt x="16966" y="5085"/>
                </a:cubicBezTo>
                <a:cubicBezTo>
                  <a:pt x="16975" y="5173"/>
                  <a:pt x="16960" y="5276"/>
                  <a:pt x="16991" y="5358"/>
                </a:cubicBezTo>
                <a:cubicBezTo>
                  <a:pt x="17002" y="5388"/>
                  <a:pt x="17068" y="5473"/>
                  <a:pt x="17066" y="5507"/>
                </a:cubicBezTo>
                <a:cubicBezTo>
                  <a:pt x="17046" y="5547"/>
                  <a:pt x="17047" y="5563"/>
                  <a:pt x="17016" y="5556"/>
                </a:cubicBezTo>
              </a:path>
              <a:path w="1985" h="5830">
                <a:moveTo>
                  <a:pt x="15205" y="7169"/>
                </a:moveTo>
                <a:cubicBezTo>
                  <a:pt x="15233" y="7252"/>
                  <a:pt x="15242" y="7310"/>
                  <a:pt x="15205" y="7392"/>
                </a:cubicBezTo>
                <a:cubicBezTo>
                  <a:pt x="15174" y="7460"/>
                  <a:pt x="15088" y="7562"/>
                  <a:pt x="15106" y="7640"/>
                </a:cubicBezTo>
                <a:cubicBezTo>
                  <a:pt x="15126" y="7727"/>
                  <a:pt x="15260" y="7689"/>
                  <a:pt x="15329" y="7689"/>
                </a:cubicBezTo>
                <a:cubicBezTo>
                  <a:pt x="15423" y="7689"/>
                  <a:pt x="15516" y="7703"/>
                  <a:pt x="15602" y="7665"/>
                </a:cubicBezTo>
                <a:cubicBezTo>
                  <a:pt x="15619" y="7657"/>
                  <a:pt x="15635" y="7648"/>
                  <a:pt x="15652" y="7640"/>
                </a:cubicBezTo>
              </a:path>
              <a:path w="1985" h="5830">
                <a:moveTo>
                  <a:pt x="15701" y="7094"/>
                </a:moveTo>
                <a:cubicBezTo>
                  <a:pt x="15673" y="7211"/>
                  <a:pt x="15691" y="7277"/>
                  <a:pt x="15701" y="7392"/>
                </a:cubicBezTo>
                <a:cubicBezTo>
                  <a:pt x="15711" y="7507"/>
                  <a:pt x="15722" y="7625"/>
                  <a:pt x="15726" y="7739"/>
                </a:cubicBezTo>
                <a:cubicBezTo>
                  <a:pt x="15730" y="7873"/>
                  <a:pt x="15751" y="8002"/>
                  <a:pt x="15751" y="8136"/>
                </a:cubicBezTo>
                <a:cubicBezTo>
                  <a:pt x="15751" y="8181"/>
                  <a:pt x="15748" y="8201"/>
                  <a:pt x="15776" y="8161"/>
                </a:cubicBezTo>
              </a:path>
              <a:path w="1985" h="5830">
                <a:moveTo>
                  <a:pt x="16297" y="7094"/>
                </a:moveTo>
                <a:cubicBezTo>
                  <a:pt x="16161" y="7070"/>
                  <a:pt x="16108" y="7046"/>
                  <a:pt x="15999" y="7119"/>
                </a:cubicBezTo>
                <a:cubicBezTo>
                  <a:pt x="16007" y="7199"/>
                  <a:pt x="16029" y="7267"/>
                  <a:pt x="16073" y="7342"/>
                </a:cubicBezTo>
                <a:cubicBezTo>
                  <a:pt x="16139" y="7455"/>
                  <a:pt x="16224" y="7557"/>
                  <a:pt x="16297" y="7665"/>
                </a:cubicBezTo>
                <a:cubicBezTo>
                  <a:pt x="16354" y="7749"/>
                  <a:pt x="16402" y="7861"/>
                  <a:pt x="16421" y="7962"/>
                </a:cubicBezTo>
                <a:cubicBezTo>
                  <a:pt x="16434" y="8033"/>
                  <a:pt x="16418" y="8064"/>
                  <a:pt x="16371" y="8111"/>
                </a:cubicBezTo>
                <a:cubicBezTo>
                  <a:pt x="16317" y="8103"/>
                  <a:pt x="16281" y="8089"/>
                  <a:pt x="16247" y="8037"/>
                </a:cubicBezTo>
                <a:cubicBezTo>
                  <a:pt x="16212" y="7982"/>
                  <a:pt x="16181" y="7900"/>
                  <a:pt x="16173" y="7838"/>
                </a:cubicBezTo>
                <a:cubicBezTo>
                  <a:pt x="16161" y="7743"/>
                  <a:pt x="16161" y="7628"/>
                  <a:pt x="16197" y="7541"/>
                </a:cubicBezTo>
                <a:cubicBezTo>
                  <a:pt x="16226" y="7472"/>
                  <a:pt x="16242" y="7408"/>
                  <a:pt x="16272" y="7342"/>
                </a:cubicBezTo>
                <a:cubicBezTo>
                  <a:pt x="16301" y="7277"/>
                  <a:pt x="16297" y="7243"/>
                  <a:pt x="16297" y="7169"/>
                </a:cubicBezTo>
              </a:path>
              <a:path w="1985" h="5830">
                <a:moveTo>
                  <a:pt x="15180" y="9128"/>
                </a:moveTo>
                <a:cubicBezTo>
                  <a:pt x="15210" y="9069"/>
                  <a:pt x="15241" y="9007"/>
                  <a:pt x="15280" y="8954"/>
                </a:cubicBezTo>
                <a:cubicBezTo>
                  <a:pt x="15304" y="8921"/>
                  <a:pt x="15368" y="8865"/>
                  <a:pt x="15404" y="8855"/>
                </a:cubicBezTo>
                <a:cubicBezTo>
                  <a:pt x="15448" y="8843"/>
                  <a:pt x="15527" y="8810"/>
                  <a:pt x="15577" y="8830"/>
                </a:cubicBezTo>
                <a:cubicBezTo>
                  <a:pt x="15634" y="8852"/>
                  <a:pt x="15692" y="8910"/>
                  <a:pt x="15677" y="8979"/>
                </a:cubicBezTo>
                <a:cubicBezTo>
                  <a:pt x="15663" y="9041"/>
                  <a:pt x="15641" y="9101"/>
                  <a:pt x="15602" y="9153"/>
                </a:cubicBezTo>
                <a:cubicBezTo>
                  <a:pt x="15572" y="9183"/>
                  <a:pt x="15561" y="9197"/>
                  <a:pt x="15553" y="9227"/>
                </a:cubicBezTo>
                <a:cubicBezTo>
                  <a:pt x="15622" y="9236"/>
                  <a:pt x="15691" y="9260"/>
                  <a:pt x="15751" y="9302"/>
                </a:cubicBezTo>
                <a:cubicBezTo>
                  <a:pt x="15815" y="9346"/>
                  <a:pt x="15858" y="9427"/>
                  <a:pt x="15875" y="9500"/>
                </a:cubicBezTo>
                <a:cubicBezTo>
                  <a:pt x="15891" y="9570"/>
                  <a:pt x="15879" y="9668"/>
                  <a:pt x="15850" y="9723"/>
                </a:cubicBezTo>
                <a:cubicBezTo>
                  <a:pt x="15826" y="9768"/>
                  <a:pt x="15796" y="9818"/>
                  <a:pt x="15751" y="9847"/>
                </a:cubicBezTo>
                <a:cubicBezTo>
                  <a:pt x="15686" y="9888"/>
                  <a:pt x="15602" y="9872"/>
                  <a:pt x="15528" y="9872"/>
                </a:cubicBezTo>
                <a:cubicBezTo>
                  <a:pt x="15457" y="9872"/>
                  <a:pt x="15364" y="9837"/>
                  <a:pt x="15304" y="9798"/>
                </a:cubicBezTo>
                <a:cubicBezTo>
                  <a:pt x="15244" y="9759"/>
                  <a:pt x="15193" y="9747"/>
                  <a:pt x="15205" y="9699"/>
                </a:cubicBezTo>
              </a:path>
              <a:path w="1985" h="5830">
                <a:moveTo>
                  <a:pt x="15602" y="8830"/>
                </a:moveTo>
                <a:cubicBezTo>
                  <a:pt x="15497" y="8796"/>
                  <a:pt x="15430" y="8813"/>
                  <a:pt x="15329" y="8880"/>
                </a:cubicBezTo>
                <a:cubicBezTo>
                  <a:pt x="15256" y="8929"/>
                  <a:pt x="15219" y="8976"/>
                  <a:pt x="15180" y="9054"/>
                </a:cubicBezTo>
                <a:cubicBezTo>
                  <a:pt x="15172" y="9070"/>
                  <a:pt x="15164" y="9087"/>
                  <a:pt x="15156" y="9103"/>
                </a:cubicBezTo>
                <a:cubicBezTo>
                  <a:pt x="15190" y="9190"/>
                  <a:pt x="15198" y="9209"/>
                  <a:pt x="15280" y="9252"/>
                </a:cubicBezTo>
                <a:cubicBezTo>
                  <a:pt x="15340" y="9284"/>
                  <a:pt x="15459" y="9294"/>
                  <a:pt x="15528" y="9277"/>
                </a:cubicBezTo>
                <a:cubicBezTo>
                  <a:pt x="15609" y="9258"/>
                  <a:pt x="15685" y="9222"/>
                  <a:pt x="15726" y="9153"/>
                </a:cubicBezTo>
                <a:cubicBezTo>
                  <a:pt x="15768" y="9082"/>
                  <a:pt x="15776" y="9035"/>
                  <a:pt x="15776" y="8954"/>
                </a:cubicBezTo>
                <a:cubicBezTo>
                  <a:pt x="15733" y="8901"/>
                  <a:pt x="15703" y="8822"/>
                  <a:pt x="15627" y="8806"/>
                </a:cubicBezTo>
                <a:cubicBezTo>
                  <a:pt x="15552" y="8790"/>
                  <a:pt x="15447" y="8802"/>
                  <a:pt x="15379" y="8830"/>
                </a:cubicBezTo>
                <a:cubicBezTo>
                  <a:pt x="15293" y="8866"/>
                  <a:pt x="15207" y="8966"/>
                  <a:pt x="15180" y="9054"/>
                </a:cubicBezTo>
                <a:cubicBezTo>
                  <a:pt x="15161" y="9116"/>
                  <a:pt x="15197" y="9227"/>
                  <a:pt x="15230" y="9277"/>
                </a:cubicBezTo>
                <a:cubicBezTo>
                  <a:pt x="15268" y="9334"/>
                  <a:pt x="15369" y="9420"/>
                  <a:pt x="15429" y="9451"/>
                </a:cubicBezTo>
                <a:cubicBezTo>
                  <a:pt x="15505" y="9490"/>
                  <a:pt x="15673" y="9498"/>
                  <a:pt x="15751" y="9475"/>
                </a:cubicBezTo>
                <a:cubicBezTo>
                  <a:pt x="15849" y="9446"/>
                  <a:pt x="15825" y="9377"/>
                  <a:pt x="15801" y="9302"/>
                </a:cubicBezTo>
                <a:cubicBezTo>
                  <a:pt x="15719" y="9261"/>
                  <a:pt x="15669" y="9231"/>
                  <a:pt x="15577" y="9227"/>
                </a:cubicBezTo>
                <a:cubicBezTo>
                  <a:pt x="15472" y="9222"/>
                  <a:pt x="15409" y="9277"/>
                  <a:pt x="15329" y="9327"/>
                </a:cubicBezTo>
                <a:cubicBezTo>
                  <a:pt x="15248" y="9378"/>
                  <a:pt x="15194" y="9433"/>
                  <a:pt x="15156" y="9525"/>
                </a:cubicBezTo>
                <a:cubicBezTo>
                  <a:pt x="15121" y="9608"/>
                  <a:pt x="15119" y="9677"/>
                  <a:pt x="15180" y="9748"/>
                </a:cubicBezTo>
                <a:cubicBezTo>
                  <a:pt x="15240" y="9817"/>
                  <a:pt x="15309" y="9882"/>
                  <a:pt x="15404" y="9897"/>
                </a:cubicBezTo>
                <a:cubicBezTo>
                  <a:pt x="15471" y="9907"/>
                  <a:pt x="15620" y="9905"/>
                  <a:pt x="15677" y="9872"/>
                </a:cubicBezTo>
                <a:cubicBezTo>
                  <a:pt x="15740" y="9836"/>
                  <a:pt x="15770" y="9759"/>
                  <a:pt x="15801" y="9699"/>
                </a:cubicBezTo>
                <a:cubicBezTo>
                  <a:pt x="15790" y="9601"/>
                  <a:pt x="15769" y="9547"/>
                  <a:pt x="15701" y="9475"/>
                </a:cubicBezTo>
                <a:cubicBezTo>
                  <a:pt x="15629" y="9398"/>
                  <a:pt x="15512" y="9350"/>
                  <a:pt x="15404" y="9376"/>
                </a:cubicBezTo>
                <a:cubicBezTo>
                  <a:pt x="15333" y="9393"/>
                  <a:pt x="15265" y="9441"/>
                  <a:pt x="15230" y="9500"/>
                </a:cubicBezTo>
                <a:cubicBezTo>
                  <a:pt x="15206" y="9548"/>
                  <a:pt x="15198" y="9562"/>
                  <a:pt x="15205" y="9599"/>
                </a:cubicBezTo>
                <a:cubicBezTo>
                  <a:pt x="15216" y="9688"/>
                  <a:pt x="15252" y="9722"/>
                  <a:pt x="15329" y="9773"/>
                </a:cubicBezTo>
                <a:cubicBezTo>
                  <a:pt x="15397" y="9818"/>
                  <a:pt x="15508" y="9818"/>
                  <a:pt x="15577" y="9798"/>
                </a:cubicBezTo>
                <a:cubicBezTo>
                  <a:pt x="15668" y="9771"/>
                  <a:pt x="15736" y="9740"/>
                  <a:pt x="15776" y="9649"/>
                </a:cubicBezTo>
                <a:cubicBezTo>
                  <a:pt x="15814" y="9562"/>
                  <a:pt x="15818" y="9438"/>
                  <a:pt x="15776" y="9351"/>
                </a:cubicBezTo>
                <a:cubicBezTo>
                  <a:pt x="15699" y="9193"/>
                  <a:pt x="15576" y="9072"/>
                  <a:pt x="15429" y="8979"/>
                </a:cubicBezTo>
                <a:cubicBezTo>
                  <a:pt x="15368" y="8940"/>
                  <a:pt x="15259" y="8936"/>
                  <a:pt x="15205" y="8979"/>
                </a:cubicBezTo>
                <a:cubicBezTo>
                  <a:pt x="15175" y="9009"/>
                  <a:pt x="15170" y="9023"/>
                  <a:pt x="15205" y="9054"/>
                </a:cubicBezTo>
                <a:cubicBezTo>
                  <a:pt x="15265" y="9101"/>
                  <a:pt x="15326" y="9163"/>
                  <a:pt x="15404" y="9178"/>
                </a:cubicBezTo>
                <a:cubicBezTo>
                  <a:pt x="15502" y="9197"/>
                  <a:pt x="15661" y="9223"/>
                  <a:pt x="15751" y="9178"/>
                </a:cubicBezTo>
                <a:cubicBezTo>
                  <a:pt x="15793" y="9136"/>
                  <a:pt x="15801" y="9129"/>
                  <a:pt x="15825" y="9103"/>
                </a:cubicBezTo>
                <a:cubicBezTo>
                  <a:pt x="15825" y="9030"/>
                  <a:pt x="15824" y="8967"/>
                  <a:pt x="15776" y="8905"/>
                </a:cubicBezTo>
                <a:cubicBezTo>
                  <a:pt x="15706" y="8815"/>
                  <a:pt x="15632" y="8791"/>
                  <a:pt x="15528" y="8756"/>
                </a:cubicBezTo>
                <a:cubicBezTo>
                  <a:pt x="15415" y="8718"/>
                  <a:pt x="15330" y="8757"/>
                  <a:pt x="15230" y="8806"/>
                </a:cubicBezTo>
                <a:cubicBezTo>
                  <a:pt x="15173" y="8834"/>
                  <a:pt x="15103" y="8936"/>
                  <a:pt x="15106" y="9004"/>
                </a:cubicBezTo>
                <a:cubicBezTo>
                  <a:pt x="15109" y="9086"/>
                  <a:pt x="15180" y="9196"/>
                  <a:pt x="15230" y="9252"/>
                </a:cubicBezTo>
                <a:cubicBezTo>
                  <a:pt x="15310" y="9341"/>
                  <a:pt x="15371" y="9357"/>
                  <a:pt x="15478" y="9401"/>
                </a:cubicBezTo>
                <a:cubicBezTo>
                  <a:pt x="15521" y="9419"/>
                  <a:pt x="15640" y="9461"/>
                  <a:pt x="15677" y="9401"/>
                </a:cubicBezTo>
                <a:cubicBezTo>
                  <a:pt x="15677" y="9384"/>
                  <a:pt x="15677" y="9368"/>
                  <a:pt x="15677" y="9351"/>
                </a:cubicBezTo>
                <a:cubicBezTo>
                  <a:pt x="15614" y="9302"/>
                  <a:pt x="15538" y="9261"/>
                  <a:pt x="15453" y="9277"/>
                </a:cubicBezTo>
                <a:cubicBezTo>
                  <a:pt x="15354" y="9295"/>
                  <a:pt x="15241" y="9373"/>
                  <a:pt x="15180" y="9451"/>
                </a:cubicBezTo>
                <a:cubicBezTo>
                  <a:pt x="15140" y="9501"/>
                  <a:pt x="15144" y="9598"/>
                  <a:pt x="15180" y="9649"/>
                </a:cubicBezTo>
                <a:cubicBezTo>
                  <a:pt x="15241" y="9734"/>
                  <a:pt x="15326" y="9784"/>
                  <a:pt x="15429" y="9798"/>
                </a:cubicBezTo>
                <a:cubicBezTo>
                  <a:pt x="15520" y="9811"/>
                  <a:pt x="15618" y="9801"/>
                  <a:pt x="15701" y="9773"/>
                </a:cubicBezTo>
                <a:cubicBezTo>
                  <a:pt x="15770" y="9734"/>
                  <a:pt x="15765" y="9748"/>
                  <a:pt x="15776" y="9674"/>
                </a:cubicBezTo>
                <a:cubicBezTo>
                  <a:pt x="15726" y="9575"/>
                  <a:pt x="15717" y="9554"/>
                  <a:pt x="15602" y="9550"/>
                </a:cubicBezTo>
                <a:cubicBezTo>
                  <a:pt x="15498" y="9546"/>
                  <a:pt x="15424" y="9558"/>
                  <a:pt x="15329" y="9599"/>
                </a:cubicBezTo>
                <a:cubicBezTo>
                  <a:pt x="15263" y="9627"/>
                  <a:pt x="15218" y="9710"/>
                  <a:pt x="15280" y="9773"/>
                </a:cubicBezTo>
                <a:cubicBezTo>
                  <a:pt x="15328" y="9797"/>
                  <a:pt x="15342" y="9806"/>
                  <a:pt x="15379" y="9798"/>
                </a:cubicBezTo>
              </a:path>
              <a:path w="1985" h="5830">
                <a:moveTo>
                  <a:pt x="16148" y="8979"/>
                </a:moveTo>
                <a:cubicBezTo>
                  <a:pt x="16125" y="9036"/>
                  <a:pt x="16062" y="9095"/>
                  <a:pt x="16049" y="9153"/>
                </a:cubicBezTo>
                <a:cubicBezTo>
                  <a:pt x="16034" y="9218"/>
                  <a:pt x="16096" y="9255"/>
                  <a:pt x="16148" y="9277"/>
                </a:cubicBezTo>
                <a:cubicBezTo>
                  <a:pt x="16225" y="9309"/>
                  <a:pt x="16348" y="9328"/>
                  <a:pt x="16421" y="9277"/>
                </a:cubicBezTo>
                <a:cubicBezTo>
                  <a:pt x="16470" y="9227"/>
                  <a:pt x="16486" y="9210"/>
                  <a:pt x="16520" y="9178"/>
                </a:cubicBezTo>
              </a:path>
              <a:path w="1985" h="5830">
                <a:moveTo>
                  <a:pt x="16421" y="8632"/>
                </a:moveTo>
                <a:cubicBezTo>
                  <a:pt x="16392" y="8774"/>
                  <a:pt x="16396" y="8908"/>
                  <a:pt x="16396" y="9054"/>
                </a:cubicBezTo>
                <a:cubicBezTo>
                  <a:pt x="16396" y="9190"/>
                  <a:pt x="16418" y="9316"/>
                  <a:pt x="16421" y="9451"/>
                </a:cubicBezTo>
                <a:cubicBezTo>
                  <a:pt x="16424" y="9581"/>
                  <a:pt x="16456" y="9697"/>
                  <a:pt x="16470" y="9823"/>
                </a:cubicBezTo>
                <a:cubicBezTo>
                  <a:pt x="16478" y="9894"/>
                  <a:pt x="16462" y="10062"/>
                  <a:pt x="16520" y="10021"/>
                </a:cubicBezTo>
                <a:cubicBezTo>
                  <a:pt x="16537" y="9996"/>
                  <a:pt x="16553" y="9972"/>
                  <a:pt x="16570" y="9947"/>
                </a:cubicBezTo>
              </a:path>
              <a:path w="1985" h="5830">
                <a:moveTo>
                  <a:pt x="16768" y="8682"/>
                </a:moveTo>
                <a:cubicBezTo>
                  <a:pt x="16804" y="8815"/>
                  <a:pt x="16818" y="8916"/>
                  <a:pt x="16818" y="9054"/>
                </a:cubicBezTo>
                <a:cubicBezTo>
                  <a:pt x="16818" y="9226"/>
                  <a:pt x="16824" y="9382"/>
                  <a:pt x="16867" y="9550"/>
                </a:cubicBezTo>
                <a:cubicBezTo>
                  <a:pt x="16922" y="9766"/>
                  <a:pt x="16972" y="9977"/>
                  <a:pt x="17016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10"/>
          <p:cNvSpPr/>
          <p:nvPr/>
        </p:nvSpPr>
        <p:spPr>
          <a:xfrm>
            <a:off x="2928960" y="2490840"/>
            <a:ext cx="446040" cy="1046160"/>
          </a:xfrm>
          <a:custGeom>
            <a:avLst/>
            <a:gdLst/>
            <a:ahLst/>
            <a:rect l="l" t="t" r="r" b="b"/>
            <a:pathLst>
              <a:path w="1241" h="2903">
                <a:moveTo>
                  <a:pt x="8136" y="7020"/>
                </a:moveTo>
                <a:cubicBezTo>
                  <a:pt x="8146" y="7089"/>
                  <a:pt x="8161" y="7140"/>
                  <a:pt x="8161" y="7218"/>
                </a:cubicBezTo>
                <a:cubicBezTo>
                  <a:pt x="8161" y="7379"/>
                  <a:pt x="8162" y="7536"/>
                  <a:pt x="8186" y="7689"/>
                </a:cubicBezTo>
                <a:cubicBezTo>
                  <a:pt x="8198" y="7766"/>
                  <a:pt x="8188" y="7988"/>
                  <a:pt x="8210" y="7913"/>
                </a:cubicBezTo>
                <a:cubicBezTo>
                  <a:pt x="8210" y="7888"/>
                  <a:pt x="8210" y="7863"/>
                  <a:pt x="8210" y="7838"/>
                </a:cubicBezTo>
              </a:path>
              <a:path w="1241" h="2903">
                <a:moveTo>
                  <a:pt x="8483" y="7094"/>
                </a:moveTo>
                <a:cubicBezTo>
                  <a:pt x="8539" y="7039"/>
                  <a:pt x="8591" y="6985"/>
                  <a:pt x="8657" y="6945"/>
                </a:cubicBezTo>
                <a:cubicBezTo>
                  <a:pt x="8720" y="6907"/>
                  <a:pt x="8773" y="6915"/>
                  <a:pt x="8830" y="6945"/>
                </a:cubicBezTo>
                <a:cubicBezTo>
                  <a:pt x="8887" y="6975"/>
                  <a:pt x="8942" y="7051"/>
                  <a:pt x="8954" y="7119"/>
                </a:cubicBezTo>
                <a:cubicBezTo>
                  <a:pt x="8970" y="7213"/>
                  <a:pt x="8991" y="7319"/>
                  <a:pt x="8979" y="7417"/>
                </a:cubicBezTo>
                <a:cubicBezTo>
                  <a:pt x="8960" y="7571"/>
                  <a:pt x="8932" y="7623"/>
                  <a:pt x="8855" y="7739"/>
                </a:cubicBezTo>
                <a:cubicBezTo>
                  <a:pt x="8820" y="7792"/>
                  <a:pt x="8792" y="7835"/>
                  <a:pt x="8731" y="7863"/>
                </a:cubicBezTo>
                <a:cubicBezTo>
                  <a:pt x="8670" y="7891"/>
                  <a:pt x="8613" y="7882"/>
                  <a:pt x="8582" y="7813"/>
                </a:cubicBezTo>
                <a:cubicBezTo>
                  <a:pt x="8557" y="7759"/>
                  <a:pt x="8598" y="7722"/>
                  <a:pt x="8632" y="7689"/>
                </a:cubicBezTo>
                <a:cubicBezTo>
                  <a:pt x="8689" y="7633"/>
                  <a:pt x="8705" y="7631"/>
                  <a:pt x="8781" y="7665"/>
                </a:cubicBezTo>
                <a:cubicBezTo>
                  <a:pt x="8853" y="7697"/>
                  <a:pt x="8861" y="7731"/>
                  <a:pt x="8905" y="7789"/>
                </a:cubicBezTo>
                <a:cubicBezTo>
                  <a:pt x="8945" y="7842"/>
                  <a:pt x="8950" y="7918"/>
                  <a:pt x="8954" y="7987"/>
                </a:cubicBezTo>
                <a:cubicBezTo>
                  <a:pt x="8954" y="7995"/>
                  <a:pt x="8954" y="8004"/>
                  <a:pt x="8954" y="8012"/>
                </a:cubicBezTo>
              </a:path>
              <a:path w="1241" h="2903">
                <a:moveTo>
                  <a:pt x="8186" y="8954"/>
                </a:moveTo>
                <a:cubicBezTo>
                  <a:pt x="8295" y="8978"/>
                  <a:pt x="8354" y="8989"/>
                  <a:pt x="8458" y="8954"/>
                </a:cubicBezTo>
              </a:path>
              <a:path w="1241" h="2903">
                <a:moveTo>
                  <a:pt x="8706" y="8657"/>
                </a:moveTo>
                <a:cubicBezTo>
                  <a:pt x="8747" y="8586"/>
                  <a:pt x="8816" y="8548"/>
                  <a:pt x="8905" y="8558"/>
                </a:cubicBezTo>
                <a:cubicBezTo>
                  <a:pt x="8968" y="8565"/>
                  <a:pt x="9019" y="8632"/>
                  <a:pt x="9054" y="8682"/>
                </a:cubicBezTo>
                <a:cubicBezTo>
                  <a:pt x="9121" y="8778"/>
                  <a:pt x="9128" y="8841"/>
                  <a:pt x="9128" y="8954"/>
                </a:cubicBezTo>
                <a:cubicBezTo>
                  <a:pt x="9128" y="9039"/>
                  <a:pt x="9121" y="9122"/>
                  <a:pt x="9103" y="9203"/>
                </a:cubicBezTo>
                <a:cubicBezTo>
                  <a:pt x="9088" y="9270"/>
                  <a:pt x="9047" y="9371"/>
                  <a:pt x="9004" y="9426"/>
                </a:cubicBezTo>
                <a:cubicBezTo>
                  <a:pt x="8960" y="9482"/>
                  <a:pt x="8927" y="9547"/>
                  <a:pt x="8880" y="9599"/>
                </a:cubicBezTo>
                <a:cubicBezTo>
                  <a:pt x="8842" y="9641"/>
                  <a:pt x="8793" y="9673"/>
                  <a:pt x="8731" y="9649"/>
                </a:cubicBezTo>
                <a:cubicBezTo>
                  <a:pt x="8692" y="9634"/>
                  <a:pt x="8663" y="9528"/>
                  <a:pt x="8657" y="9500"/>
                </a:cubicBezTo>
                <a:cubicBezTo>
                  <a:pt x="8648" y="9458"/>
                  <a:pt x="8681" y="9382"/>
                  <a:pt x="8706" y="9351"/>
                </a:cubicBezTo>
                <a:cubicBezTo>
                  <a:pt x="8749" y="9298"/>
                  <a:pt x="8863" y="9331"/>
                  <a:pt x="8905" y="9376"/>
                </a:cubicBezTo>
                <a:cubicBezTo>
                  <a:pt x="8939" y="9412"/>
                  <a:pt x="8980" y="9481"/>
                  <a:pt x="9004" y="9525"/>
                </a:cubicBezTo>
                <a:cubicBezTo>
                  <a:pt x="9031" y="9576"/>
                  <a:pt x="9063" y="9632"/>
                  <a:pt x="9103" y="9674"/>
                </a:cubicBezTo>
                <a:cubicBezTo>
                  <a:pt x="9160" y="9735"/>
                  <a:pt x="9211" y="9752"/>
                  <a:pt x="9277" y="9798"/>
                </a:cubicBezTo>
                <a:cubicBezTo>
                  <a:pt x="9316" y="9825"/>
                  <a:pt x="9329" y="9818"/>
                  <a:pt x="9376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11"/>
          <p:cNvSpPr/>
          <p:nvPr/>
        </p:nvSpPr>
        <p:spPr>
          <a:xfrm>
            <a:off x="1652760" y="3840120"/>
            <a:ext cx="2330280" cy="625680"/>
          </a:xfrm>
          <a:custGeom>
            <a:avLst/>
            <a:gdLst/>
            <a:ahLst/>
            <a:rect l="l" t="t" r="r" b="b"/>
            <a:pathLst>
              <a:path w="6475" h="1737">
                <a:moveTo>
                  <a:pt x="4614" y="11112"/>
                </a:moveTo>
                <a:cubicBezTo>
                  <a:pt x="4586" y="11140"/>
                  <a:pt x="4577" y="11154"/>
                  <a:pt x="4589" y="11187"/>
                </a:cubicBezTo>
                <a:cubicBezTo>
                  <a:pt x="4597" y="11131"/>
                  <a:pt x="4628" y="11088"/>
                  <a:pt x="4638" y="11038"/>
                </a:cubicBezTo>
                <a:cubicBezTo>
                  <a:pt x="4651" y="10972"/>
                  <a:pt x="4677" y="10949"/>
                  <a:pt x="4713" y="10889"/>
                </a:cubicBezTo>
                <a:cubicBezTo>
                  <a:pt x="4745" y="10837"/>
                  <a:pt x="4793" y="10775"/>
                  <a:pt x="4837" y="10740"/>
                </a:cubicBezTo>
                <a:cubicBezTo>
                  <a:pt x="4896" y="10693"/>
                  <a:pt x="4937" y="10691"/>
                  <a:pt x="5011" y="10691"/>
                </a:cubicBezTo>
                <a:cubicBezTo>
                  <a:pt x="5063" y="10691"/>
                  <a:pt x="5105" y="10718"/>
                  <a:pt x="5135" y="10765"/>
                </a:cubicBezTo>
                <a:cubicBezTo>
                  <a:pt x="5186" y="10846"/>
                  <a:pt x="5225" y="10967"/>
                  <a:pt x="5234" y="11063"/>
                </a:cubicBezTo>
                <a:cubicBezTo>
                  <a:pt x="5249" y="11216"/>
                  <a:pt x="5242" y="11386"/>
                  <a:pt x="5209" y="11534"/>
                </a:cubicBezTo>
                <a:cubicBezTo>
                  <a:pt x="5181" y="11659"/>
                  <a:pt x="5147" y="11784"/>
                  <a:pt x="5110" y="11906"/>
                </a:cubicBezTo>
                <a:cubicBezTo>
                  <a:pt x="5081" y="12001"/>
                  <a:pt x="5028" y="12083"/>
                  <a:pt x="4961" y="12154"/>
                </a:cubicBezTo>
                <a:cubicBezTo>
                  <a:pt x="4894" y="12225"/>
                  <a:pt x="4831" y="12257"/>
                  <a:pt x="4738" y="12204"/>
                </a:cubicBezTo>
                <a:cubicBezTo>
                  <a:pt x="4677" y="12169"/>
                  <a:pt x="4658" y="12109"/>
                  <a:pt x="4638" y="12055"/>
                </a:cubicBezTo>
                <a:cubicBezTo>
                  <a:pt x="4612" y="11986"/>
                  <a:pt x="4614" y="11932"/>
                  <a:pt x="4614" y="11857"/>
                </a:cubicBezTo>
                <a:cubicBezTo>
                  <a:pt x="4614" y="11777"/>
                  <a:pt x="4620" y="11750"/>
                  <a:pt x="4663" y="11683"/>
                </a:cubicBezTo>
                <a:cubicBezTo>
                  <a:pt x="4722" y="11591"/>
                  <a:pt x="4824" y="11693"/>
                  <a:pt x="4862" y="11733"/>
                </a:cubicBezTo>
                <a:cubicBezTo>
                  <a:pt x="4925" y="11800"/>
                  <a:pt x="4962" y="11878"/>
                  <a:pt x="5011" y="11956"/>
                </a:cubicBezTo>
                <a:cubicBezTo>
                  <a:pt x="5035" y="11994"/>
                  <a:pt x="5142" y="12319"/>
                  <a:pt x="5209" y="12303"/>
                </a:cubicBezTo>
                <a:cubicBezTo>
                  <a:pt x="5234" y="12287"/>
                  <a:pt x="5258" y="12270"/>
                  <a:pt x="5283" y="12254"/>
                </a:cubicBezTo>
              </a:path>
              <a:path w="6475" h="1737">
                <a:moveTo>
                  <a:pt x="5581" y="11584"/>
                </a:moveTo>
                <a:cubicBezTo>
                  <a:pt x="5631" y="11751"/>
                  <a:pt x="5678" y="11880"/>
                  <a:pt x="5755" y="12030"/>
                </a:cubicBezTo>
                <a:cubicBezTo>
                  <a:pt x="5820" y="12156"/>
                  <a:pt x="5902" y="12236"/>
                  <a:pt x="6003" y="12328"/>
                </a:cubicBezTo>
                <a:cubicBezTo>
                  <a:pt x="6054" y="12380"/>
                  <a:pt x="6073" y="12398"/>
                  <a:pt x="6127" y="12402"/>
                </a:cubicBezTo>
              </a:path>
              <a:path w="6475" h="1737">
                <a:moveTo>
                  <a:pt x="6003" y="11410"/>
                </a:moveTo>
                <a:cubicBezTo>
                  <a:pt x="5942" y="11479"/>
                  <a:pt x="5887" y="11571"/>
                  <a:pt x="5854" y="11658"/>
                </a:cubicBezTo>
                <a:cubicBezTo>
                  <a:pt x="5809" y="11777"/>
                  <a:pt x="5767" y="11908"/>
                  <a:pt x="5730" y="12030"/>
                </a:cubicBezTo>
                <a:cubicBezTo>
                  <a:pt x="5702" y="12121"/>
                  <a:pt x="5687" y="12222"/>
                  <a:pt x="5631" y="12303"/>
                </a:cubicBezTo>
                <a:cubicBezTo>
                  <a:pt x="5608" y="12326"/>
                  <a:pt x="5600" y="12337"/>
                  <a:pt x="5606" y="12303"/>
                </a:cubicBezTo>
              </a:path>
              <a:path w="6475" h="1737">
                <a:moveTo>
                  <a:pt x="6003" y="10716"/>
                </a:moveTo>
                <a:cubicBezTo>
                  <a:pt x="6116" y="10654"/>
                  <a:pt x="6112" y="10672"/>
                  <a:pt x="6226" y="10691"/>
                </a:cubicBezTo>
                <a:cubicBezTo>
                  <a:pt x="6305" y="10704"/>
                  <a:pt x="6345" y="10733"/>
                  <a:pt x="6350" y="10815"/>
                </a:cubicBezTo>
                <a:cubicBezTo>
                  <a:pt x="6354" y="10887"/>
                  <a:pt x="6321" y="10923"/>
                  <a:pt x="6276" y="10964"/>
                </a:cubicBezTo>
                <a:cubicBezTo>
                  <a:pt x="6233" y="11003"/>
                  <a:pt x="6193" y="11046"/>
                  <a:pt x="6152" y="11088"/>
                </a:cubicBezTo>
                <a:cubicBezTo>
                  <a:pt x="6201" y="11117"/>
                  <a:pt x="6263" y="11134"/>
                  <a:pt x="6325" y="11137"/>
                </a:cubicBezTo>
                <a:cubicBezTo>
                  <a:pt x="6399" y="11140"/>
                  <a:pt x="6474" y="11137"/>
                  <a:pt x="6548" y="11137"/>
                </a:cubicBezTo>
              </a:path>
              <a:path w="6475" h="1737">
                <a:moveTo>
                  <a:pt x="6697" y="11832"/>
                </a:moveTo>
                <a:cubicBezTo>
                  <a:pt x="6774" y="11822"/>
                  <a:pt x="6839" y="11807"/>
                  <a:pt x="6921" y="11807"/>
                </a:cubicBezTo>
                <a:cubicBezTo>
                  <a:pt x="6995" y="11807"/>
                  <a:pt x="7020" y="11807"/>
                  <a:pt x="7069" y="11807"/>
                </a:cubicBezTo>
              </a:path>
              <a:path w="6475" h="1737">
                <a:moveTo>
                  <a:pt x="7541" y="11187"/>
                </a:moveTo>
                <a:cubicBezTo>
                  <a:pt x="7611" y="11109"/>
                  <a:pt x="7638" y="11055"/>
                  <a:pt x="7739" y="11038"/>
                </a:cubicBezTo>
                <a:cubicBezTo>
                  <a:pt x="7822" y="11024"/>
                  <a:pt x="7882" y="11010"/>
                  <a:pt x="7962" y="11063"/>
                </a:cubicBezTo>
                <a:cubicBezTo>
                  <a:pt x="8027" y="11106"/>
                  <a:pt x="8059" y="11163"/>
                  <a:pt x="8062" y="11237"/>
                </a:cubicBezTo>
                <a:cubicBezTo>
                  <a:pt x="8066" y="11333"/>
                  <a:pt x="8064" y="11418"/>
                  <a:pt x="8037" y="11509"/>
                </a:cubicBezTo>
                <a:cubicBezTo>
                  <a:pt x="8002" y="11626"/>
                  <a:pt x="7976" y="11804"/>
                  <a:pt x="7913" y="11906"/>
                </a:cubicBezTo>
                <a:cubicBezTo>
                  <a:pt x="7868" y="11980"/>
                  <a:pt x="7799" y="12066"/>
                  <a:pt x="7739" y="12129"/>
                </a:cubicBezTo>
                <a:cubicBezTo>
                  <a:pt x="7710" y="12160"/>
                  <a:pt x="7631" y="12237"/>
                  <a:pt x="7590" y="12229"/>
                </a:cubicBezTo>
                <a:cubicBezTo>
                  <a:pt x="7522" y="12215"/>
                  <a:pt x="7482" y="12184"/>
                  <a:pt x="7466" y="12105"/>
                </a:cubicBezTo>
                <a:cubicBezTo>
                  <a:pt x="7447" y="12013"/>
                  <a:pt x="7468" y="11917"/>
                  <a:pt x="7541" y="11857"/>
                </a:cubicBezTo>
                <a:cubicBezTo>
                  <a:pt x="7598" y="11810"/>
                  <a:pt x="7740" y="11824"/>
                  <a:pt x="7789" y="11881"/>
                </a:cubicBezTo>
                <a:cubicBezTo>
                  <a:pt x="7876" y="11983"/>
                  <a:pt x="7950" y="12101"/>
                  <a:pt x="8037" y="12204"/>
                </a:cubicBezTo>
                <a:cubicBezTo>
                  <a:pt x="8084" y="12260"/>
                  <a:pt x="8162" y="12358"/>
                  <a:pt x="8235" y="12378"/>
                </a:cubicBezTo>
                <a:cubicBezTo>
                  <a:pt x="8285" y="12378"/>
                  <a:pt x="8301" y="12378"/>
                  <a:pt x="8334" y="12378"/>
                </a:cubicBezTo>
              </a:path>
              <a:path w="6475" h="1737">
                <a:moveTo>
                  <a:pt x="8434" y="11534"/>
                </a:moveTo>
                <a:cubicBezTo>
                  <a:pt x="8469" y="11683"/>
                  <a:pt x="8511" y="11773"/>
                  <a:pt x="8582" y="11906"/>
                </a:cubicBezTo>
                <a:cubicBezTo>
                  <a:pt x="8642" y="12019"/>
                  <a:pt x="8730" y="12145"/>
                  <a:pt x="8830" y="12229"/>
                </a:cubicBezTo>
                <a:cubicBezTo>
                  <a:pt x="8896" y="12284"/>
                  <a:pt x="8976" y="12352"/>
                  <a:pt x="9054" y="12378"/>
                </a:cubicBezTo>
              </a:path>
              <a:path w="6475" h="1737">
                <a:moveTo>
                  <a:pt x="8954" y="11509"/>
                </a:moveTo>
                <a:cubicBezTo>
                  <a:pt x="8875" y="11604"/>
                  <a:pt x="8804" y="11682"/>
                  <a:pt x="8731" y="11782"/>
                </a:cubicBezTo>
                <a:cubicBezTo>
                  <a:pt x="8642" y="11905"/>
                  <a:pt x="8523" y="11991"/>
                  <a:pt x="8434" y="12105"/>
                </a:cubicBezTo>
                <a:cubicBezTo>
                  <a:pt x="8380" y="12174"/>
                  <a:pt x="8337" y="12258"/>
                  <a:pt x="8285" y="12328"/>
                </a:cubicBezTo>
                <a:cubicBezTo>
                  <a:pt x="8262" y="12351"/>
                  <a:pt x="8251" y="12359"/>
                  <a:pt x="8285" y="12353"/>
                </a:cubicBezTo>
              </a:path>
              <a:path w="6475" h="1737">
                <a:moveTo>
                  <a:pt x="9674" y="11336"/>
                </a:moveTo>
                <a:cubicBezTo>
                  <a:pt x="9697" y="11441"/>
                  <a:pt x="9699" y="11526"/>
                  <a:pt x="9699" y="11633"/>
                </a:cubicBezTo>
                <a:cubicBezTo>
                  <a:pt x="9699" y="11752"/>
                  <a:pt x="9756" y="11843"/>
                  <a:pt x="9773" y="11956"/>
                </a:cubicBezTo>
                <a:cubicBezTo>
                  <a:pt x="9785" y="12036"/>
                  <a:pt x="9813" y="12100"/>
                  <a:pt x="9823" y="12179"/>
                </a:cubicBezTo>
              </a:path>
              <a:path w="6475" h="1737">
                <a:moveTo>
                  <a:pt x="9525" y="11609"/>
                </a:moveTo>
                <a:cubicBezTo>
                  <a:pt x="9726" y="11629"/>
                  <a:pt x="9921" y="11670"/>
                  <a:pt x="10120" y="11683"/>
                </a:cubicBezTo>
              </a:path>
              <a:path w="6475" h="1737">
                <a:moveTo>
                  <a:pt x="10964" y="11063"/>
                </a:moveTo>
                <a:cubicBezTo>
                  <a:pt x="10907" y="10982"/>
                  <a:pt x="10891" y="10945"/>
                  <a:pt x="10790" y="10939"/>
                </a:cubicBezTo>
                <a:cubicBezTo>
                  <a:pt x="10711" y="10935"/>
                  <a:pt x="10636" y="10944"/>
                  <a:pt x="10567" y="10988"/>
                </a:cubicBezTo>
                <a:cubicBezTo>
                  <a:pt x="10508" y="11026"/>
                  <a:pt x="10501" y="11127"/>
                  <a:pt x="10517" y="11187"/>
                </a:cubicBezTo>
                <a:cubicBezTo>
                  <a:pt x="10537" y="11265"/>
                  <a:pt x="10596" y="11324"/>
                  <a:pt x="10641" y="11385"/>
                </a:cubicBezTo>
                <a:cubicBezTo>
                  <a:pt x="10723" y="11496"/>
                  <a:pt x="10812" y="11593"/>
                  <a:pt x="10889" y="11708"/>
                </a:cubicBezTo>
                <a:cubicBezTo>
                  <a:pt x="10948" y="11796"/>
                  <a:pt x="11001" y="11882"/>
                  <a:pt x="11038" y="11981"/>
                </a:cubicBezTo>
                <a:cubicBezTo>
                  <a:pt x="11060" y="12041"/>
                  <a:pt x="11081" y="12138"/>
                  <a:pt x="11063" y="12204"/>
                </a:cubicBezTo>
                <a:cubicBezTo>
                  <a:pt x="11046" y="12266"/>
                  <a:pt x="10974" y="12315"/>
                  <a:pt x="10914" y="12328"/>
                </a:cubicBezTo>
                <a:cubicBezTo>
                  <a:pt x="10827" y="12347"/>
                  <a:pt x="10716" y="12322"/>
                  <a:pt x="10641" y="12278"/>
                </a:cubicBezTo>
                <a:cubicBezTo>
                  <a:pt x="10597" y="12252"/>
                  <a:pt x="10553" y="12176"/>
                  <a:pt x="10542" y="12129"/>
                </a:cubicBezTo>
                <a:cubicBezTo>
                  <a:pt x="10529" y="12071"/>
                  <a:pt x="10550" y="11983"/>
                  <a:pt x="10567" y="11931"/>
                </a:cubicBezTo>
                <a:cubicBezTo>
                  <a:pt x="10598" y="11837"/>
                  <a:pt x="10656" y="11773"/>
                  <a:pt x="10691" y="11683"/>
                </a:cubicBezTo>
                <a:cubicBezTo>
                  <a:pt x="10731" y="11581"/>
                  <a:pt x="10815" y="11479"/>
                  <a:pt x="10889" y="11410"/>
                </a:cubicBezTo>
                <a:cubicBezTo>
                  <a:pt x="10909" y="11391"/>
                  <a:pt x="10995" y="11270"/>
                  <a:pt x="11013" y="11261"/>
                </a:cubicBezTo>
                <a:cubicBezTo>
                  <a:pt x="11030" y="11261"/>
                  <a:pt x="11046" y="11261"/>
                  <a:pt x="11063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12"/>
          <p:cNvSpPr/>
          <p:nvPr/>
        </p:nvSpPr>
        <p:spPr>
          <a:xfrm>
            <a:off x="4232160" y="3830760"/>
            <a:ext cx="965160" cy="901440"/>
          </a:xfrm>
          <a:custGeom>
            <a:avLst/>
            <a:gdLst/>
            <a:ahLst/>
            <a:rect l="l" t="t" r="r" b="b"/>
            <a:pathLst>
              <a:path w="2680" h="2506">
                <a:moveTo>
                  <a:pt x="11981" y="11931"/>
                </a:moveTo>
                <a:cubicBezTo>
                  <a:pt x="11981" y="12036"/>
                  <a:pt x="11975" y="12129"/>
                  <a:pt x="12005" y="12229"/>
                </a:cubicBezTo>
                <a:cubicBezTo>
                  <a:pt x="12025" y="12296"/>
                  <a:pt x="12042" y="12361"/>
                  <a:pt x="12055" y="12427"/>
                </a:cubicBezTo>
              </a:path>
              <a:path w="2680" h="2506">
                <a:moveTo>
                  <a:pt x="11757" y="11981"/>
                </a:moveTo>
                <a:cubicBezTo>
                  <a:pt x="11886" y="11981"/>
                  <a:pt x="12005" y="11987"/>
                  <a:pt x="12129" y="11956"/>
                </a:cubicBezTo>
              </a:path>
              <a:path w="2680" h="2506">
                <a:moveTo>
                  <a:pt x="12650" y="11088"/>
                </a:moveTo>
                <a:cubicBezTo>
                  <a:pt x="12643" y="11146"/>
                  <a:pt x="12625" y="11235"/>
                  <a:pt x="12601" y="11286"/>
                </a:cubicBezTo>
                <a:cubicBezTo>
                  <a:pt x="12593" y="11294"/>
                  <a:pt x="12584" y="11303"/>
                  <a:pt x="12576" y="11311"/>
                </a:cubicBezTo>
                <a:cubicBezTo>
                  <a:pt x="12626" y="11341"/>
                  <a:pt x="12686" y="11357"/>
                  <a:pt x="12750" y="11361"/>
                </a:cubicBezTo>
                <a:cubicBezTo>
                  <a:pt x="12799" y="11364"/>
                  <a:pt x="12849" y="11361"/>
                  <a:pt x="12898" y="11361"/>
                </a:cubicBezTo>
              </a:path>
              <a:path w="2680" h="2506">
                <a:moveTo>
                  <a:pt x="13022" y="10765"/>
                </a:moveTo>
                <a:cubicBezTo>
                  <a:pt x="13012" y="10847"/>
                  <a:pt x="12976" y="10903"/>
                  <a:pt x="12973" y="10988"/>
                </a:cubicBezTo>
                <a:cubicBezTo>
                  <a:pt x="12969" y="11124"/>
                  <a:pt x="12960" y="11224"/>
                  <a:pt x="12973" y="11361"/>
                </a:cubicBezTo>
                <a:cubicBezTo>
                  <a:pt x="12980" y="11433"/>
                  <a:pt x="12969" y="11518"/>
                  <a:pt x="12998" y="11584"/>
                </a:cubicBezTo>
                <a:cubicBezTo>
                  <a:pt x="13006" y="11592"/>
                  <a:pt x="13014" y="11601"/>
                  <a:pt x="13022" y="11609"/>
                </a:cubicBezTo>
              </a:path>
              <a:path w="2680" h="2506">
                <a:moveTo>
                  <a:pt x="13320" y="10641"/>
                </a:moveTo>
                <a:cubicBezTo>
                  <a:pt x="13348" y="10752"/>
                  <a:pt x="13334" y="10850"/>
                  <a:pt x="13345" y="10964"/>
                </a:cubicBezTo>
                <a:cubicBezTo>
                  <a:pt x="13364" y="11166"/>
                  <a:pt x="13413" y="11355"/>
                  <a:pt x="13419" y="11559"/>
                </a:cubicBezTo>
                <a:cubicBezTo>
                  <a:pt x="13419" y="11584"/>
                  <a:pt x="13419" y="11608"/>
                  <a:pt x="13419" y="11633"/>
                </a:cubicBezTo>
              </a:path>
              <a:path w="2680" h="2506">
                <a:moveTo>
                  <a:pt x="12700" y="11683"/>
                </a:moveTo>
                <a:cubicBezTo>
                  <a:pt x="12791" y="11653"/>
                  <a:pt x="12875" y="11658"/>
                  <a:pt x="12973" y="11658"/>
                </a:cubicBezTo>
                <a:cubicBezTo>
                  <a:pt x="13213" y="11658"/>
                  <a:pt x="13452" y="11658"/>
                  <a:pt x="13692" y="11658"/>
                </a:cubicBezTo>
              </a:path>
              <a:path w="2680" h="2506">
                <a:moveTo>
                  <a:pt x="12998" y="11981"/>
                </a:moveTo>
                <a:cubicBezTo>
                  <a:pt x="13077" y="12204"/>
                  <a:pt x="13128" y="12302"/>
                  <a:pt x="13271" y="12477"/>
                </a:cubicBezTo>
                <a:cubicBezTo>
                  <a:pt x="13360" y="12586"/>
                  <a:pt x="13455" y="12667"/>
                  <a:pt x="13568" y="12750"/>
                </a:cubicBezTo>
              </a:path>
              <a:path w="2680" h="2506">
                <a:moveTo>
                  <a:pt x="13419" y="12030"/>
                </a:moveTo>
                <a:cubicBezTo>
                  <a:pt x="13315" y="12150"/>
                  <a:pt x="13268" y="12258"/>
                  <a:pt x="13196" y="12402"/>
                </a:cubicBezTo>
                <a:cubicBezTo>
                  <a:pt x="13133" y="12527"/>
                  <a:pt x="13087" y="12648"/>
                  <a:pt x="13022" y="12774"/>
                </a:cubicBezTo>
                <a:cubicBezTo>
                  <a:pt x="12996" y="12825"/>
                  <a:pt x="12993" y="12870"/>
                  <a:pt x="12973" y="12923"/>
                </a:cubicBezTo>
              </a:path>
              <a:path w="2680" h="2506">
                <a:moveTo>
                  <a:pt x="13395" y="12402"/>
                </a:moveTo>
                <a:cubicBezTo>
                  <a:pt x="13566" y="12402"/>
                  <a:pt x="13677" y="12401"/>
                  <a:pt x="13841" y="12378"/>
                </a:cubicBezTo>
              </a:path>
              <a:path w="2680" h="2506">
                <a:moveTo>
                  <a:pt x="14015" y="12105"/>
                </a:moveTo>
                <a:cubicBezTo>
                  <a:pt x="13947" y="12199"/>
                  <a:pt x="13874" y="12267"/>
                  <a:pt x="13866" y="12378"/>
                </a:cubicBezTo>
                <a:cubicBezTo>
                  <a:pt x="13859" y="12464"/>
                  <a:pt x="13868" y="12575"/>
                  <a:pt x="13915" y="12650"/>
                </a:cubicBezTo>
                <a:cubicBezTo>
                  <a:pt x="13962" y="12724"/>
                  <a:pt x="14060" y="12791"/>
                  <a:pt x="14139" y="12824"/>
                </a:cubicBezTo>
                <a:cubicBezTo>
                  <a:pt x="14245" y="12868"/>
                  <a:pt x="14283" y="12848"/>
                  <a:pt x="14362" y="12774"/>
                </a:cubicBezTo>
                <a:cubicBezTo>
                  <a:pt x="14440" y="12701"/>
                  <a:pt x="14460" y="12629"/>
                  <a:pt x="14412" y="12526"/>
                </a:cubicBezTo>
                <a:cubicBezTo>
                  <a:pt x="14384" y="12467"/>
                  <a:pt x="14307" y="12453"/>
                  <a:pt x="14263" y="12477"/>
                </a:cubicBezTo>
                <a:cubicBezTo>
                  <a:pt x="14094" y="12568"/>
                  <a:pt x="14163" y="12845"/>
                  <a:pt x="14163" y="12998"/>
                </a:cubicBezTo>
                <a:cubicBezTo>
                  <a:pt x="14163" y="13047"/>
                  <a:pt x="14163" y="13097"/>
                  <a:pt x="14163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13"/>
          <p:cNvSpPr/>
          <p:nvPr/>
        </p:nvSpPr>
        <p:spPr>
          <a:xfrm>
            <a:off x="3919680" y="2562120"/>
            <a:ext cx="760320" cy="1036800"/>
          </a:xfrm>
          <a:custGeom>
            <a:avLst/>
            <a:gdLst/>
            <a:ahLst/>
            <a:rect l="l" t="t" r="r" b="b"/>
            <a:pathLst>
              <a:path w="2110" h="2878">
                <a:moveTo>
                  <a:pt x="10889" y="7689"/>
                </a:moveTo>
                <a:cubicBezTo>
                  <a:pt x="11016" y="7689"/>
                  <a:pt x="11138" y="7677"/>
                  <a:pt x="11261" y="7665"/>
                </a:cubicBezTo>
                <a:cubicBezTo>
                  <a:pt x="11286" y="7665"/>
                  <a:pt x="11311" y="7665"/>
                  <a:pt x="11336" y="7665"/>
                </a:cubicBezTo>
              </a:path>
              <a:path w="2110" h="2878">
                <a:moveTo>
                  <a:pt x="11931" y="7218"/>
                </a:moveTo>
                <a:cubicBezTo>
                  <a:pt x="11931" y="7444"/>
                  <a:pt x="11931" y="7667"/>
                  <a:pt x="11956" y="7888"/>
                </a:cubicBezTo>
                <a:cubicBezTo>
                  <a:pt x="11959" y="7919"/>
                  <a:pt x="11960" y="8187"/>
                  <a:pt x="11981" y="8111"/>
                </a:cubicBezTo>
                <a:cubicBezTo>
                  <a:pt x="11981" y="8095"/>
                  <a:pt x="11981" y="8078"/>
                  <a:pt x="11981" y="8062"/>
                </a:cubicBezTo>
              </a:path>
              <a:path w="2110" h="2878">
                <a:moveTo>
                  <a:pt x="12254" y="7342"/>
                </a:moveTo>
                <a:cubicBezTo>
                  <a:pt x="12294" y="7280"/>
                  <a:pt x="12358" y="7136"/>
                  <a:pt x="12452" y="7119"/>
                </a:cubicBezTo>
                <a:cubicBezTo>
                  <a:pt x="12549" y="7101"/>
                  <a:pt x="12605" y="7142"/>
                  <a:pt x="12650" y="7218"/>
                </a:cubicBezTo>
                <a:cubicBezTo>
                  <a:pt x="12696" y="7296"/>
                  <a:pt x="12700" y="7351"/>
                  <a:pt x="12700" y="7441"/>
                </a:cubicBezTo>
                <a:cubicBezTo>
                  <a:pt x="12700" y="7539"/>
                  <a:pt x="12664" y="7624"/>
                  <a:pt x="12626" y="7714"/>
                </a:cubicBezTo>
                <a:cubicBezTo>
                  <a:pt x="12594" y="7789"/>
                  <a:pt x="12575" y="7866"/>
                  <a:pt x="12551" y="7938"/>
                </a:cubicBezTo>
                <a:cubicBezTo>
                  <a:pt x="12533" y="7992"/>
                  <a:pt x="12465" y="8041"/>
                  <a:pt x="12452" y="8086"/>
                </a:cubicBezTo>
                <a:cubicBezTo>
                  <a:pt x="12452" y="8103"/>
                  <a:pt x="12452" y="8119"/>
                  <a:pt x="12452" y="8136"/>
                </a:cubicBezTo>
                <a:cubicBezTo>
                  <a:pt x="12499" y="8164"/>
                  <a:pt x="12544" y="8183"/>
                  <a:pt x="12601" y="8186"/>
                </a:cubicBezTo>
                <a:cubicBezTo>
                  <a:pt x="12733" y="8192"/>
                  <a:pt x="12866" y="8186"/>
                  <a:pt x="12998" y="8186"/>
                </a:cubicBezTo>
              </a:path>
              <a:path w="2110" h="2878">
                <a:moveTo>
                  <a:pt x="12874" y="9004"/>
                </a:moveTo>
                <a:cubicBezTo>
                  <a:pt x="12924" y="8933"/>
                  <a:pt x="12914" y="8915"/>
                  <a:pt x="12824" y="8855"/>
                </a:cubicBezTo>
                <a:cubicBezTo>
                  <a:pt x="12757" y="8810"/>
                  <a:pt x="12679" y="8785"/>
                  <a:pt x="12601" y="8781"/>
                </a:cubicBezTo>
                <a:cubicBezTo>
                  <a:pt x="12533" y="8777"/>
                  <a:pt x="12482" y="8777"/>
                  <a:pt x="12427" y="8806"/>
                </a:cubicBezTo>
                <a:cubicBezTo>
                  <a:pt x="12362" y="8840"/>
                  <a:pt x="12330" y="8872"/>
                  <a:pt x="12353" y="8954"/>
                </a:cubicBezTo>
                <a:cubicBezTo>
                  <a:pt x="12385" y="9068"/>
                  <a:pt x="12462" y="9201"/>
                  <a:pt x="12526" y="9302"/>
                </a:cubicBezTo>
                <a:cubicBezTo>
                  <a:pt x="12594" y="9409"/>
                  <a:pt x="12660" y="9515"/>
                  <a:pt x="12725" y="9624"/>
                </a:cubicBezTo>
                <a:cubicBezTo>
                  <a:pt x="12770" y="9700"/>
                  <a:pt x="12854" y="9783"/>
                  <a:pt x="12874" y="9872"/>
                </a:cubicBezTo>
                <a:cubicBezTo>
                  <a:pt x="12887" y="9928"/>
                  <a:pt x="12855" y="9957"/>
                  <a:pt x="12824" y="9996"/>
                </a:cubicBezTo>
                <a:cubicBezTo>
                  <a:pt x="12779" y="9970"/>
                  <a:pt x="12706" y="9940"/>
                  <a:pt x="12675" y="9897"/>
                </a:cubicBezTo>
                <a:cubicBezTo>
                  <a:pt x="12618" y="9817"/>
                  <a:pt x="12605" y="9776"/>
                  <a:pt x="12601" y="9674"/>
                </a:cubicBezTo>
                <a:cubicBezTo>
                  <a:pt x="12598" y="9579"/>
                  <a:pt x="12609" y="9534"/>
                  <a:pt x="12650" y="9451"/>
                </a:cubicBezTo>
                <a:cubicBezTo>
                  <a:pt x="12690" y="9370"/>
                  <a:pt x="12731" y="9305"/>
                  <a:pt x="12774" y="9227"/>
                </a:cubicBezTo>
                <a:cubicBezTo>
                  <a:pt x="12817" y="9149"/>
                  <a:pt x="12869" y="9067"/>
                  <a:pt x="12874" y="8979"/>
                </a:cubicBezTo>
                <a:cubicBezTo>
                  <a:pt x="12877" y="8920"/>
                  <a:pt x="12859" y="8898"/>
                  <a:pt x="12824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14"/>
          <p:cNvSpPr/>
          <p:nvPr/>
        </p:nvSpPr>
        <p:spPr>
          <a:xfrm>
            <a:off x="1714680" y="2928960"/>
            <a:ext cx="4394160" cy="115920"/>
          </a:xfrm>
          <a:custGeom>
            <a:avLst/>
            <a:gdLst/>
            <a:ahLst/>
            <a:rect l="l" t="t" r="r" b="b"/>
            <a:pathLst>
              <a:path w="12205" h="323">
                <a:moveTo>
                  <a:pt x="4762" y="8136"/>
                </a:moveTo>
                <a:cubicBezTo>
                  <a:pt x="4820" y="8147"/>
                  <a:pt x="4890" y="8180"/>
                  <a:pt x="4961" y="8186"/>
                </a:cubicBezTo>
                <a:cubicBezTo>
                  <a:pt x="5806" y="8260"/>
                  <a:pt x="6696" y="8210"/>
                  <a:pt x="7541" y="8210"/>
                </a:cubicBezTo>
                <a:cubicBezTo>
                  <a:pt x="7973" y="8210"/>
                  <a:pt x="8401" y="8230"/>
                  <a:pt x="8830" y="8235"/>
                </a:cubicBezTo>
                <a:cubicBezTo>
                  <a:pt x="9088" y="8238"/>
                  <a:pt x="9341" y="8257"/>
                  <a:pt x="9599" y="8260"/>
                </a:cubicBezTo>
                <a:cubicBezTo>
                  <a:pt x="9866" y="8263"/>
                  <a:pt x="10128" y="8277"/>
                  <a:pt x="10393" y="8285"/>
                </a:cubicBezTo>
                <a:cubicBezTo>
                  <a:pt x="10675" y="8294"/>
                  <a:pt x="10956" y="8302"/>
                  <a:pt x="11237" y="8310"/>
                </a:cubicBezTo>
                <a:cubicBezTo>
                  <a:pt x="11528" y="8319"/>
                  <a:pt x="11815" y="8318"/>
                  <a:pt x="12105" y="8334"/>
                </a:cubicBezTo>
                <a:cubicBezTo>
                  <a:pt x="12304" y="8345"/>
                  <a:pt x="12499" y="8358"/>
                  <a:pt x="12700" y="8359"/>
                </a:cubicBezTo>
                <a:cubicBezTo>
                  <a:pt x="13255" y="8363"/>
                  <a:pt x="13810" y="8369"/>
                  <a:pt x="14362" y="8384"/>
                </a:cubicBezTo>
                <a:cubicBezTo>
                  <a:pt x="14670" y="8392"/>
                  <a:pt x="14974" y="8385"/>
                  <a:pt x="15280" y="8409"/>
                </a:cubicBezTo>
                <a:cubicBezTo>
                  <a:pt x="15462" y="8423"/>
                  <a:pt x="15643" y="8423"/>
                  <a:pt x="15825" y="8434"/>
                </a:cubicBezTo>
                <a:cubicBezTo>
                  <a:pt x="15992" y="8444"/>
                  <a:pt x="16153" y="8456"/>
                  <a:pt x="16321" y="8458"/>
                </a:cubicBezTo>
                <a:cubicBezTo>
                  <a:pt x="16489" y="8460"/>
                  <a:pt x="16655" y="8467"/>
                  <a:pt x="16818" y="8434"/>
                </a:cubicBezTo>
                <a:cubicBezTo>
                  <a:pt x="16904" y="8416"/>
                  <a:pt x="16938" y="8387"/>
                  <a:pt x="16942" y="8384"/>
                </a:cubicBezTo>
                <a:cubicBezTo>
                  <a:pt x="16934" y="8376"/>
                  <a:pt x="16925" y="8367"/>
                  <a:pt x="16917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8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6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– 6x + 2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2x – 1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Ink 5"/>
          <p:cNvSpPr/>
          <p:nvPr/>
        </p:nvSpPr>
        <p:spPr>
          <a:xfrm>
            <a:off x="534960" y="1509840"/>
            <a:ext cx="1144440" cy="347400"/>
          </a:xfrm>
          <a:custGeom>
            <a:avLst/>
            <a:gdLst/>
            <a:ahLst/>
            <a:rect l="l" t="t" r="r" b="b"/>
            <a:pathLst>
              <a:path w="3176" h="968">
                <a:moveTo>
                  <a:pt x="1662" y="4440"/>
                </a:moveTo>
                <a:cubicBezTo>
                  <a:pt x="1671" y="4379"/>
                  <a:pt x="1692" y="4341"/>
                  <a:pt x="1736" y="4291"/>
                </a:cubicBezTo>
                <a:cubicBezTo>
                  <a:pt x="1783" y="4238"/>
                  <a:pt x="1808" y="4243"/>
                  <a:pt x="1860" y="4217"/>
                </a:cubicBezTo>
                <a:cubicBezTo>
                  <a:pt x="1925" y="4184"/>
                  <a:pt x="1949" y="4189"/>
                  <a:pt x="2009" y="4242"/>
                </a:cubicBezTo>
                <a:cubicBezTo>
                  <a:pt x="2052" y="4280"/>
                  <a:pt x="2025" y="4344"/>
                  <a:pt x="2009" y="4390"/>
                </a:cubicBezTo>
                <a:cubicBezTo>
                  <a:pt x="1961" y="4526"/>
                  <a:pt x="1830" y="4645"/>
                  <a:pt x="1761" y="4762"/>
                </a:cubicBezTo>
                <a:cubicBezTo>
                  <a:pt x="1706" y="4855"/>
                  <a:pt x="1638" y="4935"/>
                  <a:pt x="1588" y="5035"/>
                </a:cubicBezTo>
                <a:cubicBezTo>
                  <a:pt x="1562" y="5088"/>
                  <a:pt x="1530" y="5118"/>
                  <a:pt x="1488" y="5159"/>
                </a:cubicBezTo>
                <a:cubicBezTo>
                  <a:pt x="1548" y="5101"/>
                  <a:pt x="1575" y="5110"/>
                  <a:pt x="1662" y="5110"/>
                </a:cubicBezTo>
                <a:cubicBezTo>
                  <a:pt x="1748" y="5110"/>
                  <a:pt x="1820" y="5155"/>
                  <a:pt x="1910" y="5159"/>
                </a:cubicBezTo>
                <a:cubicBezTo>
                  <a:pt x="1960" y="5159"/>
                  <a:pt x="1976" y="5159"/>
                  <a:pt x="2009" y="5159"/>
                </a:cubicBezTo>
              </a:path>
              <a:path w="3176" h="968">
                <a:moveTo>
                  <a:pt x="2158" y="4713"/>
                </a:moveTo>
                <a:cubicBezTo>
                  <a:pt x="2193" y="4791"/>
                  <a:pt x="2209" y="4934"/>
                  <a:pt x="2282" y="4986"/>
                </a:cubicBezTo>
                <a:cubicBezTo>
                  <a:pt x="2323" y="5015"/>
                  <a:pt x="2364" y="5058"/>
                  <a:pt x="2406" y="5085"/>
                </a:cubicBezTo>
                <a:cubicBezTo>
                  <a:pt x="2467" y="5124"/>
                  <a:pt x="2464" y="5102"/>
                  <a:pt x="2505" y="5060"/>
                </a:cubicBezTo>
              </a:path>
              <a:path w="3176" h="968">
                <a:moveTo>
                  <a:pt x="2332" y="4713"/>
                </a:moveTo>
                <a:cubicBezTo>
                  <a:pt x="2255" y="4782"/>
                  <a:pt x="2197" y="4834"/>
                  <a:pt x="2133" y="4911"/>
                </a:cubicBezTo>
                <a:cubicBezTo>
                  <a:pt x="2083" y="4972"/>
                  <a:pt x="2011" y="4981"/>
                  <a:pt x="1984" y="5060"/>
                </a:cubicBezTo>
                <a:cubicBezTo>
                  <a:pt x="1984" y="5068"/>
                  <a:pt x="1984" y="5077"/>
                  <a:pt x="1984" y="5085"/>
                </a:cubicBezTo>
              </a:path>
              <a:path w="3176" h="968">
                <a:moveTo>
                  <a:pt x="2480" y="4787"/>
                </a:moveTo>
                <a:cubicBezTo>
                  <a:pt x="2586" y="4787"/>
                  <a:pt x="2681" y="4799"/>
                  <a:pt x="2778" y="4762"/>
                </a:cubicBezTo>
              </a:path>
              <a:path w="3176" h="968">
                <a:moveTo>
                  <a:pt x="3125" y="4266"/>
                </a:moveTo>
                <a:cubicBezTo>
                  <a:pt x="3125" y="4367"/>
                  <a:pt x="3123" y="4468"/>
                  <a:pt x="3101" y="4564"/>
                </a:cubicBezTo>
                <a:cubicBezTo>
                  <a:pt x="3074" y="4678"/>
                  <a:pt x="3055" y="4791"/>
                  <a:pt x="3051" y="4911"/>
                </a:cubicBezTo>
                <a:cubicBezTo>
                  <a:pt x="3048" y="4988"/>
                  <a:pt x="3040" y="4996"/>
                  <a:pt x="3101" y="5011"/>
                </a:cubicBezTo>
              </a:path>
              <a:path w="3176" h="968">
                <a:moveTo>
                  <a:pt x="3398" y="4638"/>
                </a:moveTo>
                <a:cubicBezTo>
                  <a:pt x="3479" y="4638"/>
                  <a:pt x="3519" y="4659"/>
                  <a:pt x="3597" y="4663"/>
                </a:cubicBezTo>
                <a:cubicBezTo>
                  <a:pt x="3613" y="4663"/>
                  <a:pt x="3630" y="4663"/>
                  <a:pt x="3646" y="4663"/>
                </a:cubicBezTo>
              </a:path>
              <a:path w="3176" h="968">
                <a:moveTo>
                  <a:pt x="3398" y="4837"/>
                </a:moveTo>
                <a:cubicBezTo>
                  <a:pt x="3498" y="4851"/>
                  <a:pt x="3547" y="4837"/>
                  <a:pt x="3646" y="4837"/>
                </a:cubicBezTo>
              </a:path>
              <a:path w="3176" h="968">
                <a:moveTo>
                  <a:pt x="4167" y="4390"/>
                </a:moveTo>
                <a:cubicBezTo>
                  <a:pt x="4100" y="4505"/>
                  <a:pt x="4024" y="4605"/>
                  <a:pt x="4018" y="4738"/>
                </a:cubicBezTo>
                <a:cubicBezTo>
                  <a:pt x="4014" y="4820"/>
                  <a:pt x="4028" y="4845"/>
                  <a:pt x="4068" y="4911"/>
                </a:cubicBezTo>
                <a:cubicBezTo>
                  <a:pt x="4111" y="4981"/>
                  <a:pt x="4158" y="5007"/>
                  <a:pt x="4242" y="5011"/>
                </a:cubicBezTo>
                <a:cubicBezTo>
                  <a:pt x="4341" y="5015"/>
                  <a:pt x="4406" y="4980"/>
                  <a:pt x="4490" y="4936"/>
                </a:cubicBezTo>
                <a:cubicBezTo>
                  <a:pt x="4560" y="4899"/>
                  <a:pt x="4619" y="4817"/>
                  <a:pt x="4638" y="4738"/>
                </a:cubicBezTo>
                <a:cubicBezTo>
                  <a:pt x="4657" y="4656"/>
                  <a:pt x="4661" y="4572"/>
                  <a:pt x="4638" y="4490"/>
                </a:cubicBezTo>
                <a:cubicBezTo>
                  <a:pt x="4623" y="4435"/>
                  <a:pt x="4545" y="4332"/>
                  <a:pt x="4490" y="4316"/>
                </a:cubicBezTo>
                <a:cubicBezTo>
                  <a:pt x="4387" y="4286"/>
                  <a:pt x="4293" y="4305"/>
                  <a:pt x="4192" y="43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6"/>
          <p:cNvSpPr/>
          <p:nvPr/>
        </p:nvSpPr>
        <p:spPr>
          <a:xfrm>
            <a:off x="490680" y="1490760"/>
            <a:ext cx="1179360" cy="1492200"/>
          </a:xfrm>
          <a:custGeom>
            <a:avLst/>
            <a:gdLst/>
            <a:ahLst/>
            <a:rect l="l" t="t" r="r" b="b"/>
            <a:pathLst>
              <a:path w="3275" h="4144">
                <a:moveTo>
                  <a:pt x="2679" y="5358"/>
                </a:moveTo>
                <a:cubicBezTo>
                  <a:pt x="2679" y="5439"/>
                  <a:pt x="2666" y="5506"/>
                  <a:pt x="2654" y="5581"/>
                </a:cubicBezTo>
                <a:cubicBezTo>
                  <a:pt x="2640" y="5668"/>
                  <a:pt x="2654" y="5766"/>
                  <a:pt x="2654" y="5854"/>
                </a:cubicBezTo>
              </a:path>
              <a:path w="3275" h="4144">
                <a:moveTo>
                  <a:pt x="2480" y="5655"/>
                </a:moveTo>
                <a:cubicBezTo>
                  <a:pt x="2531" y="5662"/>
                  <a:pt x="2597" y="5702"/>
                  <a:pt x="2654" y="5680"/>
                </a:cubicBezTo>
                <a:cubicBezTo>
                  <a:pt x="2714" y="5657"/>
                  <a:pt x="2782" y="5650"/>
                  <a:pt x="2853" y="5631"/>
                </a:cubicBezTo>
              </a:path>
              <a:path w="3275" h="4144">
                <a:moveTo>
                  <a:pt x="2977" y="5333"/>
                </a:moveTo>
                <a:cubicBezTo>
                  <a:pt x="2947" y="5413"/>
                  <a:pt x="2971" y="5475"/>
                  <a:pt x="2952" y="5556"/>
                </a:cubicBezTo>
                <a:cubicBezTo>
                  <a:pt x="2935" y="5627"/>
                  <a:pt x="2927" y="5678"/>
                  <a:pt x="2927" y="5755"/>
                </a:cubicBezTo>
                <a:cubicBezTo>
                  <a:pt x="2927" y="5821"/>
                  <a:pt x="2927" y="5887"/>
                  <a:pt x="2927" y="5953"/>
                </a:cubicBezTo>
              </a:path>
              <a:path w="3275" h="4144">
                <a:moveTo>
                  <a:pt x="4118" y="5383"/>
                </a:moveTo>
                <a:cubicBezTo>
                  <a:pt x="4094" y="5471"/>
                  <a:pt x="4093" y="5539"/>
                  <a:pt x="4093" y="5631"/>
                </a:cubicBezTo>
                <a:cubicBezTo>
                  <a:pt x="4093" y="5672"/>
                  <a:pt x="4101" y="5688"/>
                  <a:pt x="4068" y="5680"/>
                </a:cubicBezTo>
              </a:path>
              <a:path w="3275" h="4144">
                <a:moveTo>
                  <a:pt x="3919" y="5531"/>
                </a:moveTo>
                <a:cubicBezTo>
                  <a:pt x="4000" y="5543"/>
                  <a:pt x="4010" y="5545"/>
                  <a:pt x="4093" y="5531"/>
                </a:cubicBezTo>
                <a:cubicBezTo>
                  <a:pt x="4167" y="5519"/>
                  <a:pt x="4219" y="5533"/>
                  <a:pt x="4291" y="5507"/>
                </a:cubicBezTo>
              </a:path>
              <a:path w="3275" h="4144">
                <a:moveTo>
                  <a:pt x="4539" y="5234"/>
                </a:moveTo>
                <a:cubicBezTo>
                  <a:pt x="4539" y="5332"/>
                  <a:pt x="4508" y="5464"/>
                  <a:pt x="4514" y="5556"/>
                </a:cubicBezTo>
                <a:cubicBezTo>
                  <a:pt x="4521" y="5667"/>
                  <a:pt x="4543" y="5672"/>
                  <a:pt x="4490" y="5779"/>
                </a:cubicBezTo>
              </a:path>
              <a:path w="3275" h="4144">
                <a:moveTo>
                  <a:pt x="1364" y="6251"/>
                </a:moveTo>
                <a:cubicBezTo>
                  <a:pt x="1464" y="6295"/>
                  <a:pt x="1535" y="6281"/>
                  <a:pt x="1637" y="6300"/>
                </a:cubicBezTo>
                <a:cubicBezTo>
                  <a:pt x="1748" y="6321"/>
                  <a:pt x="1844" y="6325"/>
                  <a:pt x="1960" y="6325"/>
                </a:cubicBezTo>
                <a:cubicBezTo>
                  <a:pt x="2219" y="6325"/>
                  <a:pt x="2473" y="6337"/>
                  <a:pt x="2729" y="6350"/>
                </a:cubicBezTo>
                <a:cubicBezTo>
                  <a:pt x="2960" y="6362"/>
                  <a:pt x="3193" y="6364"/>
                  <a:pt x="3423" y="6375"/>
                </a:cubicBezTo>
                <a:cubicBezTo>
                  <a:pt x="3639" y="6385"/>
                  <a:pt x="3852" y="6420"/>
                  <a:pt x="4068" y="6424"/>
                </a:cubicBezTo>
                <a:cubicBezTo>
                  <a:pt x="4235" y="6427"/>
                  <a:pt x="4422" y="6480"/>
                  <a:pt x="4589" y="6449"/>
                </a:cubicBezTo>
                <a:cubicBezTo>
                  <a:pt x="4722" y="6424"/>
                  <a:pt x="4570" y="6455"/>
                  <a:pt x="4589" y="6400"/>
                </a:cubicBezTo>
              </a:path>
              <a:path w="3275" h="4144">
                <a:moveTo>
                  <a:pt x="2381" y="5879"/>
                </a:moveTo>
                <a:cubicBezTo>
                  <a:pt x="2442" y="5758"/>
                  <a:pt x="2492" y="5625"/>
                  <a:pt x="2555" y="5507"/>
                </a:cubicBezTo>
                <a:cubicBezTo>
                  <a:pt x="2614" y="5396"/>
                  <a:pt x="2693" y="5294"/>
                  <a:pt x="2753" y="5184"/>
                </a:cubicBezTo>
                <a:cubicBezTo>
                  <a:pt x="2827" y="5048"/>
                  <a:pt x="2883" y="4901"/>
                  <a:pt x="2952" y="4762"/>
                </a:cubicBezTo>
                <a:cubicBezTo>
                  <a:pt x="3025" y="4616"/>
                  <a:pt x="3126" y="4486"/>
                  <a:pt x="3200" y="4341"/>
                </a:cubicBezTo>
                <a:cubicBezTo>
                  <a:pt x="3232" y="4278"/>
                  <a:pt x="3263" y="4188"/>
                  <a:pt x="3324" y="4142"/>
                </a:cubicBezTo>
                <a:cubicBezTo>
                  <a:pt x="3324" y="4150"/>
                  <a:pt x="3324" y="4159"/>
                  <a:pt x="3324" y="4167"/>
                </a:cubicBezTo>
              </a:path>
              <a:path w="3275" h="4144">
                <a:moveTo>
                  <a:pt x="1960" y="6846"/>
                </a:moveTo>
                <a:cubicBezTo>
                  <a:pt x="1989" y="6794"/>
                  <a:pt x="2017" y="6764"/>
                  <a:pt x="2059" y="6722"/>
                </a:cubicBezTo>
                <a:cubicBezTo>
                  <a:pt x="2103" y="6678"/>
                  <a:pt x="2149" y="6651"/>
                  <a:pt x="2208" y="6648"/>
                </a:cubicBezTo>
                <a:cubicBezTo>
                  <a:pt x="2328" y="6643"/>
                  <a:pt x="2317" y="6683"/>
                  <a:pt x="2307" y="6772"/>
                </a:cubicBezTo>
                <a:cubicBezTo>
                  <a:pt x="2298" y="6851"/>
                  <a:pt x="2253" y="6954"/>
                  <a:pt x="2208" y="7020"/>
                </a:cubicBezTo>
                <a:cubicBezTo>
                  <a:pt x="2154" y="7099"/>
                  <a:pt x="2077" y="7158"/>
                  <a:pt x="2034" y="7243"/>
                </a:cubicBezTo>
                <a:cubicBezTo>
                  <a:pt x="1999" y="7312"/>
                  <a:pt x="2001" y="7337"/>
                  <a:pt x="2034" y="7392"/>
                </a:cubicBezTo>
                <a:cubicBezTo>
                  <a:pt x="2086" y="7350"/>
                  <a:pt x="2134" y="7317"/>
                  <a:pt x="2183" y="7268"/>
                </a:cubicBezTo>
              </a:path>
              <a:path w="3275" h="4144">
                <a:moveTo>
                  <a:pt x="2257" y="7045"/>
                </a:moveTo>
                <a:cubicBezTo>
                  <a:pt x="2337" y="7124"/>
                  <a:pt x="2419" y="7224"/>
                  <a:pt x="2505" y="7293"/>
                </a:cubicBezTo>
                <a:cubicBezTo>
                  <a:pt x="2546" y="7325"/>
                  <a:pt x="2628" y="7381"/>
                  <a:pt x="2679" y="7392"/>
                </a:cubicBezTo>
                <a:cubicBezTo>
                  <a:pt x="2696" y="7392"/>
                  <a:pt x="2712" y="7392"/>
                  <a:pt x="2729" y="7392"/>
                </a:cubicBezTo>
              </a:path>
              <a:path w="3275" h="4144">
                <a:moveTo>
                  <a:pt x="2654" y="7020"/>
                </a:moveTo>
                <a:cubicBezTo>
                  <a:pt x="2599" y="7130"/>
                  <a:pt x="2552" y="7222"/>
                  <a:pt x="2480" y="7317"/>
                </a:cubicBezTo>
                <a:cubicBezTo>
                  <a:pt x="2445" y="7363"/>
                  <a:pt x="2403" y="7387"/>
                  <a:pt x="2356" y="7417"/>
                </a:cubicBezTo>
              </a:path>
              <a:path w="3275" h="4144">
                <a:moveTo>
                  <a:pt x="3001" y="7069"/>
                </a:moveTo>
                <a:cubicBezTo>
                  <a:pt x="3086" y="7069"/>
                  <a:pt x="3132" y="7061"/>
                  <a:pt x="3200" y="7069"/>
                </a:cubicBezTo>
                <a:cubicBezTo>
                  <a:pt x="3216" y="7069"/>
                  <a:pt x="3233" y="7069"/>
                  <a:pt x="3249" y="7069"/>
                </a:cubicBezTo>
              </a:path>
              <a:path w="3275" h="4144">
                <a:moveTo>
                  <a:pt x="3026" y="7243"/>
                </a:moveTo>
                <a:cubicBezTo>
                  <a:pt x="3108" y="7243"/>
                  <a:pt x="3171" y="7227"/>
                  <a:pt x="3249" y="7218"/>
                </a:cubicBezTo>
                <a:cubicBezTo>
                  <a:pt x="3325" y="7218"/>
                  <a:pt x="3351" y="7218"/>
                  <a:pt x="3398" y="7193"/>
                </a:cubicBezTo>
              </a:path>
              <a:path w="3275" h="4144">
                <a:moveTo>
                  <a:pt x="4043" y="6672"/>
                </a:moveTo>
                <a:cubicBezTo>
                  <a:pt x="4018" y="6739"/>
                  <a:pt x="4012" y="6803"/>
                  <a:pt x="3994" y="6871"/>
                </a:cubicBezTo>
                <a:cubicBezTo>
                  <a:pt x="3973" y="6952"/>
                  <a:pt x="3925" y="7031"/>
                  <a:pt x="3944" y="7119"/>
                </a:cubicBezTo>
                <a:cubicBezTo>
                  <a:pt x="3962" y="7201"/>
                  <a:pt x="3969" y="7256"/>
                  <a:pt x="3969" y="7342"/>
                </a:cubicBezTo>
              </a:path>
              <a:path w="3275" h="4144">
                <a:moveTo>
                  <a:pt x="1761" y="7565"/>
                </a:moveTo>
                <a:cubicBezTo>
                  <a:pt x="1860" y="7586"/>
                  <a:pt x="1934" y="7590"/>
                  <a:pt x="2034" y="7590"/>
                </a:cubicBezTo>
                <a:cubicBezTo>
                  <a:pt x="2219" y="7590"/>
                  <a:pt x="2739" y="7520"/>
                  <a:pt x="2580" y="7615"/>
                </a:cubicBezTo>
                <a:cubicBezTo>
                  <a:pt x="2563" y="7615"/>
                  <a:pt x="2547" y="7615"/>
                  <a:pt x="2530" y="7615"/>
                </a:cubicBezTo>
              </a:path>
              <a:path w="3275" h="4144">
                <a:moveTo>
                  <a:pt x="2059" y="7813"/>
                </a:moveTo>
                <a:cubicBezTo>
                  <a:pt x="2170" y="7813"/>
                  <a:pt x="2279" y="7799"/>
                  <a:pt x="2381" y="7838"/>
                </a:cubicBezTo>
                <a:cubicBezTo>
                  <a:pt x="2372" y="7912"/>
                  <a:pt x="2339" y="7966"/>
                  <a:pt x="2282" y="8012"/>
                </a:cubicBezTo>
                <a:cubicBezTo>
                  <a:pt x="2232" y="8052"/>
                  <a:pt x="2146" y="8082"/>
                  <a:pt x="2108" y="8136"/>
                </a:cubicBezTo>
                <a:cubicBezTo>
                  <a:pt x="2085" y="8184"/>
                  <a:pt x="2077" y="8199"/>
                  <a:pt x="2084" y="8235"/>
                </a:cubicBezTo>
                <a:cubicBezTo>
                  <a:pt x="2151" y="8269"/>
                  <a:pt x="2226" y="8260"/>
                  <a:pt x="2307" y="8260"/>
                </a:cubicBezTo>
                <a:cubicBezTo>
                  <a:pt x="2366" y="8260"/>
                  <a:pt x="2392" y="8257"/>
                  <a:pt x="2431" y="8235"/>
                </a:cubicBezTo>
              </a:path>
              <a:path w="3275" h="4144">
                <a:moveTo>
                  <a:pt x="3497" y="7565"/>
                </a:moveTo>
                <a:cubicBezTo>
                  <a:pt x="3610" y="7565"/>
                  <a:pt x="3711" y="7551"/>
                  <a:pt x="3820" y="7541"/>
                </a:cubicBezTo>
                <a:cubicBezTo>
                  <a:pt x="3982" y="7526"/>
                  <a:pt x="4154" y="7541"/>
                  <a:pt x="4316" y="7541"/>
                </a:cubicBezTo>
              </a:path>
              <a:path w="3275" h="4144">
                <a:moveTo>
                  <a:pt x="3696" y="7789"/>
                </a:moveTo>
                <a:cubicBezTo>
                  <a:pt x="3744" y="7808"/>
                  <a:pt x="3803" y="7789"/>
                  <a:pt x="3870" y="7789"/>
                </a:cubicBezTo>
                <a:cubicBezTo>
                  <a:pt x="3939" y="7789"/>
                  <a:pt x="3966" y="7782"/>
                  <a:pt x="4018" y="7813"/>
                </a:cubicBezTo>
                <a:cubicBezTo>
                  <a:pt x="4007" y="7903"/>
                  <a:pt x="3983" y="7923"/>
                  <a:pt x="3919" y="7987"/>
                </a:cubicBezTo>
                <a:cubicBezTo>
                  <a:pt x="3857" y="8050"/>
                  <a:pt x="3772" y="8059"/>
                  <a:pt x="3721" y="8136"/>
                </a:cubicBezTo>
                <a:cubicBezTo>
                  <a:pt x="3697" y="8184"/>
                  <a:pt x="3689" y="8198"/>
                  <a:pt x="3696" y="8235"/>
                </a:cubicBezTo>
                <a:cubicBezTo>
                  <a:pt x="3737" y="8260"/>
                  <a:pt x="3816" y="8297"/>
                  <a:pt x="3870" y="8285"/>
                </a:cubicBezTo>
                <a:cubicBezTo>
                  <a:pt x="3910" y="8265"/>
                  <a:pt x="3916" y="8256"/>
                  <a:pt x="3944" y="8260"/>
                </a:cubicBezTo>
              </a:path>
              <a:path w="3275" h="4144">
                <a:moveTo>
                  <a:pt x="2133" y="6648"/>
                </a:moveTo>
                <a:cubicBezTo>
                  <a:pt x="2133" y="6784"/>
                  <a:pt x="2148" y="6912"/>
                  <a:pt x="2158" y="7045"/>
                </a:cubicBezTo>
                <a:cubicBezTo>
                  <a:pt x="2170" y="7203"/>
                  <a:pt x="2159" y="7360"/>
                  <a:pt x="2183" y="7516"/>
                </a:cubicBezTo>
                <a:cubicBezTo>
                  <a:pt x="2207" y="7671"/>
                  <a:pt x="2238" y="7832"/>
                  <a:pt x="2257" y="7987"/>
                </a:cubicBezTo>
                <a:cubicBezTo>
                  <a:pt x="2267" y="8066"/>
                  <a:pt x="2248" y="8162"/>
                  <a:pt x="2282" y="8235"/>
                </a:cubicBezTo>
                <a:cubicBezTo>
                  <a:pt x="2307" y="8260"/>
                  <a:pt x="2315" y="8268"/>
                  <a:pt x="2332" y="82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7"/>
          <p:cNvSpPr/>
          <p:nvPr/>
        </p:nvSpPr>
        <p:spPr>
          <a:xfrm>
            <a:off x="2840040" y="1455840"/>
            <a:ext cx="892080" cy="625320"/>
          </a:xfrm>
          <a:custGeom>
            <a:avLst/>
            <a:gdLst/>
            <a:ahLst/>
            <a:rect l="l" t="t" r="r" b="b"/>
            <a:pathLst>
              <a:path w="2481" h="1737">
                <a:moveTo>
                  <a:pt x="8682" y="4167"/>
                </a:moveTo>
                <a:cubicBezTo>
                  <a:pt x="8663" y="4254"/>
                  <a:pt x="8679" y="4357"/>
                  <a:pt x="8657" y="4440"/>
                </a:cubicBezTo>
                <a:cubicBezTo>
                  <a:pt x="8636" y="4520"/>
                  <a:pt x="8672" y="4573"/>
                  <a:pt x="8657" y="4638"/>
                </a:cubicBezTo>
                <a:cubicBezTo>
                  <a:pt x="8637" y="4679"/>
                  <a:pt x="8628" y="4685"/>
                  <a:pt x="8632" y="4713"/>
                </a:cubicBezTo>
              </a:path>
              <a:path w="2481" h="1737">
                <a:moveTo>
                  <a:pt x="8235" y="4961"/>
                </a:moveTo>
                <a:cubicBezTo>
                  <a:pt x="8356" y="4961"/>
                  <a:pt x="8915" y="4955"/>
                  <a:pt x="8905" y="4986"/>
                </a:cubicBezTo>
              </a:path>
              <a:path w="2481" h="1737">
                <a:moveTo>
                  <a:pt x="8458" y="5184"/>
                </a:moveTo>
                <a:cubicBezTo>
                  <a:pt x="8548" y="5178"/>
                  <a:pt x="8617" y="5159"/>
                  <a:pt x="8706" y="5159"/>
                </a:cubicBezTo>
                <a:cubicBezTo>
                  <a:pt x="8734" y="5159"/>
                  <a:pt x="8860" y="5148"/>
                  <a:pt x="8855" y="5209"/>
                </a:cubicBezTo>
                <a:cubicBezTo>
                  <a:pt x="8848" y="5303"/>
                  <a:pt x="8742" y="5357"/>
                  <a:pt x="8682" y="5407"/>
                </a:cubicBezTo>
                <a:cubicBezTo>
                  <a:pt x="8622" y="5457"/>
                  <a:pt x="8564" y="5500"/>
                  <a:pt x="8508" y="5556"/>
                </a:cubicBezTo>
                <a:cubicBezTo>
                  <a:pt x="8483" y="5581"/>
                  <a:pt x="8475" y="5589"/>
                  <a:pt x="8458" y="5606"/>
                </a:cubicBezTo>
                <a:cubicBezTo>
                  <a:pt x="8541" y="5656"/>
                  <a:pt x="8590" y="5598"/>
                  <a:pt x="8682" y="5581"/>
                </a:cubicBezTo>
                <a:cubicBezTo>
                  <a:pt x="8733" y="5581"/>
                  <a:pt x="8752" y="5580"/>
                  <a:pt x="8781" y="5556"/>
                </a:cubicBezTo>
              </a:path>
              <a:path w="2481" h="1737">
                <a:moveTo>
                  <a:pt x="9252" y="4043"/>
                </a:moveTo>
                <a:cubicBezTo>
                  <a:pt x="9222" y="4153"/>
                  <a:pt x="9206" y="4276"/>
                  <a:pt x="9203" y="4390"/>
                </a:cubicBezTo>
                <a:cubicBezTo>
                  <a:pt x="9198" y="4566"/>
                  <a:pt x="9192" y="4738"/>
                  <a:pt x="9178" y="4911"/>
                </a:cubicBezTo>
                <a:cubicBezTo>
                  <a:pt x="9164" y="5077"/>
                  <a:pt x="9171" y="5244"/>
                  <a:pt x="9153" y="5407"/>
                </a:cubicBezTo>
                <a:cubicBezTo>
                  <a:pt x="9144" y="5493"/>
                  <a:pt x="9165" y="5554"/>
                  <a:pt x="9178" y="5631"/>
                </a:cubicBezTo>
                <a:cubicBezTo>
                  <a:pt x="9178" y="5680"/>
                  <a:pt x="9178" y="5697"/>
                  <a:pt x="9178" y="5730"/>
                </a:cubicBezTo>
                <a:cubicBezTo>
                  <a:pt x="9116" y="5712"/>
                  <a:pt x="9117" y="5716"/>
                  <a:pt x="9054" y="5730"/>
                </a:cubicBezTo>
                <a:cubicBezTo>
                  <a:pt x="8957" y="5752"/>
                  <a:pt x="8856" y="5769"/>
                  <a:pt x="8756" y="5779"/>
                </a:cubicBezTo>
                <a:cubicBezTo>
                  <a:pt x="8503" y="5804"/>
                  <a:pt x="8084" y="5779"/>
                  <a:pt x="7913" y="5779"/>
                </a:cubicBezTo>
              </a:path>
              <a:path w="2481" h="1737">
                <a:moveTo>
                  <a:pt x="10344" y="4366"/>
                </a:moveTo>
                <a:cubicBezTo>
                  <a:pt x="10330" y="4265"/>
                  <a:pt x="10304" y="4284"/>
                  <a:pt x="10220" y="4291"/>
                </a:cubicBezTo>
                <a:cubicBezTo>
                  <a:pt x="10117" y="4300"/>
                  <a:pt x="10045" y="4333"/>
                  <a:pt x="9947" y="4366"/>
                </a:cubicBezTo>
                <a:cubicBezTo>
                  <a:pt x="9872" y="4391"/>
                  <a:pt x="9775" y="4430"/>
                  <a:pt x="9723" y="4490"/>
                </a:cubicBezTo>
                <a:cubicBezTo>
                  <a:pt x="9669" y="4553"/>
                  <a:pt x="9703" y="4634"/>
                  <a:pt x="9748" y="4688"/>
                </a:cubicBezTo>
                <a:cubicBezTo>
                  <a:pt x="9821" y="4776"/>
                  <a:pt x="9935" y="4814"/>
                  <a:pt x="10021" y="4887"/>
                </a:cubicBezTo>
                <a:cubicBezTo>
                  <a:pt x="10122" y="4973"/>
                  <a:pt x="10218" y="5076"/>
                  <a:pt x="10294" y="5184"/>
                </a:cubicBezTo>
                <a:cubicBezTo>
                  <a:pt x="10360" y="5278"/>
                  <a:pt x="10389" y="5349"/>
                  <a:pt x="10344" y="5457"/>
                </a:cubicBezTo>
                <a:cubicBezTo>
                  <a:pt x="10310" y="5538"/>
                  <a:pt x="10273" y="5588"/>
                  <a:pt x="10195" y="5631"/>
                </a:cubicBezTo>
                <a:cubicBezTo>
                  <a:pt x="10144" y="5659"/>
                  <a:pt x="10030" y="5676"/>
                  <a:pt x="9971" y="5655"/>
                </a:cubicBezTo>
                <a:cubicBezTo>
                  <a:pt x="9858" y="5615"/>
                  <a:pt x="9828" y="5563"/>
                  <a:pt x="9823" y="5457"/>
                </a:cubicBezTo>
                <a:cubicBezTo>
                  <a:pt x="9818" y="5363"/>
                  <a:pt x="9872" y="5273"/>
                  <a:pt x="9897" y="5184"/>
                </a:cubicBezTo>
                <a:cubicBezTo>
                  <a:pt x="9941" y="5027"/>
                  <a:pt x="10017" y="4858"/>
                  <a:pt x="10096" y="4713"/>
                </a:cubicBezTo>
                <a:cubicBezTo>
                  <a:pt x="10153" y="4609"/>
                  <a:pt x="10187" y="4521"/>
                  <a:pt x="10220" y="4415"/>
                </a:cubicBezTo>
                <a:cubicBezTo>
                  <a:pt x="10241" y="4347"/>
                  <a:pt x="10262" y="4314"/>
                  <a:pt x="10269" y="42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8"/>
          <p:cNvSpPr/>
          <p:nvPr/>
        </p:nvSpPr>
        <p:spPr>
          <a:xfrm>
            <a:off x="4295880" y="1527120"/>
            <a:ext cx="392040" cy="554040"/>
          </a:xfrm>
          <a:custGeom>
            <a:avLst/>
            <a:gdLst/>
            <a:ahLst/>
            <a:rect l="l" t="t" r="r" b="b"/>
            <a:pathLst>
              <a:path w="1092" h="1538">
                <a:moveTo>
                  <a:pt x="12303" y="4266"/>
                </a:moveTo>
                <a:cubicBezTo>
                  <a:pt x="12268" y="4291"/>
                  <a:pt x="12209" y="4328"/>
                  <a:pt x="12179" y="4366"/>
                </a:cubicBezTo>
                <a:cubicBezTo>
                  <a:pt x="12113" y="4447"/>
                  <a:pt x="12065" y="4595"/>
                  <a:pt x="12030" y="4688"/>
                </a:cubicBezTo>
                <a:cubicBezTo>
                  <a:pt x="11986" y="4806"/>
                  <a:pt x="11979" y="4915"/>
                  <a:pt x="11956" y="5035"/>
                </a:cubicBezTo>
                <a:cubicBezTo>
                  <a:pt x="11933" y="5153"/>
                  <a:pt x="11931" y="5261"/>
                  <a:pt x="11931" y="5383"/>
                </a:cubicBezTo>
                <a:cubicBezTo>
                  <a:pt x="11931" y="5490"/>
                  <a:pt x="11962" y="5569"/>
                  <a:pt x="12030" y="5655"/>
                </a:cubicBezTo>
                <a:cubicBezTo>
                  <a:pt x="12103" y="5748"/>
                  <a:pt x="12162" y="5775"/>
                  <a:pt x="12278" y="5779"/>
                </a:cubicBezTo>
                <a:cubicBezTo>
                  <a:pt x="12395" y="5783"/>
                  <a:pt x="12474" y="5762"/>
                  <a:pt x="12576" y="5705"/>
                </a:cubicBezTo>
                <a:cubicBezTo>
                  <a:pt x="12698" y="5636"/>
                  <a:pt x="12796" y="5521"/>
                  <a:pt x="12874" y="5407"/>
                </a:cubicBezTo>
                <a:cubicBezTo>
                  <a:pt x="12944" y="5306"/>
                  <a:pt x="12964" y="5201"/>
                  <a:pt x="12998" y="5085"/>
                </a:cubicBezTo>
                <a:cubicBezTo>
                  <a:pt x="13038" y="4952"/>
                  <a:pt x="13011" y="4845"/>
                  <a:pt x="12973" y="4713"/>
                </a:cubicBezTo>
                <a:cubicBezTo>
                  <a:pt x="12949" y="4629"/>
                  <a:pt x="12914" y="4502"/>
                  <a:pt x="12849" y="4440"/>
                </a:cubicBezTo>
                <a:cubicBezTo>
                  <a:pt x="12794" y="4387"/>
                  <a:pt x="12678" y="4282"/>
                  <a:pt x="12601" y="4266"/>
                </a:cubicBezTo>
                <a:cubicBezTo>
                  <a:pt x="12527" y="4250"/>
                  <a:pt x="12449" y="4242"/>
                  <a:pt x="12378" y="4266"/>
                </a:cubicBezTo>
                <a:cubicBezTo>
                  <a:pt x="12361" y="4274"/>
                  <a:pt x="12345" y="4283"/>
                  <a:pt x="12328" y="42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9"/>
          <p:cNvSpPr/>
          <p:nvPr/>
        </p:nvSpPr>
        <p:spPr>
          <a:xfrm>
            <a:off x="5259240" y="1500120"/>
            <a:ext cx="339840" cy="588960"/>
          </a:xfrm>
          <a:custGeom>
            <a:avLst/>
            <a:gdLst/>
            <a:ahLst/>
            <a:rect l="l" t="t" r="r" b="b"/>
            <a:pathLst>
              <a:path w="944" h="1638">
                <a:moveTo>
                  <a:pt x="14833" y="4167"/>
                </a:moveTo>
                <a:cubicBezTo>
                  <a:pt x="14800" y="4226"/>
                  <a:pt x="14765" y="4280"/>
                  <a:pt x="14734" y="4341"/>
                </a:cubicBezTo>
                <a:cubicBezTo>
                  <a:pt x="14692" y="4424"/>
                  <a:pt x="14680" y="4478"/>
                  <a:pt x="14660" y="4564"/>
                </a:cubicBezTo>
                <a:cubicBezTo>
                  <a:pt x="14636" y="4667"/>
                  <a:pt x="14614" y="4754"/>
                  <a:pt x="14610" y="4862"/>
                </a:cubicBezTo>
                <a:cubicBezTo>
                  <a:pt x="14605" y="4992"/>
                  <a:pt x="14621" y="5109"/>
                  <a:pt x="14635" y="5234"/>
                </a:cubicBezTo>
                <a:cubicBezTo>
                  <a:pt x="14647" y="5344"/>
                  <a:pt x="14676" y="5390"/>
                  <a:pt x="14734" y="5482"/>
                </a:cubicBezTo>
                <a:cubicBezTo>
                  <a:pt x="14802" y="5588"/>
                  <a:pt x="14953" y="5680"/>
                  <a:pt x="15081" y="5680"/>
                </a:cubicBezTo>
                <a:cubicBezTo>
                  <a:pt x="15156" y="5680"/>
                  <a:pt x="15262" y="5638"/>
                  <a:pt x="15329" y="5606"/>
                </a:cubicBezTo>
                <a:cubicBezTo>
                  <a:pt x="15411" y="5567"/>
                  <a:pt x="15458" y="5538"/>
                  <a:pt x="15503" y="5457"/>
                </a:cubicBezTo>
                <a:cubicBezTo>
                  <a:pt x="15535" y="5399"/>
                  <a:pt x="15573" y="5356"/>
                  <a:pt x="15553" y="5283"/>
                </a:cubicBezTo>
                <a:cubicBezTo>
                  <a:pt x="15534" y="5214"/>
                  <a:pt x="15490" y="5191"/>
                  <a:pt x="15429" y="5184"/>
                </a:cubicBezTo>
                <a:cubicBezTo>
                  <a:pt x="15346" y="5175"/>
                  <a:pt x="15257" y="5219"/>
                  <a:pt x="15205" y="5283"/>
                </a:cubicBezTo>
                <a:cubicBezTo>
                  <a:pt x="15137" y="5367"/>
                  <a:pt x="15097" y="5433"/>
                  <a:pt x="15056" y="5531"/>
                </a:cubicBezTo>
                <a:cubicBezTo>
                  <a:pt x="15033" y="5586"/>
                  <a:pt x="15015" y="5668"/>
                  <a:pt x="15032" y="5730"/>
                </a:cubicBezTo>
                <a:cubicBezTo>
                  <a:pt x="15052" y="5770"/>
                  <a:pt x="15060" y="5777"/>
                  <a:pt x="15056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0"/>
          <p:cNvSpPr/>
          <p:nvPr/>
        </p:nvSpPr>
        <p:spPr>
          <a:xfrm>
            <a:off x="6000840" y="1544760"/>
            <a:ext cx="438120" cy="563400"/>
          </a:xfrm>
          <a:custGeom>
            <a:avLst/>
            <a:gdLst/>
            <a:ahLst/>
            <a:rect l="l" t="t" r="r" b="b"/>
            <a:pathLst>
              <a:path w="1216" h="1564">
                <a:moveTo>
                  <a:pt x="16842" y="4415"/>
                </a:moveTo>
                <a:cubicBezTo>
                  <a:pt x="16799" y="4517"/>
                  <a:pt x="16797" y="4588"/>
                  <a:pt x="16768" y="4688"/>
                </a:cubicBezTo>
                <a:cubicBezTo>
                  <a:pt x="16745" y="4769"/>
                  <a:pt x="16738" y="4854"/>
                  <a:pt x="16718" y="4936"/>
                </a:cubicBezTo>
                <a:cubicBezTo>
                  <a:pt x="16685" y="5070"/>
                  <a:pt x="16684" y="5204"/>
                  <a:pt x="16694" y="5333"/>
                </a:cubicBezTo>
                <a:cubicBezTo>
                  <a:pt x="16702" y="5443"/>
                  <a:pt x="16699" y="5525"/>
                  <a:pt x="16743" y="5631"/>
                </a:cubicBezTo>
                <a:cubicBezTo>
                  <a:pt x="16775" y="5709"/>
                  <a:pt x="16842" y="5790"/>
                  <a:pt x="16917" y="5829"/>
                </a:cubicBezTo>
                <a:cubicBezTo>
                  <a:pt x="16987" y="5866"/>
                  <a:pt x="17137" y="5873"/>
                  <a:pt x="17214" y="5854"/>
                </a:cubicBezTo>
                <a:cubicBezTo>
                  <a:pt x="17360" y="5819"/>
                  <a:pt x="17465" y="5761"/>
                  <a:pt x="17587" y="5680"/>
                </a:cubicBezTo>
                <a:cubicBezTo>
                  <a:pt x="17664" y="5629"/>
                  <a:pt x="17747" y="5570"/>
                  <a:pt x="17785" y="5482"/>
                </a:cubicBezTo>
                <a:cubicBezTo>
                  <a:pt x="17829" y="5382"/>
                  <a:pt x="17872" y="5293"/>
                  <a:pt x="17884" y="5184"/>
                </a:cubicBezTo>
                <a:cubicBezTo>
                  <a:pt x="17895" y="5089"/>
                  <a:pt x="17879" y="4978"/>
                  <a:pt x="17859" y="4887"/>
                </a:cubicBezTo>
                <a:cubicBezTo>
                  <a:pt x="17840" y="4798"/>
                  <a:pt x="17769" y="4686"/>
                  <a:pt x="17711" y="4614"/>
                </a:cubicBezTo>
                <a:cubicBezTo>
                  <a:pt x="17646" y="4534"/>
                  <a:pt x="17583" y="4438"/>
                  <a:pt x="17487" y="4390"/>
                </a:cubicBezTo>
                <a:cubicBezTo>
                  <a:pt x="17380" y="4337"/>
                  <a:pt x="17233" y="4295"/>
                  <a:pt x="17115" y="4291"/>
                </a:cubicBezTo>
                <a:cubicBezTo>
                  <a:pt x="17015" y="4288"/>
                  <a:pt x="16909" y="4277"/>
                  <a:pt x="16818" y="4316"/>
                </a:cubicBezTo>
                <a:cubicBezTo>
                  <a:pt x="16774" y="4338"/>
                  <a:pt x="16762" y="4341"/>
                  <a:pt x="16743" y="43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1"/>
          <p:cNvSpPr/>
          <p:nvPr/>
        </p:nvSpPr>
        <p:spPr>
          <a:xfrm>
            <a:off x="7045200" y="1589040"/>
            <a:ext cx="536760" cy="519120"/>
          </a:xfrm>
          <a:custGeom>
            <a:avLst/>
            <a:gdLst/>
            <a:ahLst/>
            <a:rect l="l" t="t" r="r" b="b"/>
            <a:pathLst>
              <a:path w="1489" h="1440">
                <a:moveTo>
                  <a:pt x="19968" y="5035"/>
                </a:moveTo>
                <a:cubicBezTo>
                  <a:pt x="19920" y="4998"/>
                  <a:pt x="19867" y="4972"/>
                  <a:pt x="19819" y="4936"/>
                </a:cubicBezTo>
                <a:cubicBezTo>
                  <a:pt x="19764" y="4895"/>
                  <a:pt x="19681" y="4851"/>
                  <a:pt x="19621" y="4837"/>
                </a:cubicBezTo>
                <a:cubicBezTo>
                  <a:pt x="19604" y="4837"/>
                  <a:pt x="19588" y="4837"/>
                  <a:pt x="19571" y="4837"/>
                </a:cubicBezTo>
                <a:cubicBezTo>
                  <a:pt x="19673" y="4826"/>
                  <a:pt x="19741" y="4834"/>
                  <a:pt x="19844" y="4837"/>
                </a:cubicBezTo>
                <a:cubicBezTo>
                  <a:pt x="20009" y="4842"/>
                  <a:pt x="20175" y="4837"/>
                  <a:pt x="20340" y="4837"/>
                </a:cubicBezTo>
              </a:path>
              <a:path w="1489" h="1440">
                <a:moveTo>
                  <a:pt x="20513" y="4415"/>
                </a:moveTo>
                <a:cubicBezTo>
                  <a:pt x="20505" y="4490"/>
                  <a:pt x="20507" y="4591"/>
                  <a:pt x="20489" y="4663"/>
                </a:cubicBezTo>
                <a:cubicBezTo>
                  <a:pt x="20460" y="4781"/>
                  <a:pt x="20404" y="4913"/>
                  <a:pt x="20389" y="5035"/>
                </a:cubicBezTo>
                <a:cubicBezTo>
                  <a:pt x="20375" y="5150"/>
                  <a:pt x="20344" y="5268"/>
                  <a:pt x="20340" y="5383"/>
                </a:cubicBezTo>
                <a:cubicBezTo>
                  <a:pt x="20337" y="5475"/>
                  <a:pt x="20331" y="5576"/>
                  <a:pt x="20389" y="5655"/>
                </a:cubicBezTo>
                <a:cubicBezTo>
                  <a:pt x="20425" y="5704"/>
                  <a:pt x="20526" y="5769"/>
                  <a:pt x="20588" y="5779"/>
                </a:cubicBezTo>
                <a:cubicBezTo>
                  <a:pt x="20686" y="5796"/>
                  <a:pt x="20774" y="5771"/>
                  <a:pt x="20861" y="5730"/>
                </a:cubicBezTo>
                <a:cubicBezTo>
                  <a:pt x="20943" y="5691"/>
                  <a:pt x="20990" y="5661"/>
                  <a:pt x="21034" y="5581"/>
                </a:cubicBezTo>
                <a:cubicBezTo>
                  <a:pt x="21071" y="5514"/>
                  <a:pt x="21066" y="5467"/>
                  <a:pt x="21034" y="5407"/>
                </a:cubicBezTo>
                <a:cubicBezTo>
                  <a:pt x="21008" y="5357"/>
                  <a:pt x="20979" y="5292"/>
                  <a:pt x="20910" y="5308"/>
                </a:cubicBezTo>
                <a:cubicBezTo>
                  <a:pt x="20821" y="5329"/>
                  <a:pt x="20713" y="5463"/>
                  <a:pt x="20662" y="5531"/>
                </a:cubicBezTo>
                <a:cubicBezTo>
                  <a:pt x="20630" y="5574"/>
                  <a:pt x="20624" y="5678"/>
                  <a:pt x="20638" y="5730"/>
                </a:cubicBezTo>
                <a:cubicBezTo>
                  <a:pt x="20661" y="5814"/>
                  <a:pt x="20746" y="5841"/>
                  <a:pt x="20811" y="58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2"/>
          <p:cNvSpPr/>
          <p:nvPr/>
        </p:nvSpPr>
        <p:spPr>
          <a:xfrm>
            <a:off x="8170920" y="1608120"/>
            <a:ext cx="357120" cy="507960"/>
          </a:xfrm>
          <a:custGeom>
            <a:avLst/>
            <a:gdLst/>
            <a:ahLst/>
            <a:rect l="l" t="t" r="r" b="b"/>
            <a:pathLst>
              <a:path w="993" h="1415">
                <a:moveTo>
                  <a:pt x="22820" y="4490"/>
                </a:moveTo>
                <a:cubicBezTo>
                  <a:pt x="22901" y="4470"/>
                  <a:pt x="23008" y="4442"/>
                  <a:pt x="23093" y="4465"/>
                </a:cubicBezTo>
                <a:cubicBezTo>
                  <a:pt x="23148" y="4479"/>
                  <a:pt x="23228" y="4523"/>
                  <a:pt x="23267" y="4564"/>
                </a:cubicBezTo>
                <a:cubicBezTo>
                  <a:pt x="23333" y="4634"/>
                  <a:pt x="23337" y="4694"/>
                  <a:pt x="23341" y="4787"/>
                </a:cubicBezTo>
                <a:cubicBezTo>
                  <a:pt x="23345" y="4894"/>
                  <a:pt x="23283" y="4946"/>
                  <a:pt x="23242" y="5035"/>
                </a:cubicBezTo>
                <a:cubicBezTo>
                  <a:pt x="23200" y="5125"/>
                  <a:pt x="23151" y="5180"/>
                  <a:pt x="23093" y="5259"/>
                </a:cubicBezTo>
                <a:cubicBezTo>
                  <a:pt x="23020" y="5358"/>
                  <a:pt x="22951" y="5441"/>
                  <a:pt x="22870" y="5531"/>
                </a:cubicBezTo>
                <a:cubicBezTo>
                  <a:pt x="22809" y="5598"/>
                  <a:pt x="22729" y="5693"/>
                  <a:pt x="22721" y="5779"/>
                </a:cubicBezTo>
                <a:cubicBezTo>
                  <a:pt x="22691" y="5809"/>
                  <a:pt x="22686" y="5823"/>
                  <a:pt x="22721" y="5854"/>
                </a:cubicBezTo>
                <a:cubicBezTo>
                  <a:pt x="22832" y="5887"/>
                  <a:pt x="22906" y="5858"/>
                  <a:pt x="23019" y="5854"/>
                </a:cubicBezTo>
                <a:cubicBezTo>
                  <a:pt x="23242" y="5847"/>
                  <a:pt x="23465" y="5854"/>
                  <a:pt x="23688" y="58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3"/>
          <p:cNvSpPr/>
          <p:nvPr/>
        </p:nvSpPr>
        <p:spPr>
          <a:xfrm>
            <a:off x="3340080" y="2187720"/>
            <a:ext cx="401760" cy="1768320"/>
          </a:xfrm>
          <a:custGeom>
            <a:avLst/>
            <a:gdLst/>
            <a:ahLst/>
            <a:rect l="l" t="t" r="r" b="b"/>
            <a:pathLst>
              <a:path w="1117" h="4912">
                <a:moveTo>
                  <a:pt x="9823" y="6077"/>
                </a:moveTo>
                <a:cubicBezTo>
                  <a:pt x="9823" y="6344"/>
                  <a:pt x="9816" y="6607"/>
                  <a:pt x="9798" y="6871"/>
                </a:cubicBezTo>
                <a:cubicBezTo>
                  <a:pt x="9786" y="7048"/>
                  <a:pt x="9812" y="7218"/>
                  <a:pt x="9823" y="7392"/>
                </a:cubicBezTo>
                <a:cubicBezTo>
                  <a:pt x="9841" y="7681"/>
                  <a:pt x="9824" y="7973"/>
                  <a:pt x="9847" y="8260"/>
                </a:cubicBezTo>
                <a:cubicBezTo>
                  <a:pt x="9858" y="8400"/>
                  <a:pt x="9855" y="8556"/>
                  <a:pt x="9872" y="8682"/>
                </a:cubicBezTo>
                <a:cubicBezTo>
                  <a:pt x="9872" y="8723"/>
                  <a:pt x="9864" y="8739"/>
                  <a:pt x="9897" y="8731"/>
                </a:cubicBezTo>
              </a:path>
              <a:path w="1117" h="4912">
                <a:moveTo>
                  <a:pt x="9302" y="8310"/>
                </a:moveTo>
                <a:cubicBezTo>
                  <a:pt x="9283" y="8346"/>
                  <a:pt x="9290" y="8391"/>
                  <a:pt x="9327" y="8434"/>
                </a:cubicBezTo>
                <a:cubicBezTo>
                  <a:pt x="9382" y="8497"/>
                  <a:pt x="9423" y="8569"/>
                  <a:pt x="9475" y="8632"/>
                </a:cubicBezTo>
                <a:cubicBezTo>
                  <a:pt x="9520" y="8687"/>
                  <a:pt x="9575" y="8785"/>
                  <a:pt x="9624" y="8830"/>
                </a:cubicBezTo>
                <a:cubicBezTo>
                  <a:pt x="9653" y="8856"/>
                  <a:pt x="9732" y="8919"/>
                  <a:pt x="9773" y="8905"/>
                </a:cubicBezTo>
                <a:cubicBezTo>
                  <a:pt x="9837" y="8884"/>
                  <a:pt x="9854" y="8818"/>
                  <a:pt x="9897" y="8781"/>
                </a:cubicBezTo>
                <a:cubicBezTo>
                  <a:pt x="9973" y="8716"/>
                  <a:pt x="10025" y="8639"/>
                  <a:pt x="10096" y="8558"/>
                </a:cubicBezTo>
                <a:cubicBezTo>
                  <a:pt x="10157" y="8488"/>
                  <a:pt x="10198" y="8411"/>
                  <a:pt x="10269" y="8359"/>
                </a:cubicBezTo>
              </a:path>
              <a:path w="1117" h="4912">
                <a:moveTo>
                  <a:pt x="10319" y="9798"/>
                </a:moveTo>
                <a:cubicBezTo>
                  <a:pt x="10212" y="9755"/>
                  <a:pt x="10159" y="9748"/>
                  <a:pt x="10046" y="9748"/>
                </a:cubicBezTo>
                <a:cubicBezTo>
                  <a:pt x="9987" y="9748"/>
                  <a:pt x="9898" y="9766"/>
                  <a:pt x="9847" y="9798"/>
                </a:cubicBezTo>
                <a:cubicBezTo>
                  <a:pt x="9755" y="9855"/>
                  <a:pt x="9739" y="9908"/>
                  <a:pt x="9748" y="9996"/>
                </a:cubicBezTo>
                <a:cubicBezTo>
                  <a:pt x="9756" y="10076"/>
                  <a:pt x="9795" y="10133"/>
                  <a:pt x="9847" y="10195"/>
                </a:cubicBezTo>
                <a:cubicBezTo>
                  <a:pt x="9919" y="10280"/>
                  <a:pt x="10005" y="10323"/>
                  <a:pt x="10071" y="10418"/>
                </a:cubicBezTo>
                <a:cubicBezTo>
                  <a:pt x="10137" y="10513"/>
                  <a:pt x="10247" y="10651"/>
                  <a:pt x="10269" y="10765"/>
                </a:cubicBezTo>
                <a:cubicBezTo>
                  <a:pt x="10283" y="10838"/>
                  <a:pt x="10281" y="10965"/>
                  <a:pt x="10195" y="10988"/>
                </a:cubicBezTo>
                <a:cubicBezTo>
                  <a:pt x="10129" y="11006"/>
                  <a:pt x="10071" y="10951"/>
                  <a:pt x="10021" y="10914"/>
                </a:cubicBezTo>
                <a:cubicBezTo>
                  <a:pt x="9986" y="10887"/>
                  <a:pt x="9973" y="10807"/>
                  <a:pt x="9971" y="10765"/>
                </a:cubicBezTo>
                <a:cubicBezTo>
                  <a:pt x="9967" y="10669"/>
                  <a:pt x="9983" y="10605"/>
                  <a:pt x="10021" y="10517"/>
                </a:cubicBezTo>
                <a:cubicBezTo>
                  <a:pt x="10059" y="10429"/>
                  <a:pt x="10122" y="10352"/>
                  <a:pt x="10170" y="10269"/>
                </a:cubicBezTo>
                <a:cubicBezTo>
                  <a:pt x="10216" y="10188"/>
                  <a:pt x="10241" y="10095"/>
                  <a:pt x="10294" y="10021"/>
                </a:cubicBezTo>
                <a:cubicBezTo>
                  <a:pt x="10357" y="9932"/>
                  <a:pt x="10386" y="9942"/>
                  <a:pt x="10393" y="9823"/>
                </a:cubicBezTo>
                <a:cubicBezTo>
                  <a:pt x="10393" y="9815"/>
                  <a:pt x="10393" y="9806"/>
                  <a:pt x="10393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4"/>
          <p:cNvSpPr/>
          <p:nvPr/>
        </p:nvSpPr>
        <p:spPr>
          <a:xfrm>
            <a:off x="4276800" y="2536920"/>
            <a:ext cx="384120" cy="1571400"/>
          </a:xfrm>
          <a:custGeom>
            <a:avLst/>
            <a:gdLst/>
            <a:ahLst/>
            <a:rect l="l" t="t" r="r" b="b"/>
            <a:pathLst>
              <a:path w="1068" h="4366">
                <a:moveTo>
                  <a:pt x="12105" y="7268"/>
                </a:moveTo>
                <a:cubicBezTo>
                  <a:pt x="12098" y="7354"/>
                  <a:pt x="12090" y="7437"/>
                  <a:pt x="12055" y="7516"/>
                </a:cubicBezTo>
                <a:cubicBezTo>
                  <a:pt x="12007" y="7623"/>
                  <a:pt x="11954" y="7747"/>
                  <a:pt x="11881" y="7838"/>
                </a:cubicBezTo>
                <a:cubicBezTo>
                  <a:pt x="11984" y="7838"/>
                  <a:pt x="12081" y="7855"/>
                  <a:pt x="12179" y="7863"/>
                </a:cubicBezTo>
                <a:cubicBezTo>
                  <a:pt x="12286" y="7872"/>
                  <a:pt x="12424" y="7866"/>
                  <a:pt x="12526" y="7838"/>
                </a:cubicBezTo>
                <a:cubicBezTo>
                  <a:pt x="12543" y="7830"/>
                  <a:pt x="12559" y="7821"/>
                  <a:pt x="12576" y="7813"/>
                </a:cubicBezTo>
              </a:path>
              <a:path w="1068" h="4366">
                <a:moveTo>
                  <a:pt x="12551" y="7045"/>
                </a:moveTo>
                <a:cubicBezTo>
                  <a:pt x="12504" y="7221"/>
                  <a:pt x="12487" y="7379"/>
                  <a:pt x="12477" y="7565"/>
                </a:cubicBezTo>
                <a:cubicBezTo>
                  <a:pt x="12468" y="7720"/>
                  <a:pt x="12469" y="7883"/>
                  <a:pt x="12452" y="8037"/>
                </a:cubicBezTo>
                <a:cubicBezTo>
                  <a:pt x="12435" y="8188"/>
                  <a:pt x="12427" y="8329"/>
                  <a:pt x="12427" y="8483"/>
                </a:cubicBezTo>
                <a:cubicBezTo>
                  <a:pt x="12427" y="8560"/>
                  <a:pt x="12413" y="8591"/>
                  <a:pt x="12452" y="8657"/>
                </a:cubicBezTo>
              </a:path>
              <a:path w="1068" h="4366">
                <a:moveTo>
                  <a:pt x="12402" y="9649"/>
                </a:moveTo>
                <a:cubicBezTo>
                  <a:pt x="12394" y="9727"/>
                  <a:pt x="12392" y="9828"/>
                  <a:pt x="12353" y="9897"/>
                </a:cubicBezTo>
                <a:cubicBezTo>
                  <a:pt x="12331" y="9935"/>
                  <a:pt x="12289" y="9998"/>
                  <a:pt x="12278" y="10046"/>
                </a:cubicBezTo>
                <a:cubicBezTo>
                  <a:pt x="12278" y="10091"/>
                  <a:pt x="12282" y="10104"/>
                  <a:pt x="12254" y="10120"/>
                </a:cubicBezTo>
                <a:cubicBezTo>
                  <a:pt x="12325" y="10120"/>
                  <a:pt x="12363" y="10141"/>
                  <a:pt x="12427" y="10145"/>
                </a:cubicBezTo>
                <a:cubicBezTo>
                  <a:pt x="12550" y="10152"/>
                  <a:pt x="12668" y="10207"/>
                  <a:pt x="12799" y="10220"/>
                </a:cubicBezTo>
                <a:cubicBezTo>
                  <a:pt x="12867" y="10220"/>
                  <a:pt x="12886" y="10223"/>
                  <a:pt x="12923" y="10195"/>
                </a:cubicBezTo>
              </a:path>
              <a:path w="1068" h="4366">
                <a:moveTo>
                  <a:pt x="12948" y="9525"/>
                </a:moveTo>
                <a:cubicBezTo>
                  <a:pt x="12925" y="9698"/>
                  <a:pt x="12886" y="9874"/>
                  <a:pt x="12874" y="10046"/>
                </a:cubicBezTo>
                <a:cubicBezTo>
                  <a:pt x="12864" y="10196"/>
                  <a:pt x="12849" y="10341"/>
                  <a:pt x="12849" y="10492"/>
                </a:cubicBezTo>
                <a:cubicBezTo>
                  <a:pt x="12849" y="10646"/>
                  <a:pt x="12861" y="10789"/>
                  <a:pt x="12874" y="10939"/>
                </a:cubicBezTo>
                <a:cubicBezTo>
                  <a:pt x="12884" y="11055"/>
                  <a:pt x="12893" y="11171"/>
                  <a:pt x="12898" y="11286"/>
                </a:cubicBezTo>
                <a:cubicBezTo>
                  <a:pt x="12901" y="11345"/>
                  <a:pt x="12895" y="11363"/>
                  <a:pt x="12923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5"/>
          <p:cNvSpPr/>
          <p:nvPr/>
        </p:nvSpPr>
        <p:spPr>
          <a:xfrm>
            <a:off x="5249880" y="2608200"/>
            <a:ext cx="287280" cy="588960"/>
          </a:xfrm>
          <a:custGeom>
            <a:avLst/>
            <a:gdLst/>
            <a:ahLst/>
            <a:rect l="l" t="t" r="r" b="b"/>
            <a:pathLst>
              <a:path w="795" h="1638">
                <a:moveTo>
                  <a:pt x="14610" y="7813"/>
                </a:moveTo>
                <a:cubicBezTo>
                  <a:pt x="14628" y="7758"/>
                  <a:pt x="14635" y="7641"/>
                  <a:pt x="14660" y="7590"/>
                </a:cubicBezTo>
                <a:cubicBezTo>
                  <a:pt x="14685" y="7540"/>
                  <a:pt x="14705" y="7492"/>
                  <a:pt x="14734" y="7441"/>
                </a:cubicBezTo>
                <a:cubicBezTo>
                  <a:pt x="14763" y="7390"/>
                  <a:pt x="14810" y="7330"/>
                  <a:pt x="14858" y="7293"/>
                </a:cubicBezTo>
                <a:cubicBezTo>
                  <a:pt x="14927" y="7240"/>
                  <a:pt x="14981" y="7235"/>
                  <a:pt x="15056" y="7268"/>
                </a:cubicBezTo>
                <a:cubicBezTo>
                  <a:pt x="15123" y="7298"/>
                  <a:pt x="15146" y="7330"/>
                  <a:pt x="15180" y="7392"/>
                </a:cubicBezTo>
                <a:cubicBezTo>
                  <a:pt x="15211" y="7449"/>
                  <a:pt x="15226" y="7526"/>
                  <a:pt x="15230" y="7590"/>
                </a:cubicBezTo>
                <a:cubicBezTo>
                  <a:pt x="15238" y="7741"/>
                  <a:pt x="15250" y="7918"/>
                  <a:pt x="15205" y="8062"/>
                </a:cubicBezTo>
                <a:cubicBezTo>
                  <a:pt x="15176" y="8155"/>
                  <a:pt x="15140" y="8244"/>
                  <a:pt x="15106" y="8334"/>
                </a:cubicBezTo>
                <a:cubicBezTo>
                  <a:pt x="15073" y="8422"/>
                  <a:pt x="15043" y="8485"/>
                  <a:pt x="14982" y="8558"/>
                </a:cubicBezTo>
                <a:cubicBezTo>
                  <a:pt x="14947" y="8599"/>
                  <a:pt x="14863" y="8667"/>
                  <a:pt x="14808" y="8682"/>
                </a:cubicBezTo>
                <a:cubicBezTo>
                  <a:pt x="14738" y="8701"/>
                  <a:pt x="14687" y="8672"/>
                  <a:pt x="14635" y="8632"/>
                </a:cubicBezTo>
                <a:cubicBezTo>
                  <a:pt x="14587" y="8595"/>
                  <a:pt x="14568" y="8544"/>
                  <a:pt x="14585" y="8483"/>
                </a:cubicBezTo>
                <a:cubicBezTo>
                  <a:pt x="14609" y="8397"/>
                  <a:pt x="14660" y="8391"/>
                  <a:pt x="14734" y="8384"/>
                </a:cubicBezTo>
                <a:cubicBezTo>
                  <a:pt x="14793" y="8378"/>
                  <a:pt x="14821" y="8415"/>
                  <a:pt x="14858" y="8458"/>
                </a:cubicBezTo>
                <a:cubicBezTo>
                  <a:pt x="14895" y="8500"/>
                  <a:pt x="14917" y="8570"/>
                  <a:pt x="14957" y="8607"/>
                </a:cubicBezTo>
                <a:cubicBezTo>
                  <a:pt x="14998" y="8645"/>
                  <a:pt x="15066" y="8699"/>
                  <a:pt x="15106" y="8731"/>
                </a:cubicBezTo>
                <a:cubicBezTo>
                  <a:pt x="15140" y="8758"/>
                  <a:pt x="15215" y="8816"/>
                  <a:pt x="15255" y="8830"/>
                </a:cubicBezTo>
                <a:cubicBezTo>
                  <a:pt x="15307" y="8849"/>
                  <a:pt x="15342" y="8872"/>
                  <a:pt x="15379" y="8855"/>
                </a:cubicBezTo>
                <a:cubicBezTo>
                  <a:pt x="15379" y="8847"/>
                  <a:pt x="15379" y="8838"/>
                  <a:pt x="15379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6"/>
          <p:cNvSpPr/>
          <p:nvPr/>
        </p:nvSpPr>
        <p:spPr>
          <a:xfrm>
            <a:off x="5348160" y="3562200"/>
            <a:ext cx="206640" cy="581040"/>
          </a:xfrm>
          <a:custGeom>
            <a:avLst/>
            <a:gdLst/>
            <a:ahLst/>
            <a:rect l="l" t="t" r="r" b="b"/>
            <a:pathLst>
              <a:path w="572" h="1613">
                <a:moveTo>
                  <a:pt x="15280" y="10021"/>
                </a:moveTo>
                <a:cubicBezTo>
                  <a:pt x="15261" y="9965"/>
                  <a:pt x="15216" y="9934"/>
                  <a:pt x="15131" y="9947"/>
                </a:cubicBezTo>
                <a:cubicBezTo>
                  <a:pt x="15054" y="9959"/>
                  <a:pt x="14965" y="9994"/>
                  <a:pt x="14908" y="10046"/>
                </a:cubicBezTo>
                <a:cubicBezTo>
                  <a:pt x="14862" y="10088"/>
                  <a:pt x="14841" y="10158"/>
                  <a:pt x="14858" y="10220"/>
                </a:cubicBezTo>
                <a:cubicBezTo>
                  <a:pt x="14879" y="10295"/>
                  <a:pt x="14968" y="10382"/>
                  <a:pt x="15007" y="10443"/>
                </a:cubicBezTo>
                <a:cubicBezTo>
                  <a:pt x="15091" y="10576"/>
                  <a:pt x="15201" y="10707"/>
                  <a:pt x="15280" y="10840"/>
                </a:cubicBezTo>
                <a:cubicBezTo>
                  <a:pt x="15333" y="10930"/>
                  <a:pt x="15370" y="11037"/>
                  <a:pt x="15404" y="11137"/>
                </a:cubicBezTo>
                <a:cubicBezTo>
                  <a:pt x="15429" y="11211"/>
                  <a:pt x="15446" y="11306"/>
                  <a:pt x="15429" y="11385"/>
                </a:cubicBezTo>
                <a:cubicBezTo>
                  <a:pt x="15412" y="11468"/>
                  <a:pt x="15383" y="11504"/>
                  <a:pt x="15304" y="11509"/>
                </a:cubicBezTo>
                <a:cubicBezTo>
                  <a:pt x="15249" y="11512"/>
                  <a:pt x="15200" y="11468"/>
                  <a:pt x="15156" y="11435"/>
                </a:cubicBezTo>
                <a:cubicBezTo>
                  <a:pt x="15088" y="11384"/>
                  <a:pt x="15106" y="11286"/>
                  <a:pt x="15106" y="11212"/>
                </a:cubicBezTo>
                <a:cubicBezTo>
                  <a:pt x="15106" y="11134"/>
                  <a:pt x="15152" y="11084"/>
                  <a:pt x="15180" y="11013"/>
                </a:cubicBezTo>
                <a:cubicBezTo>
                  <a:pt x="15222" y="10905"/>
                  <a:pt x="15267" y="10801"/>
                  <a:pt x="15304" y="10691"/>
                </a:cubicBezTo>
                <a:cubicBezTo>
                  <a:pt x="15346" y="10566"/>
                  <a:pt x="15398" y="10450"/>
                  <a:pt x="15404" y="10319"/>
                </a:cubicBezTo>
                <a:cubicBezTo>
                  <a:pt x="15408" y="10228"/>
                  <a:pt x="15401" y="10152"/>
                  <a:pt x="15354" y="10071"/>
                </a:cubicBezTo>
                <a:cubicBezTo>
                  <a:pt x="15312" y="9999"/>
                  <a:pt x="15243" y="9915"/>
                  <a:pt x="15156" y="9897"/>
                </a:cubicBezTo>
                <a:cubicBezTo>
                  <a:pt x="15131" y="9897"/>
                  <a:pt x="15106" y="9897"/>
                  <a:pt x="1508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7"/>
          <p:cNvSpPr/>
          <p:nvPr/>
        </p:nvSpPr>
        <p:spPr>
          <a:xfrm>
            <a:off x="6045120" y="2554200"/>
            <a:ext cx="447840" cy="1625760"/>
          </a:xfrm>
          <a:custGeom>
            <a:avLst/>
            <a:gdLst/>
            <a:ahLst/>
            <a:rect l="l" t="t" r="r" b="b"/>
            <a:pathLst>
              <a:path w="1241" h="4516">
                <a:moveTo>
                  <a:pt x="16991" y="7293"/>
                </a:moveTo>
                <a:cubicBezTo>
                  <a:pt x="16981" y="7358"/>
                  <a:pt x="16968" y="7423"/>
                  <a:pt x="16942" y="7491"/>
                </a:cubicBezTo>
                <a:cubicBezTo>
                  <a:pt x="16915" y="7562"/>
                  <a:pt x="16867" y="7624"/>
                  <a:pt x="16842" y="7689"/>
                </a:cubicBezTo>
                <a:cubicBezTo>
                  <a:pt x="16818" y="7749"/>
                  <a:pt x="16796" y="7823"/>
                  <a:pt x="16793" y="7888"/>
                </a:cubicBezTo>
                <a:cubicBezTo>
                  <a:pt x="16788" y="7981"/>
                  <a:pt x="16843" y="7962"/>
                  <a:pt x="16917" y="7962"/>
                </a:cubicBezTo>
                <a:cubicBezTo>
                  <a:pt x="16986" y="7962"/>
                  <a:pt x="17042" y="7987"/>
                  <a:pt x="17115" y="7987"/>
                </a:cubicBezTo>
                <a:cubicBezTo>
                  <a:pt x="17218" y="7987"/>
                  <a:pt x="17287" y="8011"/>
                  <a:pt x="17388" y="7987"/>
                </a:cubicBezTo>
                <a:cubicBezTo>
                  <a:pt x="17455" y="7964"/>
                  <a:pt x="17473" y="7959"/>
                  <a:pt x="17512" y="7938"/>
                </a:cubicBezTo>
              </a:path>
              <a:path w="1241" h="4516">
                <a:moveTo>
                  <a:pt x="17388" y="7094"/>
                </a:moveTo>
                <a:cubicBezTo>
                  <a:pt x="17388" y="7246"/>
                  <a:pt x="17377" y="7393"/>
                  <a:pt x="17363" y="7541"/>
                </a:cubicBezTo>
                <a:cubicBezTo>
                  <a:pt x="17351" y="7670"/>
                  <a:pt x="17388" y="7806"/>
                  <a:pt x="17388" y="7938"/>
                </a:cubicBezTo>
                <a:cubicBezTo>
                  <a:pt x="17388" y="8083"/>
                  <a:pt x="17411" y="8215"/>
                  <a:pt x="17413" y="8359"/>
                </a:cubicBezTo>
                <a:cubicBezTo>
                  <a:pt x="17415" y="8497"/>
                  <a:pt x="17406" y="8709"/>
                  <a:pt x="17438" y="8855"/>
                </a:cubicBezTo>
                <a:cubicBezTo>
                  <a:pt x="17453" y="8924"/>
                  <a:pt x="17462" y="8953"/>
                  <a:pt x="17462" y="9029"/>
                </a:cubicBezTo>
              </a:path>
              <a:path w="1241" h="4516">
                <a:moveTo>
                  <a:pt x="17512" y="9922"/>
                </a:moveTo>
                <a:cubicBezTo>
                  <a:pt x="17502" y="10004"/>
                  <a:pt x="17464" y="10054"/>
                  <a:pt x="17413" y="10120"/>
                </a:cubicBezTo>
                <a:cubicBezTo>
                  <a:pt x="17385" y="10157"/>
                  <a:pt x="17326" y="10200"/>
                  <a:pt x="17314" y="10244"/>
                </a:cubicBezTo>
                <a:cubicBezTo>
                  <a:pt x="17297" y="10310"/>
                  <a:pt x="17350" y="10378"/>
                  <a:pt x="17413" y="10393"/>
                </a:cubicBezTo>
                <a:cubicBezTo>
                  <a:pt x="17490" y="10411"/>
                  <a:pt x="17559" y="10440"/>
                  <a:pt x="17636" y="10468"/>
                </a:cubicBezTo>
                <a:cubicBezTo>
                  <a:pt x="17733" y="10504"/>
                  <a:pt x="17832" y="10492"/>
                  <a:pt x="17934" y="10492"/>
                </a:cubicBezTo>
              </a:path>
              <a:path w="1241" h="4516">
                <a:moveTo>
                  <a:pt x="18033" y="9798"/>
                </a:moveTo>
                <a:cubicBezTo>
                  <a:pt x="18021" y="9896"/>
                  <a:pt x="17990" y="9993"/>
                  <a:pt x="17983" y="10096"/>
                </a:cubicBezTo>
                <a:cubicBezTo>
                  <a:pt x="17948" y="10596"/>
                  <a:pt x="17983" y="11107"/>
                  <a:pt x="17983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8"/>
          <p:cNvSpPr/>
          <p:nvPr/>
        </p:nvSpPr>
        <p:spPr>
          <a:xfrm>
            <a:off x="6929280" y="2759040"/>
            <a:ext cx="428760" cy="1376280"/>
          </a:xfrm>
          <a:custGeom>
            <a:avLst/>
            <a:gdLst/>
            <a:ahLst/>
            <a:rect l="l" t="t" r="r" b="b"/>
            <a:pathLst>
              <a:path w="1192" h="3821">
                <a:moveTo>
                  <a:pt x="19794" y="7962"/>
                </a:moveTo>
                <a:cubicBezTo>
                  <a:pt x="19816" y="7903"/>
                  <a:pt x="19863" y="7726"/>
                  <a:pt x="19918" y="7689"/>
                </a:cubicBezTo>
                <a:cubicBezTo>
                  <a:pt x="19985" y="7644"/>
                  <a:pt x="20124" y="7651"/>
                  <a:pt x="20191" y="7689"/>
                </a:cubicBezTo>
                <a:cubicBezTo>
                  <a:pt x="20253" y="7724"/>
                  <a:pt x="20296" y="7762"/>
                  <a:pt x="20340" y="7813"/>
                </a:cubicBezTo>
                <a:cubicBezTo>
                  <a:pt x="20401" y="7882"/>
                  <a:pt x="20428" y="7943"/>
                  <a:pt x="20439" y="8037"/>
                </a:cubicBezTo>
                <a:cubicBezTo>
                  <a:pt x="20454" y="8163"/>
                  <a:pt x="20447" y="8312"/>
                  <a:pt x="20414" y="8434"/>
                </a:cubicBezTo>
                <a:cubicBezTo>
                  <a:pt x="20379" y="8563"/>
                  <a:pt x="20329" y="8668"/>
                  <a:pt x="20265" y="8781"/>
                </a:cubicBezTo>
                <a:cubicBezTo>
                  <a:pt x="20223" y="8855"/>
                  <a:pt x="20176" y="8902"/>
                  <a:pt x="20117" y="8954"/>
                </a:cubicBezTo>
                <a:cubicBezTo>
                  <a:pt x="20025" y="9036"/>
                  <a:pt x="20016" y="9014"/>
                  <a:pt x="19918" y="9004"/>
                </a:cubicBezTo>
                <a:cubicBezTo>
                  <a:pt x="19852" y="8997"/>
                  <a:pt x="19816" y="8945"/>
                  <a:pt x="19794" y="8880"/>
                </a:cubicBezTo>
                <a:cubicBezTo>
                  <a:pt x="19777" y="8830"/>
                  <a:pt x="19729" y="8739"/>
                  <a:pt x="19745" y="8682"/>
                </a:cubicBezTo>
                <a:cubicBezTo>
                  <a:pt x="19754" y="8651"/>
                  <a:pt x="19798" y="8608"/>
                  <a:pt x="19819" y="8582"/>
                </a:cubicBezTo>
                <a:cubicBezTo>
                  <a:pt x="19878" y="8612"/>
                  <a:pt x="19921" y="8636"/>
                  <a:pt x="19968" y="8682"/>
                </a:cubicBezTo>
                <a:cubicBezTo>
                  <a:pt x="20017" y="8730"/>
                  <a:pt x="20060" y="8770"/>
                  <a:pt x="20092" y="8830"/>
                </a:cubicBezTo>
                <a:cubicBezTo>
                  <a:pt x="20135" y="8910"/>
                  <a:pt x="20198" y="8972"/>
                  <a:pt x="20241" y="9054"/>
                </a:cubicBezTo>
                <a:cubicBezTo>
                  <a:pt x="20245" y="9061"/>
                  <a:pt x="20339" y="9180"/>
                  <a:pt x="20340" y="9178"/>
                </a:cubicBezTo>
                <a:cubicBezTo>
                  <a:pt x="20340" y="9145"/>
                  <a:pt x="20340" y="9112"/>
                  <a:pt x="20340" y="9079"/>
                </a:cubicBezTo>
              </a:path>
              <a:path w="1192" h="3821">
                <a:moveTo>
                  <a:pt x="19248" y="10492"/>
                </a:moveTo>
                <a:cubicBezTo>
                  <a:pt x="19340" y="10515"/>
                  <a:pt x="19427" y="10539"/>
                  <a:pt x="19521" y="10542"/>
                </a:cubicBezTo>
                <a:cubicBezTo>
                  <a:pt x="19554" y="10542"/>
                  <a:pt x="19588" y="10542"/>
                  <a:pt x="19621" y="10542"/>
                </a:cubicBezTo>
              </a:path>
              <a:path w="1192" h="3821">
                <a:moveTo>
                  <a:pt x="19993" y="10244"/>
                </a:moveTo>
                <a:cubicBezTo>
                  <a:pt x="19986" y="10318"/>
                  <a:pt x="19972" y="10425"/>
                  <a:pt x="19943" y="10492"/>
                </a:cubicBezTo>
                <a:cubicBezTo>
                  <a:pt x="19915" y="10556"/>
                  <a:pt x="19900" y="10622"/>
                  <a:pt x="19943" y="10691"/>
                </a:cubicBezTo>
                <a:cubicBezTo>
                  <a:pt x="19965" y="10727"/>
                  <a:pt x="20053" y="10738"/>
                  <a:pt x="20092" y="10740"/>
                </a:cubicBezTo>
                <a:cubicBezTo>
                  <a:pt x="20166" y="10744"/>
                  <a:pt x="20222" y="10741"/>
                  <a:pt x="20290" y="10716"/>
                </a:cubicBezTo>
              </a:path>
              <a:path w="1192" h="3821">
                <a:moveTo>
                  <a:pt x="20365" y="9996"/>
                </a:moveTo>
                <a:cubicBezTo>
                  <a:pt x="20345" y="10144"/>
                  <a:pt x="20340" y="10297"/>
                  <a:pt x="20315" y="10443"/>
                </a:cubicBezTo>
                <a:cubicBezTo>
                  <a:pt x="20289" y="10596"/>
                  <a:pt x="20293" y="10735"/>
                  <a:pt x="20315" y="10889"/>
                </a:cubicBezTo>
                <a:cubicBezTo>
                  <a:pt x="20339" y="11055"/>
                  <a:pt x="20377" y="11217"/>
                  <a:pt x="20389" y="11385"/>
                </a:cubicBezTo>
                <a:cubicBezTo>
                  <a:pt x="20389" y="11418"/>
                  <a:pt x="20389" y="11452"/>
                  <a:pt x="20389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19"/>
          <p:cNvSpPr/>
          <p:nvPr/>
        </p:nvSpPr>
        <p:spPr>
          <a:xfrm>
            <a:off x="7759800" y="2830680"/>
            <a:ext cx="571320" cy="492120"/>
          </a:xfrm>
          <a:custGeom>
            <a:avLst/>
            <a:gdLst/>
            <a:ahLst/>
            <a:rect l="l" t="t" r="r" b="b"/>
            <a:pathLst>
              <a:path w="1589" h="1365">
                <a:moveTo>
                  <a:pt x="21555" y="8632"/>
                </a:moveTo>
                <a:cubicBezTo>
                  <a:pt x="21692" y="8632"/>
                  <a:pt x="21820" y="8642"/>
                  <a:pt x="21952" y="8657"/>
                </a:cubicBezTo>
                <a:cubicBezTo>
                  <a:pt x="21977" y="8657"/>
                  <a:pt x="22002" y="8657"/>
                  <a:pt x="22027" y="8657"/>
                </a:cubicBezTo>
              </a:path>
              <a:path w="1589" h="1365">
                <a:moveTo>
                  <a:pt x="22473" y="8037"/>
                </a:moveTo>
                <a:cubicBezTo>
                  <a:pt x="22530" y="7980"/>
                  <a:pt x="22580" y="7929"/>
                  <a:pt x="22647" y="7888"/>
                </a:cubicBezTo>
                <a:cubicBezTo>
                  <a:pt x="22703" y="7854"/>
                  <a:pt x="22807" y="7846"/>
                  <a:pt x="22870" y="7863"/>
                </a:cubicBezTo>
                <a:cubicBezTo>
                  <a:pt x="22979" y="7892"/>
                  <a:pt x="22969" y="7940"/>
                  <a:pt x="22969" y="8037"/>
                </a:cubicBezTo>
                <a:cubicBezTo>
                  <a:pt x="22969" y="8114"/>
                  <a:pt x="22928" y="8190"/>
                  <a:pt x="22895" y="8260"/>
                </a:cubicBezTo>
                <a:cubicBezTo>
                  <a:pt x="22845" y="8365"/>
                  <a:pt x="22773" y="8460"/>
                  <a:pt x="22721" y="8558"/>
                </a:cubicBezTo>
                <a:cubicBezTo>
                  <a:pt x="22659" y="8675"/>
                  <a:pt x="22583" y="8778"/>
                  <a:pt x="22498" y="8880"/>
                </a:cubicBezTo>
                <a:cubicBezTo>
                  <a:pt x="22426" y="8967"/>
                  <a:pt x="22382" y="9061"/>
                  <a:pt x="22324" y="9153"/>
                </a:cubicBezTo>
                <a:cubicBezTo>
                  <a:pt x="22316" y="9161"/>
                  <a:pt x="22307" y="9170"/>
                  <a:pt x="22299" y="9178"/>
                </a:cubicBezTo>
                <a:cubicBezTo>
                  <a:pt x="22377" y="9255"/>
                  <a:pt x="22433" y="9208"/>
                  <a:pt x="22547" y="9203"/>
                </a:cubicBezTo>
                <a:cubicBezTo>
                  <a:pt x="22633" y="9199"/>
                  <a:pt x="22707" y="9178"/>
                  <a:pt x="22796" y="9178"/>
                </a:cubicBezTo>
                <a:cubicBezTo>
                  <a:pt x="22871" y="9178"/>
                  <a:pt x="22925" y="9164"/>
                  <a:pt x="22994" y="9153"/>
                </a:cubicBezTo>
                <a:cubicBezTo>
                  <a:pt x="23061" y="9142"/>
                  <a:pt x="23133" y="9132"/>
                  <a:pt x="23118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20"/>
          <p:cNvSpPr/>
          <p:nvPr/>
        </p:nvSpPr>
        <p:spPr>
          <a:xfrm>
            <a:off x="8134200" y="3687840"/>
            <a:ext cx="331920" cy="473040"/>
          </a:xfrm>
          <a:custGeom>
            <a:avLst/>
            <a:gdLst/>
            <a:ahLst/>
            <a:rect l="l" t="t" r="r" b="b"/>
            <a:pathLst>
              <a:path w="919" h="1316">
                <a:moveTo>
                  <a:pt x="22796" y="10418"/>
                </a:moveTo>
                <a:cubicBezTo>
                  <a:pt x="22745" y="10469"/>
                  <a:pt x="22743" y="10480"/>
                  <a:pt x="22721" y="10542"/>
                </a:cubicBezTo>
                <a:cubicBezTo>
                  <a:pt x="22696" y="10611"/>
                  <a:pt x="22670" y="10672"/>
                  <a:pt x="22647" y="10740"/>
                </a:cubicBezTo>
                <a:cubicBezTo>
                  <a:pt x="22619" y="10821"/>
                  <a:pt x="22600" y="10903"/>
                  <a:pt x="22597" y="10988"/>
                </a:cubicBezTo>
                <a:cubicBezTo>
                  <a:pt x="22593" y="11087"/>
                  <a:pt x="22610" y="11146"/>
                  <a:pt x="22647" y="11237"/>
                </a:cubicBezTo>
                <a:cubicBezTo>
                  <a:pt x="22690" y="11343"/>
                  <a:pt x="22740" y="11431"/>
                  <a:pt x="22845" y="11485"/>
                </a:cubicBezTo>
                <a:cubicBezTo>
                  <a:pt x="22915" y="11521"/>
                  <a:pt x="23019" y="11550"/>
                  <a:pt x="23093" y="11559"/>
                </a:cubicBezTo>
                <a:cubicBezTo>
                  <a:pt x="23162" y="11568"/>
                  <a:pt x="23286" y="11557"/>
                  <a:pt x="23341" y="11509"/>
                </a:cubicBezTo>
                <a:cubicBezTo>
                  <a:pt x="23393" y="11464"/>
                  <a:pt x="23433" y="11374"/>
                  <a:pt x="23465" y="11311"/>
                </a:cubicBezTo>
                <a:cubicBezTo>
                  <a:pt x="23513" y="11216"/>
                  <a:pt x="23515" y="11143"/>
                  <a:pt x="23515" y="11038"/>
                </a:cubicBezTo>
                <a:cubicBezTo>
                  <a:pt x="23515" y="10932"/>
                  <a:pt x="23511" y="10819"/>
                  <a:pt x="23490" y="10716"/>
                </a:cubicBezTo>
                <a:cubicBezTo>
                  <a:pt x="23470" y="10617"/>
                  <a:pt x="23432" y="10516"/>
                  <a:pt x="23366" y="10443"/>
                </a:cubicBezTo>
                <a:cubicBezTo>
                  <a:pt x="23300" y="10369"/>
                  <a:pt x="23260" y="10318"/>
                  <a:pt x="23168" y="10269"/>
                </a:cubicBezTo>
                <a:cubicBezTo>
                  <a:pt x="23079" y="10222"/>
                  <a:pt x="23029" y="10258"/>
                  <a:pt x="22944" y="10269"/>
                </a:cubicBezTo>
                <a:cubicBezTo>
                  <a:pt x="22841" y="10283"/>
                  <a:pt x="22822" y="10293"/>
                  <a:pt x="22746" y="10368"/>
                </a:cubicBezTo>
                <a:cubicBezTo>
                  <a:pt x="22682" y="10432"/>
                  <a:pt x="22660" y="10509"/>
                  <a:pt x="22622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21"/>
          <p:cNvSpPr/>
          <p:nvPr/>
        </p:nvSpPr>
        <p:spPr>
          <a:xfrm>
            <a:off x="3537000" y="4321080"/>
            <a:ext cx="3402000" cy="777960"/>
          </a:xfrm>
          <a:custGeom>
            <a:avLst/>
            <a:gdLst/>
            <a:ahLst/>
            <a:rect l="l" t="t" r="r" b="b"/>
            <a:pathLst>
              <a:path w="9451" h="2159">
                <a:moveTo>
                  <a:pt x="10368" y="12353"/>
                </a:moveTo>
                <a:cubicBezTo>
                  <a:pt x="10306" y="12289"/>
                  <a:pt x="10260" y="12282"/>
                  <a:pt x="10170" y="12278"/>
                </a:cubicBezTo>
                <a:cubicBezTo>
                  <a:pt x="10088" y="12274"/>
                  <a:pt x="10025" y="12279"/>
                  <a:pt x="9947" y="12303"/>
                </a:cubicBezTo>
                <a:cubicBezTo>
                  <a:pt x="9840" y="12336"/>
                  <a:pt x="9837" y="12341"/>
                  <a:pt x="9847" y="12427"/>
                </a:cubicBezTo>
                <a:cubicBezTo>
                  <a:pt x="9859" y="12534"/>
                  <a:pt x="9922" y="12539"/>
                  <a:pt x="9971" y="12626"/>
                </a:cubicBezTo>
                <a:cubicBezTo>
                  <a:pt x="10044" y="12755"/>
                  <a:pt x="10105" y="12892"/>
                  <a:pt x="10170" y="13022"/>
                </a:cubicBezTo>
                <a:cubicBezTo>
                  <a:pt x="10222" y="13126"/>
                  <a:pt x="10273" y="13227"/>
                  <a:pt x="10294" y="13345"/>
                </a:cubicBezTo>
                <a:cubicBezTo>
                  <a:pt x="10302" y="13388"/>
                  <a:pt x="10270" y="13480"/>
                  <a:pt x="10220" y="13494"/>
                </a:cubicBezTo>
                <a:cubicBezTo>
                  <a:pt x="10164" y="13510"/>
                  <a:pt x="10100" y="13464"/>
                  <a:pt x="10071" y="13419"/>
                </a:cubicBezTo>
                <a:cubicBezTo>
                  <a:pt x="10039" y="13370"/>
                  <a:pt x="9983" y="13282"/>
                  <a:pt x="9996" y="13221"/>
                </a:cubicBezTo>
                <a:cubicBezTo>
                  <a:pt x="10014" y="13139"/>
                  <a:pt x="10027" y="13055"/>
                  <a:pt x="10046" y="12973"/>
                </a:cubicBezTo>
                <a:cubicBezTo>
                  <a:pt x="10068" y="12879"/>
                  <a:pt x="10128" y="12796"/>
                  <a:pt x="10145" y="12700"/>
                </a:cubicBezTo>
                <a:cubicBezTo>
                  <a:pt x="10159" y="12621"/>
                  <a:pt x="10172" y="12547"/>
                  <a:pt x="10220" y="12477"/>
                </a:cubicBezTo>
                <a:cubicBezTo>
                  <a:pt x="10239" y="12450"/>
                  <a:pt x="10271" y="12425"/>
                  <a:pt x="10294" y="12402"/>
                </a:cubicBezTo>
              </a:path>
              <a:path w="9451" h="2159">
                <a:moveTo>
                  <a:pt x="10567" y="12750"/>
                </a:moveTo>
                <a:cubicBezTo>
                  <a:pt x="10614" y="12891"/>
                  <a:pt x="10647" y="13076"/>
                  <a:pt x="10740" y="13196"/>
                </a:cubicBezTo>
                <a:cubicBezTo>
                  <a:pt x="10808" y="13284"/>
                  <a:pt x="10854" y="13381"/>
                  <a:pt x="10914" y="13469"/>
                </a:cubicBezTo>
                <a:cubicBezTo>
                  <a:pt x="10946" y="13515"/>
                  <a:pt x="10996" y="13535"/>
                  <a:pt x="11038" y="13568"/>
                </a:cubicBezTo>
              </a:path>
              <a:path w="9451" h="2159">
                <a:moveTo>
                  <a:pt x="10939" y="12750"/>
                </a:moveTo>
                <a:cubicBezTo>
                  <a:pt x="10894" y="12804"/>
                  <a:pt x="10845" y="12884"/>
                  <a:pt x="10815" y="12948"/>
                </a:cubicBezTo>
                <a:cubicBezTo>
                  <a:pt x="10771" y="13044"/>
                  <a:pt x="10711" y="13132"/>
                  <a:pt x="10666" y="13221"/>
                </a:cubicBezTo>
                <a:cubicBezTo>
                  <a:pt x="10652" y="13248"/>
                  <a:pt x="10534" y="13469"/>
                  <a:pt x="10567" y="13494"/>
                </a:cubicBezTo>
                <a:cubicBezTo>
                  <a:pt x="10575" y="13486"/>
                  <a:pt x="10584" y="13477"/>
                  <a:pt x="10592" y="13469"/>
                </a:cubicBezTo>
              </a:path>
              <a:path w="9451" h="2159">
                <a:moveTo>
                  <a:pt x="11137" y="12303"/>
                </a:moveTo>
                <a:cubicBezTo>
                  <a:pt x="11128" y="12391"/>
                  <a:pt x="11083" y="12402"/>
                  <a:pt x="11063" y="12477"/>
                </a:cubicBezTo>
                <a:cubicBezTo>
                  <a:pt x="11063" y="12493"/>
                  <a:pt x="11063" y="12510"/>
                  <a:pt x="11063" y="12526"/>
                </a:cubicBezTo>
                <a:cubicBezTo>
                  <a:pt x="11134" y="12526"/>
                  <a:pt x="11173" y="12506"/>
                  <a:pt x="11237" y="12502"/>
                </a:cubicBezTo>
                <a:cubicBezTo>
                  <a:pt x="11288" y="12502"/>
                  <a:pt x="11307" y="12501"/>
                  <a:pt x="11336" y="12477"/>
                </a:cubicBezTo>
              </a:path>
              <a:path w="9451" h="2159">
                <a:moveTo>
                  <a:pt x="11361" y="12005"/>
                </a:moveTo>
                <a:cubicBezTo>
                  <a:pt x="11345" y="12135"/>
                  <a:pt x="11336" y="12249"/>
                  <a:pt x="11336" y="12378"/>
                </a:cubicBezTo>
                <a:cubicBezTo>
                  <a:pt x="11336" y="12515"/>
                  <a:pt x="11333" y="12644"/>
                  <a:pt x="11311" y="12774"/>
                </a:cubicBezTo>
                <a:cubicBezTo>
                  <a:pt x="11311" y="12791"/>
                  <a:pt x="11311" y="12807"/>
                  <a:pt x="11311" y="12824"/>
                </a:cubicBezTo>
              </a:path>
              <a:path w="9451" h="2159">
                <a:moveTo>
                  <a:pt x="11807" y="12799"/>
                </a:moveTo>
                <a:cubicBezTo>
                  <a:pt x="11807" y="12968"/>
                  <a:pt x="11806" y="13134"/>
                  <a:pt x="11832" y="13295"/>
                </a:cubicBezTo>
                <a:cubicBezTo>
                  <a:pt x="11838" y="13334"/>
                  <a:pt x="11832" y="13379"/>
                  <a:pt x="11832" y="13419"/>
                </a:cubicBezTo>
              </a:path>
              <a:path w="9451" h="2159">
                <a:moveTo>
                  <a:pt x="11633" y="13072"/>
                </a:moveTo>
                <a:cubicBezTo>
                  <a:pt x="11674" y="13058"/>
                  <a:pt x="11797" y="13058"/>
                  <a:pt x="11857" y="13072"/>
                </a:cubicBezTo>
                <a:cubicBezTo>
                  <a:pt x="11913" y="13101"/>
                  <a:pt x="11937" y="13106"/>
                  <a:pt x="11981" y="13072"/>
                </a:cubicBezTo>
              </a:path>
              <a:path w="9451" h="2159">
                <a:moveTo>
                  <a:pt x="12402" y="12601"/>
                </a:moveTo>
                <a:cubicBezTo>
                  <a:pt x="12394" y="12666"/>
                  <a:pt x="12382" y="12721"/>
                  <a:pt x="12353" y="12774"/>
                </a:cubicBezTo>
                <a:cubicBezTo>
                  <a:pt x="12320" y="12836"/>
                  <a:pt x="12311" y="12885"/>
                  <a:pt x="12278" y="12948"/>
                </a:cubicBezTo>
                <a:cubicBezTo>
                  <a:pt x="12237" y="13026"/>
                  <a:pt x="12208" y="13014"/>
                  <a:pt x="12303" y="13022"/>
                </a:cubicBezTo>
                <a:cubicBezTo>
                  <a:pt x="12393" y="13030"/>
                  <a:pt x="12417" y="13063"/>
                  <a:pt x="12502" y="13097"/>
                </a:cubicBezTo>
                <a:cubicBezTo>
                  <a:pt x="12564" y="13122"/>
                  <a:pt x="12611" y="13138"/>
                  <a:pt x="12675" y="13146"/>
                </a:cubicBezTo>
              </a:path>
              <a:path w="9451" h="2159">
                <a:moveTo>
                  <a:pt x="12824" y="12179"/>
                </a:moveTo>
                <a:cubicBezTo>
                  <a:pt x="12748" y="12179"/>
                  <a:pt x="12753" y="12347"/>
                  <a:pt x="12750" y="12452"/>
                </a:cubicBezTo>
                <a:cubicBezTo>
                  <a:pt x="12739" y="12852"/>
                  <a:pt x="12790" y="13278"/>
                  <a:pt x="12725" y="13667"/>
                </a:cubicBezTo>
                <a:cubicBezTo>
                  <a:pt x="12725" y="13726"/>
                  <a:pt x="12728" y="13734"/>
                  <a:pt x="12750" y="13643"/>
                </a:cubicBezTo>
              </a:path>
              <a:path w="9451" h="2159">
                <a:moveTo>
                  <a:pt x="13047" y="12998"/>
                </a:moveTo>
                <a:cubicBezTo>
                  <a:pt x="13101" y="13144"/>
                  <a:pt x="13170" y="13259"/>
                  <a:pt x="13246" y="13395"/>
                </a:cubicBezTo>
                <a:cubicBezTo>
                  <a:pt x="13309" y="13507"/>
                  <a:pt x="13396" y="13567"/>
                  <a:pt x="13469" y="13667"/>
                </a:cubicBezTo>
                <a:cubicBezTo>
                  <a:pt x="13519" y="13737"/>
                  <a:pt x="13512" y="13723"/>
                  <a:pt x="13593" y="13692"/>
                </a:cubicBezTo>
              </a:path>
              <a:path w="9451" h="2159">
                <a:moveTo>
                  <a:pt x="13519" y="12973"/>
                </a:moveTo>
                <a:cubicBezTo>
                  <a:pt x="13511" y="12956"/>
                  <a:pt x="13502" y="12940"/>
                  <a:pt x="13494" y="12923"/>
                </a:cubicBezTo>
                <a:cubicBezTo>
                  <a:pt x="13421" y="12965"/>
                  <a:pt x="13382" y="13018"/>
                  <a:pt x="13345" y="13097"/>
                </a:cubicBezTo>
                <a:cubicBezTo>
                  <a:pt x="13285" y="13227"/>
                  <a:pt x="13240" y="13358"/>
                  <a:pt x="13196" y="13494"/>
                </a:cubicBezTo>
                <a:cubicBezTo>
                  <a:pt x="13167" y="13583"/>
                  <a:pt x="13149" y="13682"/>
                  <a:pt x="13122" y="13767"/>
                </a:cubicBezTo>
                <a:cubicBezTo>
                  <a:pt x="13100" y="13810"/>
                  <a:pt x="13087" y="13822"/>
                  <a:pt x="13122" y="13841"/>
                </a:cubicBezTo>
              </a:path>
              <a:path w="9451" h="2159">
                <a:moveTo>
                  <a:pt x="13519" y="12303"/>
                </a:moveTo>
                <a:cubicBezTo>
                  <a:pt x="13597" y="12218"/>
                  <a:pt x="13610" y="12185"/>
                  <a:pt x="13717" y="12179"/>
                </a:cubicBezTo>
                <a:cubicBezTo>
                  <a:pt x="13757" y="12177"/>
                  <a:pt x="13841" y="12197"/>
                  <a:pt x="13866" y="12229"/>
                </a:cubicBezTo>
                <a:cubicBezTo>
                  <a:pt x="13932" y="12313"/>
                  <a:pt x="13875" y="12335"/>
                  <a:pt x="13816" y="12378"/>
                </a:cubicBezTo>
                <a:cubicBezTo>
                  <a:pt x="13765" y="12416"/>
                  <a:pt x="13727" y="12447"/>
                  <a:pt x="13667" y="12477"/>
                </a:cubicBezTo>
                <a:cubicBezTo>
                  <a:pt x="13716" y="12525"/>
                  <a:pt x="13763" y="12561"/>
                  <a:pt x="13816" y="12601"/>
                </a:cubicBezTo>
                <a:cubicBezTo>
                  <a:pt x="13874" y="12645"/>
                  <a:pt x="13906" y="12730"/>
                  <a:pt x="13891" y="12799"/>
                </a:cubicBezTo>
                <a:cubicBezTo>
                  <a:pt x="13883" y="12807"/>
                  <a:pt x="13874" y="12816"/>
                  <a:pt x="13866" y="12824"/>
                </a:cubicBezTo>
                <a:cubicBezTo>
                  <a:pt x="13792" y="12824"/>
                  <a:pt x="13738" y="12805"/>
                  <a:pt x="13667" y="12799"/>
                </a:cubicBezTo>
                <a:cubicBezTo>
                  <a:pt x="13659" y="12799"/>
                  <a:pt x="13651" y="12799"/>
                  <a:pt x="13643" y="12799"/>
                </a:cubicBezTo>
              </a:path>
              <a:path w="9451" h="2159">
                <a:moveTo>
                  <a:pt x="14337" y="12874"/>
                </a:moveTo>
                <a:cubicBezTo>
                  <a:pt x="14337" y="13099"/>
                  <a:pt x="14335" y="13327"/>
                  <a:pt x="14362" y="13543"/>
                </a:cubicBezTo>
                <a:cubicBezTo>
                  <a:pt x="14362" y="13609"/>
                  <a:pt x="14362" y="13626"/>
                  <a:pt x="14362" y="13667"/>
                </a:cubicBezTo>
              </a:path>
              <a:path w="9451" h="2159">
                <a:moveTo>
                  <a:pt x="14188" y="13146"/>
                </a:moveTo>
                <a:cubicBezTo>
                  <a:pt x="14337" y="13158"/>
                  <a:pt x="14484" y="13199"/>
                  <a:pt x="14635" y="13221"/>
                </a:cubicBezTo>
              </a:path>
              <a:path w="9451" h="2159">
                <a:moveTo>
                  <a:pt x="15205" y="12725"/>
                </a:moveTo>
                <a:cubicBezTo>
                  <a:pt x="15139" y="12618"/>
                  <a:pt x="15130" y="12582"/>
                  <a:pt x="15007" y="12576"/>
                </a:cubicBezTo>
                <a:cubicBezTo>
                  <a:pt x="14960" y="12574"/>
                  <a:pt x="14848" y="12556"/>
                  <a:pt x="14833" y="12626"/>
                </a:cubicBezTo>
                <a:cubicBezTo>
                  <a:pt x="14818" y="12697"/>
                  <a:pt x="14824" y="12812"/>
                  <a:pt x="14858" y="12874"/>
                </a:cubicBezTo>
                <a:cubicBezTo>
                  <a:pt x="14916" y="12980"/>
                  <a:pt x="14984" y="13084"/>
                  <a:pt x="15032" y="13196"/>
                </a:cubicBezTo>
                <a:cubicBezTo>
                  <a:pt x="15091" y="13335"/>
                  <a:pt x="15151" y="13467"/>
                  <a:pt x="15156" y="13618"/>
                </a:cubicBezTo>
                <a:cubicBezTo>
                  <a:pt x="15158" y="13684"/>
                  <a:pt x="15172" y="13765"/>
                  <a:pt x="15131" y="13816"/>
                </a:cubicBezTo>
                <a:cubicBezTo>
                  <a:pt x="15101" y="13853"/>
                  <a:pt x="14989" y="13860"/>
                  <a:pt x="14957" y="13816"/>
                </a:cubicBezTo>
                <a:cubicBezTo>
                  <a:pt x="14886" y="13719"/>
                  <a:pt x="14922" y="13656"/>
                  <a:pt x="14932" y="13543"/>
                </a:cubicBezTo>
                <a:cubicBezTo>
                  <a:pt x="14941" y="13439"/>
                  <a:pt x="14967" y="13344"/>
                  <a:pt x="15007" y="13246"/>
                </a:cubicBezTo>
                <a:cubicBezTo>
                  <a:pt x="15043" y="13158"/>
                  <a:pt x="15070" y="13082"/>
                  <a:pt x="15106" y="12998"/>
                </a:cubicBezTo>
                <a:cubicBezTo>
                  <a:pt x="15135" y="12930"/>
                  <a:pt x="15161" y="12858"/>
                  <a:pt x="15205" y="12799"/>
                </a:cubicBezTo>
                <a:cubicBezTo>
                  <a:pt x="15213" y="12791"/>
                  <a:pt x="15222" y="12782"/>
                  <a:pt x="15230" y="12774"/>
                </a:cubicBezTo>
              </a:path>
              <a:path w="9451" h="2159">
                <a:moveTo>
                  <a:pt x="15453" y="13221"/>
                </a:moveTo>
                <a:cubicBezTo>
                  <a:pt x="15504" y="13352"/>
                  <a:pt x="15554" y="13473"/>
                  <a:pt x="15627" y="13593"/>
                </a:cubicBezTo>
                <a:cubicBezTo>
                  <a:pt x="15684" y="13687"/>
                  <a:pt x="15748" y="13763"/>
                  <a:pt x="15825" y="13841"/>
                </a:cubicBezTo>
                <a:cubicBezTo>
                  <a:pt x="15842" y="13858"/>
                  <a:pt x="15858" y="13874"/>
                  <a:pt x="15875" y="13891"/>
                </a:cubicBezTo>
              </a:path>
              <a:path w="9451" h="2159">
                <a:moveTo>
                  <a:pt x="15801" y="13221"/>
                </a:moveTo>
                <a:cubicBezTo>
                  <a:pt x="15711" y="13349"/>
                  <a:pt x="15650" y="13425"/>
                  <a:pt x="15602" y="13568"/>
                </a:cubicBezTo>
                <a:cubicBezTo>
                  <a:pt x="15575" y="13647"/>
                  <a:pt x="15541" y="13737"/>
                  <a:pt x="15528" y="13816"/>
                </a:cubicBezTo>
                <a:cubicBezTo>
                  <a:pt x="15528" y="13934"/>
                  <a:pt x="15541" y="13884"/>
                  <a:pt x="15577" y="13618"/>
                </a:cubicBezTo>
              </a:path>
              <a:path w="9451" h="2159">
                <a:moveTo>
                  <a:pt x="15850" y="12353"/>
                </a:moveTo>
                <a:cubicBezTo>
                  <a:pt x="15928" y="12282"/>
                  <a:pt x="15955" y="12228"/>
                  <a:pt x="16049" y="12278"/>
                </a:cubicBezTo>
                <a:cubicBezTo>
                  <a:pt x="16110" y="12310"/>
                  <a:pt x="16152" y="12377"/>
                  <a:pt x="16123" y="12452"/>
                </a:cubicBezTo>
                <a:cubicBezTo>
                  <a:pt x="16104" y="12501"/>
                  <a:pt x="16034" y="12547"/>
                  <a:pt x="15999" y="12576"/>
                </a:cubicBezTo>
                <a:cubicBezTo>
                  <a:pt x="15956" y="12612"/>
                  <a:pt x="15870" y="12669"/>
                  <a:pt x="15925" y="12725"/>
                </a:cubicBezTo>
                <a:cubicBezTo>
                  <a:pt x="15970" y="12771"/>
                  <a:pt x="16157" y="12771"/>
                  <a:pt x="16222" y="12774"/>
                </a:cubicBezTo>
                <a:cubicBezTo>
                  <a:pt x="16290" y="12774"/>
                  <a:pt x="16309" y="12777"/>
                  <a:pt x="16346" y="12750"/>
                </a:cubicBezTo>
              </a:path>
              <a:path w="9451" h="2159">
                <a:moveTo>
                  <a:pt x="16520" y="13320"/>
                </a:moveTo>
                <a:cubicBezTo>
                  <a:pt x="16538" y="13442"/>
                  <a:pt x="16545" y="13546"/>
                  <a:pt x="16545" y="13667"/>
                </a:cubicBezTo>
                <a:cubicBezTo>
                  <a:pt x="16545" y="13752"/>
                  <a:pt x="16576" y="13811"/>
                  <a:pt x="16594" y="13891"/>
                </a:cubicBezTo>
                <a:cubicBezTo>
                  <a:pt x="16594" y="13899"/>
                  <a:pt x="16594" y="13907"/>
                  <a:pt x="16594" y="13915"/>
                </a:cubicBezTo>
              </a:path>
              <a:path w="9451" h="2159">
                <a:moveTo>
                  <a:pt x="16396" y="13469"/>
                </a:moveTo>
                <a:cubicBezTo>
                  <a:pt x="16453" y="13434"/>
                  <a:pt x="16503" y="13451"/>
                  <a:pt x="16570" y="13469"/>
                </a:cubicBezTo>
                <a:cubicBezTo>
                  <a:pt x="16643" y="13488"/>
                  <a:pt x="16693" y="13494"/>
                  <a:pt x="16768" y="13494"/>
                </a:cubicBezTo>
              </a:path>
              <a:path w="9451" h="2159">
                <a:moveTo>
                  <a:pt x="17041" y="12948"/>
                </a:moveTo>
                <a:cubicBezTo>
                  <a:pt x="17020" y="13004"/>
                  <a:pt x="17015" y="13074"/>
                  <a:pt x="16991" y="13122"/>
                </a:cubicBezTo>
                <a:cubicBezTo>
                  <a:pt x="16963" y="13177"/>
                  <a:pt x="16887" y="13238"/>
                  <a:pt x="16991" y="13271"/>
                </a:cubicBezTo>
                <a:cubicBezTo>
                  <a:pt x="17053" y="13291"/>
                  <a:pt x="17122" y="13295"/>
                  <a:pt x="17190" y="13295"/>
                </a:cubicBezTo>
                <a:cubicBezTo>
                  <a:pt x="17206" y="13295"/>
                  <a:pt x="17223" y="13295"/>
                  <a:pt x="17239" y="13295"/>
                </a:cubicBezTo>
              </a:path>
              <a:path w="9451" h="2159">
                <a:moveTo>
                  <a:pt x="17363" y="12477"/>
                </a:moveTo>
                <a:cubicBezTo>
                  <a:pt x="17321" y="12588"/>
                  <a:pt x="17317" y="12704"/>
                  <a:pt x="17289" y="12824"/>
                </a:cubicBezTo>
                <a:cubicBezTo>
                  <a:pt x="17260" y="12949"/>
                  <a:pt x="17264" y="13067"/>
                  <a:pt x="17264" y="13196"/>
                </a:cubicBezTo>
                <a:cubicBezTo>
                  <a:pt x="17264" y="13338"/>
                  <a:pt x="17250" y="13451"/>
                  <a:pt x="17264" y="13593"/>
                </a:cubicBezTo>
                <a:cubicBezTo>
                  <a:pt x="17272" y="13673"/>
                  <a:pt x="17246" y="13773"/>
                  <a:pt x="17289" y="13816"/>
                </a:cubicBezTo>
              </a:path>
              <a:path w="9451" h="2159">
                <a:moveTo>
                  <a:pt x="17462" y="13246"/>
                </a:moveTo>
                <a:cubicBezTo>
                  <a:pt x="17515" y="13329"/>
                  <a:pt x="17555" y="13401"/>
                  <a:pt x="17587" y="13494"/>
                </a:cubicBezTo>
                <a:cubicBezTo>
                  <a:pt x="17631" y="13624"/>
                  <a:pt x="17727" y="13758"/>
                  <a:pt x="17810" y="13866"/>
                </a:cubicBezTo>
                <a:cubicBezTo>
                  <a:pt x="17859" y="13915"/>
                  <a:pt x="17876" y="13932"/>
                  <a:pt x="17909" y="13965"/>
                </a:cubicBezTo>
              </a:path>
              <a:path w="9451" h="2159">
                <a:moveTo>
                  <a:pt x="17810" y="13171"/>
                </a:moveTo>
                <a:cubicBezTo>
                  <a:pt x="17725" y="13274"/>
                  <a:pt x="17660" y="13366"/>
                  <a:pt x="17587" y="13469"/>
                </a:cubicBezTo>
                <a:cubicBezTo>
                  <a:pt x="17531" y="13548"/>
                  <a:pt x="17484" y="13634"/>
                  <a:pt x="17438" y="13717"/>
                </a:cubicBezTo>
                <a:cubicBezTo>
                  <a:pt x="17412" y="13765"/>
                  <a:pt x="17400" y="13819"/>
                  <a:pt x="17388" y="13866"/>
                </a:cubicBezTo>
              </a:path>
              <a:path w="9451" h="2159">
                <a:moveTo>
                  <a:pt x="17983" y="13419"/>
                </a:moveTo>
                <a:cubicBezTo>
                  <a:pt x="18141" y="13424"/>
                  <a:pt x="18199" y="13432"/>
                  <a:pt x="18331" y="13444"/>
                </a:cubicBezTo>
              </a:path>
              <a:path w="9451" h="2159">
                <a:moveTo>
                  <a:pt x="18728" y="12849"/>
                </a:moveTo>
                <a:cubicBezTo>
                  <a:pt x="18662" y="12932"/>
                  <a:pt x="18565" y="12995"/>
                  <a:pt x="18604" y="13097"/>
                </a:cubicBezTo>
                <a:cubicBezTo>
                  <a:pt x="18637" y="13183"/>
                  <a:pt x="18771" y="13194"/>
                  <a:pt x="18852" y="13221"/>
                </a:cubicBezTo>
                <a:cubicBezTo>
                  <a:pt x="18955" y="13255"/>
                  <a:pt x="18982" y="13243"/>
                  <a:pt x="19075" y="13196"/>
                </a:cubicBezTo>
              </a:path>
              <a:path w="9451" h="2159">
                <a:moveTo>
                  <a:pt x="19224" y="12278"/>
                </a:moveTo>
                <a:cubicBezTo>
                  <a:pt x="19154" y="12432"/>
                  <a:pt x="19112" y="12557"/>
                  <a:pt x="19100" y="12725"/>
                </a:cubicBezTo>
                <a:cubicBezTo>
                  <a:pt x="19089" y="12880"/>
                  <a:pt x="19057" y="13040"/>
                  <a:pt x="19075" y="13196"/>
                </a:cubicBezTo>
                <a:cubicBezTo>
                  <a:pt x="19093" y="13359"/>
                  <a:pt x="19100" y="13530"/>
                  <a:pt x="19124" y="13692"/>
                </a:cubicBezTo>
                <a:cubicBezTo>
                  <a:pt x="19141" y="13807"/>
                  <a:pt x="19168" y="13922"/>
                  <a:pt x="19174" y="14039"/>
                </a:cubicBezTo>
                <a:cubicBezTo>
                  <a:pt x="19177" y="14104"/>
                  <a:pt x="19152" y="14195"/>
                  <a:pt x="19248" y="14139"/>
                </a:cubicBezTo>
                <a:cubicBezTo>
                  <a:pt x="19256" y="14131"/>
                  <a:pt x="19265" y="14122"/>
                  <a:pt x="19273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22"/>
          <p:cNvSpPr/>
          <p:nvPr/>
        </p:nvSpPr>
        <p:spPr>
          <a:xfrm>
            <a:off x="3510000" y="3295800"/>
            <a:ext cx="4437000" cy="187200"/>
          </a:xfrm>
          <a:custGeom>
            <a:avLst/>
            <a:gdLst/>
            <a:ahLst/>
            <a:rect l="l" t="t" r="r" b="b"/>
            <a:pathLst>
              <a:path w="12329" h="522">
                <a:moveTo>
                  <a:pt x="9748" y="9153"/>
                </a:moveTo>
                <a:cubicBezTo>
                  <a:pt x="9814" y="9163"/>
                  <a:pt x="9876" y="9165"/>
                  <a:pt x="9947" y="9178"/>
                </a:cubicBezTo>
                <a:cubicBezTo>
                  <a:pt x="9996" y="9187"/>
                  <a:pt x="10059" y="9196"/>
                  <a:pt x="10120" y="9203"/>
                </a:cubicBezTo>
                <a:cubicBezTo>
                  <a:pt x="10233" y="9216"/>
                  <a:pt x="10348" y="9226"/>
                  <a:pt x="10468" y="9227"/>
                </a:cubicBezTo>
                <a:cubicBezTo>
                  <a:pt x="11222" y="9235"/>
                  <a:pt x="11976" y="9208"/>
                  <a:pt x="12725" y="9227"/>
                </a:cubicBezTo>
                <a:cubicBezTo>
                  <a:pt x="13173" y="9238"/>
                  <a:pt x="13618" y="9231"/>
                  <a:pt x="14064" y="9252"/>
                </a:cubicBezTo>
                <a:cubicBezTo>
                  <a:pt x="14296" y="9263"/>
                  <a:pt x="14526" y="9269"/>
                  <a:pt x="14759" y="9277"/>
                </a:cubicBezTo>
                <a:cubicBezTo>
                  <a:pt x="15117" y="9290"/>
                  <a:pt x="15492" y="9300"/>
                  <a:pt x="15850" y="9327"/>
                </a:cubicBezTo>
                <a:cubicBezTo>
                  <a:pt x="16172" y="9351"/>
                  <a:pt x="16496" y="9385"/>
                  <a:pt x="16818" y="9401"/>
                </a:cubicBezTo>
                <a:cubicBezTo>
                  <a:pt x="17083" y="9414"/>
                  <a:pt x="17346" y="9423"/>
                  <a:pt x="17611" y="9451"/>
                </a:cubicBezTo>
                <a:cubicBezTo>
                  <a:pt x="17875" y="9479"/>
                  <a:pt x="18141" y="9479"/>
                  <a:pt x="18405" y="9500"/>
                </a:cubicBezTo>
                <a:cubicBezTo>
                  <a:pt x="18670" y="9521"/>
                  <a:pt x="18933" y="9546"/>
                  <a:pt x="19199" y="9550"/>
                </a:cubicBezTo>
                <a:cubicBezTo>
                  <a:pt x="19456" y="9554"/>
                  <a:pt x="19710" y="9572"/>
                  <a:pt x="19968" y="9575"/>
                </a:cubicBezTo>
                <a:cubicBezTo>
                  <a:pt x="20267" y="9578"/>
                  <a:pt x="20563" y="9592"/>
                  <a:pt x="20861" y="9599"/>
                </a:cubicBezTo>
                <a:cubicBezTo>
                  <a:pt x="21067" y="9604"/>
                  <a:pt x="21278" y="9596"/>
                  <a:pt x="21481" y="9624"/>
                </a:cubicBezTo>
                <a:cubicBezTo>
                  <a:pt x="21626" y="9644"/>
                  <a:pt x="21753" y="9692"/>
                  <a:pt x="21903" y="9674"/>
                </a:cubicBezTo>
                <a:cubicBezTo>
                  <a:pt x="21985" y="9664"/>
                  <a:pt x="22013" y="9637"/>
                  <a:pt x="22076" y="9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Page 170</a:t>
            </a:r>
            <a:br>
              <a:rPr sz="7500"/>
            </a:b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#19-27</a:t>
            </a:r>
            <a:endParaRPr b="0" lang="en-US" sz="75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(pg 170 #7-15)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Ink 5"/>
          <p:cNvSpPr/>
          <p:nvPr/>
        </p:nvSpPr>
        <p:spPr>
          <a:xfrm>
            <a:off x="830160" y="2490840"/>
            <a:ext cx="3170520" cy="652320"/>
          </a:xfrm>
          <a:custGeom>
            <a:avLst/>
            <a:gdLst/>
            <a:ahLst/>
            <a:rect l="l" t="t" r="r" b="b"/>
            <a:pathLst>
              <a:path w="8806" h="1811">
                <a:moveTo>
                  <a:pt x="3076" y="7441"/>
                </a:moveTo>
                <a:cubicBezTo>
                  <a:pt x="3118" y="7359"/>
                  <a:pt x="3092" y="7303"/>
                  <a:pt x="3051" y="7218"/>
                </a:cubicBezTo>
                <a:cubicBezTo>
                  <a:pt x="3019" y="7151"/>
                  <a:pt x="2942" y="7105"/>
                  <a:pt x="2877" y="7069"/>
                </a:cubicBezTo>
                <a:cubicBezTo>
                  <a:pt x="2807" y="7031"/>
                  <a:pt x="2742" y="7045"/>
                  <a:pt x="2679" y="7094"/>
                </a:cubicBezTo>
                <a:cubicBezTo>
                  <a:pt x="2602" y="7154"/>
                  <a:pt x="2542" y="7270"/>
                  <a:pt x="2530" y="7367"/>
                </a:cubicBezTo>
                <a:cubicBezTo>
                  <a:pt x="2512" y="7509"/>
                  <a:pt x="2545" y="7651"/>
                  <a:pt x="2555" y="7789"/>
                </a:cubicBezTo>
                <a:cubicBezTo>
                  <a:pt x="2569" y="7989"/>
                  <a:pt x="2640" y="8162"/>
                  <a:pt x="2679" y="8359"/>
                </a:cubicBezTo>
                <a:cubicBezTo>
                  <a:pt x="2691" y="8421"/>
                  <a:pt x="2738" y="8503"/>
                  <a:pt x="2679" y="8483"/>
                </a:cubicBezTo>
              </a:path>
              <a:path w="8806" h="1811">
                <a:moveTo>
                  <a:pt x="2307" y="8086"/>
                </a:moveTo>
                <a:cubicBezTo>
                  <a:pt x="2402" y="8122"/>
                  <a:pt x="2499" y="8133"/>
                  <a:pt x="2604" y="8136"/>
                </a:cubicBezTo>
                <a:cubicBezTo>
                  <a:pt x="2713" y="8139"/>
                  <a:pt x="2818" y="8117"/>
                  <a:pt x="2927" y="8111"/>
                </a:cubicBezTo>
              </a:path>
              <a:path w="8806" h="1811">
                <a:moveTo>
                  <a:pt x="3497" y="7367"/>
                </a:moveTo>
                <a:cubicBezTo>
                  <a:pt x="3415" y="7522"/>
                  <a:pt x="3310" y="7673"/>
                  <a:pt x="3249" y="7838"/>
                </a:cubicBezTo>
                <a:cubicBezTo>
                  <a:pt x="3207" y="7951"/>
                  <a:pt x="3225" y="8032"/>
                  <a:pt x="3274" y="8136"/>
                </a:cubicBezTo>
                <a:cubicBezTo>
                  <a:pt x="3318" y="8228"/>
                  <a:pt x="3373" y="8256"/>
                  <a:pt x="3473" y="8260"/>
                </a:cubicBezTo>
                <a:cubicBezTo>
                  <a:pt x="3498" y="8260"/>
                  <a:pt x="3522" y="8260"/>
                  <a:pt x="3547" y="8260"/>
                </a:cubicBezTo>
              </a:path>
              <a:path w="8806" h="1811">
                <a:moveTo>
                  <a:pt x="3770" y="7888"/>
                </a:moveTo>
                <a:cubicBezTo>
                  <a:pt x="3825" y="8050"/>
                  <a:pt x="3900" y="8162"/>
                  <a:pt x="4068" y="8235"/>
                </a:cubicBezTo>
                <a:cubicBezTo>
                  <a:pt x="4169" y="8279"/>
                  <a:pt x="4291" y="8305"/>
                  <a:pt x="4390" y="8285"/>
                </a:cubicBezTo>
              </a:path>
              <a:path w="8806" h="1811">
                <a:moveTo>
                  <a:pt x="4192" y="7838"/>
                </a:moveTo>
                <a:cubicBezTo>
                  <a:pt x="4081" y="7931"/>
                  <a:pt x="3939" y="8028"/>
                  <a:pt x="3870" y="8161"/>
                </a:cubicBezTo>
                <a:cubicBezTo>
                  <a:pt x="3859" y="8183"/>
                  <a:pt x="3767" y="8345"/>
                  <a:pt x="3820" y="8359"/>
                </a:cubicBezTo>
                <a:cubicBezTo>
                  <a:pt x="3828" y="8351"/>
                  <a:pt x="3837" y="8342"/>
                  <a:pt x="3845" y="8334"/>
                </a:cubicBezTo>
              </a:path>
              <a:path w="8806" h="1811">
                <a:moveTo>
                  <a:pt x="4316" y="7367"/>
                </a:moveTo>
                <a:cubicBezTo>
                  <a:pt x="4437" y="7471"/>
                  <a:pt x="4543" y="7578"/>
                  <a:pt x="4589" y="7739"/>
                </a:cubicBezTo>
                <a:cubicBezTo>
                  <a:pt x="4635" y="7899"/>
                  <a:pt x="4655" y="8074"/>
                  <a:pt x="4614" y="8235"/>
                </a:cubicBezTo>
                <a:cubicBezTo>
                  <a:pt x="4595" y="8309"/>
                  <a:pt x="4574" y="8434"/>
                  <a:pt x="4490" y="8458"/>
                </a:cubicBezTo>
                <a:cubicBezTo>
                  <a:pt x="4473" y="8458"/>
                  <a:pt x="4457" y="8458"/>
                  <a:pt x="4440" y="8458"/>
                </a:cubicBezTo>
              </a:path>
              <a:path w="8806" h="1811">
                <a:moveTo>
                  <a:pt x="5135" y="7913"/>
                </a:moveTo>
                <a:cubicBezTo>
                  <a:pt x="5226" y="7929"/>
                  <a:pt x="5316" y="7946"/>
                  <a:pt x="5407" y="7962"/>
                </a:cubicBezTo>
              </a:path>
              <a:path w="8806" h="1811">
                <a:moveTo>
                  <a:pt x="5110" y="8086"/>
                </a:moveTo>
                <a:cubicBezTo>
                  <a:pt x="5236" y="8114"/>
                  <a:pt x="5354" y="8151"/>
                  <a:pt x="5482" y="8161"/>
                </a:cubicBezTo>
              </a:path>
              <a:path w="8806" h="1811">
                <a:moveTo>
                  <a:pt x="6276" y="7739"/>
                </a:moveTo>
                <a:cubicBezTo>
                  <a:pt x="6285" y="7883"/>
                  <a:pt x="6305" y="7995"/>
                  <a:pt x="6400" y="8111"/>
                </a:cubicBezTo>
                <a:cubicBezTo>
                  <a:pt x="6458" y="8182"/>
                  <a:pt x="6556" y="8285"/>
                  <a:pt x="6648" y="8310"/>
                </a:cubicBezTo>
                <a:cubicBezTo>
                  <a:pt x="6699" y="8310"/>
                  <a:pt x="6718" y="8309"/>
                  <a:pt x="6747" y="8285"/>
                </a:cubicBezTo>
              </a:path>
              <a:path w="8806" h="1811">
                <a:moveTo>
                  <a:pt x="6573" y="7739"/>
                </a:moveTo>
                <a:cubicBezTo>
                  <a:pt x="6467" y="7893"/>
                  <a:pt x="6382" y="8058"/>
                  <a:pt x="6276" y="8210"/>
                </a:cubicBezTo>
                <a:cubicBezTo>
                  <a:pt x="6233" y="8272"/>
                  <a:pt x="6192" y="8351"/>
                  <a:pt x="6176" y="8334"/>
                </a:cubicBezTo>
              </a:path>
              <a:path w="8806" h="1811">
                <a:moveTo>
                  <a:pt x="6747" y="7218"/>
                </a:moveTo>
                <a:cubicBezTo>
                  <a:pt x="6846" y="7202"/>
                  <a:pt x="7071" y="7115"/>
                  <a:pt x="7144" y="7268"/>
                </a:cubicBezTo>
                <a:cubicBezTo>
                  <a:pt x="7182" y="7347"/>
                  <a:pt x="7115" y="7435"/>
                  <a:pt x="7069" y="7491"/>
                </a:cubicBezTo>
                <a:cubicBezTo>
                  <a:pt x="7028" y="7541"/>
                  <a:pt x="6999" y="7560"/>
                  <a:pt x="6945" y="7590"/>
                </a:cubicBezTo>
                <a:cubicBezTo>
                  <a:pt x="6973" y="7701"/>
                  <a:pt x="7008" y="7689"/>
                  <a:pt x="7119" y="7689"/>
                </a:cubicBezTo>
                <a:cubicBezTo>
                  <a:pt x="7244" y="7689"/>
                  <a:pt x="7302" y="7686"/>
                  <a:pt x="7392" y="7665"/>
                </a:cubicBezTo>
              </a:path>
              <a:path w="8806" h="1811">
                <a:moveTo>
                  <a:pt x="7665" y="7665"/>
                </a:moveTo>
                <a:cubicBezTo>
                  <a:pt x="7665" y="7830"/>
                  <a:pt x="7665" y="7996"/>
                  <a:pt x="7665" y="8161"/>
                </a:cubicBezTo>
              </a:path>
              <a:path w="8806" h="1811">
                <a:moveTo>
                  <a:pt x="6375" y="7144"/>
                </a:moveTo>
                <a:cubicBezTo>
                  <a:pt x="6238" y="7281"/>
                  <a:pt x="6094" y="7416"/>
                  <a:pt x="6003" y="7590"/>
                </a:cubicBezTo>
                <a:cubicBezTo>
                  <a:pt x="5927" y="7735"/>
                  <a:pt x="5847" y="7870"/>
                  <a:pt x="5829" y="8037"/>
                </a:cubicBezTo>
                <a:cubicBezTo>
                  <a:pt x="5814" y="8172"/>
                  <a:pt x="5842" y="8254"/>
                  <a:pt x="5928" y="8359"/>
                </a:cubicBezTo>
                <a:cubicBezTo>
                  <a:pt x="5982" y="8413"/>
                  <a:pt x="6004" y="8433"/>
                  <a:pt x="6052" y="8458"/>
                </a:cubicBezTo>
              </a:path>
              <a:path w="8806" h="1811">
                <a:moveTo>
                  <a:pt x="7069" y="7888"/>
                </a:moveTo>
                <a:cubicBezTo>
                  <a:pt x="7215" y="7881"/>
                  <a:pt x="7378" y="7889"/>
                  <a:pt x="7516" y="7838"/>
                </a:cubicBezTo>
                <a:cubicBezTo>
                  <a:pt x="7559" y="7816"/>
                  <a:pt x="7570" y="7812"/>
                  <a:pt x="7590" y="7789"/>
                </a:cubicBezTo>
                <a:cubicBezTo>
                  <a:pt x="7467" y="7764"/>
                  <a:pt x="7340" y="7763"/>
                  <a:pt x="7218" y="7739"/>
                </a:cubicBezTo>
                <a:cubicBezTo>
                  <a:pt x="7162" y="7728"/>
                  <a:pt x="7112" y="7715"/>
                  <a:pt x="7069" y="7689"/>
                </a:cubicBezTo>
                <a:cubicBezTo>
                  <a:pt x="7082" y="7597"/>
                  <a:pt x="7128" y="7575"/>
                  <a:pt x="7218" y="7541"/>
                </a:cubicBezTo>
                <a:cubicBezTo>
                  <a:pt x="7282" y="7517"/>
                  <a:pt x="7337" y="7503"/>
                  <a:pt x="7392" y="7466"/>
                </a:cubicBezTo>
                <a:cubicBezTo>
                  <a:pt x="7273" y="7474"/>
                  <a:pt x="7162" y="7501"/>
                  <a:pt x="7045" y="7516"/>
                </a:cubicBezTo>
                <a:cubicBezTo>
                  <a:pt x="7000" y="7516"/>
                  <a:pt x="6987" y="7519"/>
                  <a:pt x="6970" y="7491"/>
                </a:cubicBezTo>
                <a:cubicBezTo>
                  <a:pt x="7043" y="7442"/>
                  <a:pt x="7132" y="7421"/>
                  <a:pt x="7218" y="7392"/>
                </a:cubicBezTo>
                <a:cubicBezTo>
                  <a:pt x="7283" y="7370"/>
                  <a:pt x="7337" y="7354"/>
                  <a:pt x="7392" y="7317"/>
                </a:cubicBezTo>
                <a:cubicBezTo>
                  <a:pt x="7308" y="7255"/>
                  <a:pt x="7207" y="7250"/>
                  <a:pt x="7094" y="7268"/>
                </a:cubicBezTo>
                <a:cubicBezTo>
                  <a:pt x="7002" y="7283"/>
                  <a:pt x="6962" y="7295"/>
                  <a:pt x="6871" y="7268"/>
                </a:cubicBezTo>
                <a:cubicBezTo>
                  <a:pt x="6989" y="7204"/>
                  <a:pt x="7083" y="7173"/>
                  <a:pt x="7218" y="7169"/>
                </a:cubicBezTo>
                <a:cubicBezTo>
                  <a:pt x="7284" y="7167"/>
                  <a:pt x="7407" y="7139"/>
                  <a:pt x="7367" y="7218"/>
                </a:cubicBezTo>
              </a:path>
              <a:path w="8806" h="1811">
                <a:moveTo>
                  <a:pt x="7392" y="8037"/>
                </a:moveTo>
                <a:cubicBezTo>
                  <a:pt x="7582" y="8037"/>
                  <a:pt x="7772" y="8037"/>
                  <a:pt x="7962" y="8037"/>
                </a:cubicBezTo>
              </a:path>
              <a:path w="8806" h="1811">
                <a:moveTo>
                  <a:pt x="7938" y="7565"/>
                </a:moveTo>
                <a:cubicBezTo>
                  <a:pt x="8093" y="7527"/>
                  <a:pt x="8187" y="7489"/>
                  <a:pt x="8334" y="7565"/>
                </a:cubicBezTo>
                <a:cubicBezTo>
                  <a:pt x="8401" y="7600"/>
                  <a:pt x="8492" y="7680"/>
                  <a:pt x="8483" y="7764"/>
                </a:cubicBezTo>
                <a:cubicBezTo>
                  <a:pt x="8474" y="7846"/>
                  <a:pt x="8362" y="7957"/>
                  <a:pt x="8310" y="8012"/>
                </a:cubicBezTo>
                <a:cubicBezTo>
                  <a:pt x="8242" y="8083"/>
                  <a:pt x="8177" y="8139"/>
                  <a:pt x="8111" y="8210"/>
                </a:cubicBezTo>
                <a:cubicBezTo>
                  <a:pt x="8103" y="8218"/>
                  <a:pt x="8094" y="8227"/>
                  <a:pt x="8086" y="8235"/>
                </a:cubicBezTo>
                <a:cubicBezTo>
                  <a:pt x="8123" y="8300"/>
                  <a:pt x="8151" y="8348"/>
                  <a:pt x="8235" y="8359"/>
                </a:cubicBezTo>
                <a:cubicBezTo>
                  <a:pt x="8336" y="8373"/>
                  <a:pt x="8518" y="8364"/>
                  <a:pt x="8607" y="8310"/>
                </a:cubicBezTo>
                <a:cubicBezTo>
                  <a:pt x="8632" y="8285"/>
                  <a:pt x="8657" y="8260"/>
                  <a:pt x="8682" y="8235"/>
                </a:cubicBezTo>
              </a:path>
              <a:path w="8806" h="1811">
                <a:moveTo>
                  <a:pt x="8756" y="7268"/>
                </a:moveTo>
                <a:cubicBezTo>
                  <a:pt x="8900" y="7386"/>
                  <a:pt x="8978" y="7556"/>
                  <a:pt x="9029" y="7739"/>
                </a:cubicBezTo>
                <a:cubicBezTo>
                  <a:pt x="9077" y="7911"/>
                  <a:pt x="9071" y="8019"/>
                  <a:pt x="9029" y="8186"/>
                </a:cubicBezTo>
                <a:cubicBezTo>
                  <a:pt x="8986" y="8358"/>
                  <a:pt x="8907" y="8468"/>
                  <a:pt x="8781" y="8582"/>
                </a:cubicBezTo>
                <a:cubicBezTo>
                  <a:pt x="8731" y="8627"/>
                  <a:pt x="8680" y="8659"/>
                  <a:pt x="8632" y="8706"/>
                </a:cubicBezTo>
                <a:cubicBezTo>
                  <a:pt x="8624" y="8714"/>
                  <a:pt x="8615" y="8723"/>
                  <a:pt x="8607" y="8731"/>
                </a:cubicBezTo>
              </a:path>
              <a:path w="8806" h="1811">
                <a:moveTo>
                  <a:pt x="9079" y="6995"/>
                </a:moveTo>
                <a:cubicBezTo>
                  <a:pt x="9137" y="6951"/>
                  <a:pt x="9218" y="6904"/>
                  <a:pt x="9302" y="6921"/>
                </a:cubicBezTo>
                <a:cubicBezTo>
                  <a:pt x="9338" y="6928"/>
                  <a:pt x="9462" y="6983"/>
                  <a:pt x="9475" y="7020"/>
                </a:cubicBezTo>
                <a:cubicBezTo>
                  <a:pt x="9494" y="7073"/>
                  <a:pt x="9467" y="7180"/>
                  <a:pt x="9426" y="7218"/>
                </a:cubicBezTo>
                <a:cubicBezTo>
                  <a:pt x="9370" y="7270"/>
                  <a:pt x="9317" y="7297"/>
                  <a:pt x="9252" y="7342"/>
                </a:cubicBezTo>
                <a:cubicBezTo>
                  <a:pt x="9175" y="7395"/>
                  <a:pt x="9247" y="7438"/>
                  <a:pt x="9302" y="7441"/>
                </a:cubicBezTo>
                <a:cubicBezTo>
                  <a:pt x="9424" y="7448"/>
                  <a:pt x="9534" y="7441"/>
                  <a:pt x="9649" y="7466"/>
                </a:cubicBezTo>
                <a:cubicBezTo>
                  <a:pt x="9657" y="7466"/>
                  <a:pt x="9666" y="7466"/>
                  <a:pt x="9674" y="7466"/>
                </a:cubicBezTo>
              </a:path>
              <a:path w="8806" h="1811">
                <a:moveTo>
                  <a:pt x="9748" y="8062"/>
                </a:moveTo>
                <a:cubicBezTo>
                  <a:pt x="9847" y="8062"/>
                  <a:pt x="9947" y="8062"/>
                  <a:pt x="10046" y="8062"/>
                </a:cubicBezTo>
              </a:path>
              <a:path w="8806" h="1811">
                <a:moveTo>
                  <a:pt x="10269" y="7714"/>
                </a:moveTo>
                <a:cubicBezTo>
                  <a:pt x="10341" y="7633"/>
                  <a:pt x="10361" y="7602"/>
                  <a:pt x="10468" y="7565"/>
                </a:cubicBezTo>
                <a:cubicBezTo>
                  <a:pt x="10574" y="7529"/>
                  <a:pt x="10653" y="7516"/>
                  <a:pt x="10765" y="7516"/>
                </a:cubicBezTo>
                <a:cubicBezTo>
                  <a:pt x="10857" y="7516"/>
                  <a:pt x="10929" y="7562"/>
                  <a:pt x="10914" y="7665"/>
                </a:cubicBezTo>
                <a:cubicBezTo>
                  <a:pt x="10902" y="7749"/>
                  <a:pt x="10794" y="7792"/>
                  <a:pt x="10740" y="7838"/>
                </a:cubicBezTo>
                <a:cubicBezTo>
                  <a:pt x="10690" y="7880"/>
                  <a:pt x="10639" y="7920"/>
                  <a:pt x="10592" y="7962"/>
                </a:cubicBezTo>
                <a:cubicBezTo>
                  <a:pt x="10584" y="7970"/>
                  <a:pt x="10575" y="7979"/>
                  <a:pt x="10567" y="7987"/>
                </a:cubicBezTo>
                <a:cubicBezTo>
                  <a:pt x="10672" y="7987"/>
                  <a:pt x="10768" y="7987"/>
                  <a:pt x="10864" y="8037"/>
                </a:cubicBezTo>
                <a:cubicBezTo>
                  <a:pt x="10954" y="8083"/>
                  <a:pt x="11106" y="8171"/>
                  <a:pt x="11112" y="8285"/>
                </a:cubicBezTo>
                <a:cubicBezTo>
                  <a:pt x="11117" y="8383"/>
                  <a:pt x="11053" y="8464"/>
                  <a:pt x="10964" y="8508"/>
                </a:cubicBezTo>
                <a:cubicBezTo>
                  <a:pt x="10858" y="8561"/>
                  <a:pt x="10684" y="8619"/>
                  <a:pt x="10567" y="8607"/>
                </a:cubicBezTo>
                <a:cubicBezTo>
                  <a:pt x="10526" y="8599"/>
                  <a:pt x="10484" y="8590"/>
                  <a:pt x="10443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6"/>
          <p:cNvSpPr/>
          <p:nvPr/>
        </p:nvSpPr>
        <p:spPr>
          <a:xfrm>
            <a:off x="4537080" y="2652840"/>
            <a:ext cx="2320920" cy="463320"/>
          </a:xfrm>
          <a:custGeom>
            <a:avLst/>
            <a:gdLst/>
            <a:ahLst/>
            <a:rect l="l" t="t" r="r" b="b"/>
            <a:pathLst>
              <a:path w="6450" h="1291">
                <a:moveTo>
                  <a:pt x="14362" y="7838"/>
                </a:moveTo>
                <a:cubicBezTo>
                  <a:pt x="14471" y="7994"/>
                  <a:pt x="14574" y="8125"/>
                  <a:pt x="14709" y="8260"/>
                </a:cubicBezTo>
                <a:cubicBezTo>
                  <a:pt x="14830" y="8381"/>
                  <a:pt x="14954" y="8523"/>
                  <a:pt x="15106" y="8607"/>
                </a:cubicBezTo>
                <a:cubicBezTo>
                  <a:pt x="15181" y="8648"/>
                  <a:pt x="15210" y="8649"/>
                  <a:pt x="15280" y="8632"/>
                </a:cubicBezTo>
              </a:path>
              <a:path w="6450" h="1291">
                <a:moveTo>
                  <a:pt x="14734" y="7938"/>
                </a:moveTo>
                <a:cubicBezTo>
                  <a:pt x="14618" y="8136"/>
                  <a:pt x="14490" y="8328"/>
                  <a:pt x="14387" y="8533"/>
                </a:cubicBezTo>
                <a:cubicBezTo>
                  <a:pt x="14365" y="8576"/>
                  <a:pt x="14361" y="8588"/>
                  <a:pt x="14337" y="8607"/>
                </a:cubicBezTo>
              </a:path>
              <a:path w="6450" h="1291">
                <a:moveTo>
                  <a:pt x="12898" y="7714"/>
                </a:moveTo>
                <a:cubicBezTo>
                  <a:pt x="12847" y="7779"/>
                  <a:pt x="12798" y="7844"/>
                  <a:pt x="12750" y="7913"/>
                </a:cubicBezTo>
                <a:cubicBezTo>
                  <a:pt x="12680" y="8014"/>
                  <a:pt x="12616" y="8136"/>
                  <a:pt x="12601" y="8260"/>
                </a:cubicBezTo>
                <a:cubicBezTo>
                  <a:pt x="12586" y="8386"/>
                  <a:pt x="12600" y="8455"/>
                  <a:pt x="12700" y="8533"/>
                </a:cubicBezTo>
                <a:cubicBezTo>
                  <a:pt x="12780" y="8596"/>
                  <a:pt x="12898" y="8597"/>
                  <a:pt x="12998" y="8582"/>
                </a:cubicBezTo>
                <a:cubicBezTo>
                  <a:pt x="13133" y="8562"/>
                  <a:pt x="13249" y="8472"/>
                  <a:pt x="13320" y="8359"/>
                </a:cubicBezTo>
                <a:cubicBezTo>
                  <a:pt x="13398" y="8235"/>
                  <a:pt x="13409" y="8123"/>
                  <a:pt x="13370" y="7987"/>
                </a:cubicBezTo>
                <a:cubicBezTo>
                  <a:pt x="13330" y="7847"/>
                  <a:pt x="13226" y="7801"/>
                  <a:pt x="13097" y="7764"/>
                </a:cubicBezTo>
                <a:cubicBezTo>
                  <a:pt x="13039" y="7747"/>
                  <a:pt x="12813" y="7739"/>
                  <a:pt x="12849" y="7739"/>
                </a:cubicBezTo>
              </a:path>
              <a:path w="6450" h="1291">
                <a:moveTo>
                  <a:pt x="13395" y="8037"/>
                </a:moveTo>
                <a:cubicBezTo>
                  <a:pt x="13495" y="8017"/>
                  <a:pt x="13613" y="7993"/>
                  <a:pt x="13717" y="8012"/>
                </a:cubicBezTo>
                <a:cubicBezTo>
                  <a:pt x="13791" y="8037"/>
                  <a:pt x="13816" y="8045"/>
                  <a:pt x="13866" y="8012"/>
                </a:cubicBezTo>
              </a:path>
              <a:path w="6450" h="1291">
                <a:moveTo>
                  <a:pt x="13494" y="8161"/>
                </a:moveTo>
                <a:cubicBezTo>
                  <a:pt x="13587" y="8187"/>
                  <a:pt x="13693" y="8202"/>
                  <a:pt x="13791" y="8186"/>
                </a:cubicBezTo>
                <a:cubicBezTo>
                  <a:pt x="13816" y="8178"/>
                  <a:pt x="13841" y="8169"/>
                  <a:pt x="13866" y="8161"/>
                </a:cubicBezTo>
              </a:path>
              <a:path w="6450" h="1291">
                <a:moveTo>
                  <a:pt x="14908" y="7417"/>
                </a:moveTo>
                <a:cubicBezTo>
                  <a:pt x="14973" y="7368"/>
                  <a:pt x="15040" y="7343"/>
                  <a:pt x="15131" y="7367"/>
                </a:cubicBezTo>
                <a:cubicBezTo>
                  <a:pt x="15216" y="7390"/>
                  <a:pt x="15210" y="7433"/>
                  <a:pt x="15180" y="7491"/>
                </a:cubicBezTo>
                <a:cubicBezTo>
                  <a:pt x="15142" y="7564"/>
                  <a:pt x="15071" y="7590"/>
                  <a:pt x="15007" y="7640"/>
                </a:cubicBezTo>
                <a:cubicBezTo>
                  <a:pt x="14980" y="7661"/>
                  <a:pt x="14956" y="7690"/>
                  <a:pt x="14932" y="7714"/>
                </a:cubicBezTo>
                <a:cubicBezTo>
                  <a:pt x="15001" y="7748"/>
                  <a:pt x="15104" y="7795"/>
                  <a:pt x="15180" y="7789"/>
                </a:cubicBezTo>
                <a:cubicBezTo>
                  <a:pt x="15205" y="7781"/>
                  <a:pt x="15230" y="7772"/>
                  <a:pt x="15255" y="7764"/>
                </a:cubicBezTo>
              </a:path>
              <a:path w="6450" h="1291">
                <a:moveTo>
                  <a:pt x="15850" y="7863"/>
                </a:moveTo>
                <a:cubicBezTo>
                  <a:pt x="15850" y="8033"/>
                  <a:pt x="15848" y="8198"/>
                  <a:pt x="15875" y="8359"/>
                </a:cubicBezTo>
                <a:cubicBezTo>
                  <a:pt x="15875" y="8376"/>
                  <a:pt x="15875" y="8392"/>
                  <a:pt x="15875" y="8409"/>
                </a:cubicBezTo>
              </a:path>
              <a:path w="6450" h="1291">
                <a:moveTo>
                  <a:pt x="15577" y="8136"/>
                </a:moveTo>
                <a:cubicBezTo>
                  <a:pt x="15727" y="8111"/>
                  <a:pt x="15871" y="8111"/>
                  <a:pt x="16024" y="8111"/>
                </a:cubicBezTo>
              </a:path>
              <a:path w="6450" h="1291">
                <a:moveTo>
                  <a:pt x="16520" y="7863"/>
                </a:moveTo>
                <a:cubicBezTo>
                  <a:pt x="16486" y="7940"/>
                  <a:pt x="16432" y="8011"/>
                  <a:pt x="16421" y="8086"/>
                </a:cubicBezTo>
                <a:cubicBezTo>
                  <a:pt x="16497" y="8115"/>
                  <a:pt x="16561" y="8111"/>
                  <a:pt x="16644" y="8111"/>
                </a:cubicBezTo>
                <a:cubicBezTo>
                  <a:pt x="16782" y="8111"/>
                  <a:pt x="16782" y="8104"/>
                  <a:pt x="16917" y="8037"/>
                </a:cubicBezTo>
              </a:path>
              <a:path w="6450" h="1291">
                <a:moveTo>
                  <a:pt x="16867" y="7565"/>
                </a:moveTo>
                <a:cubicBezTo>
                  <a:pt x="16798" y="7646"/>
                  <a:pt x="16734" y="7728"/>
                  <a:pt x="16718" y="7838"/>
                </a:cubicBezTo>
                <a:cubicBezTo>
                  <a:pt x="16695" y="7997"/>
                  <a:pt x="16726" y="8157"/>
                  <a:pt x="16743" y="8310"/>
                </a:cubicBezTo>
                <a:cubicBezTo>
                  <a:pt x="16750" y="8371"/>
                  <a:pt x="16751" y="8470"/>
                  <a:pt x="16818" y="8508"/>
                </a:cubicBezTo>
                <a:cubicBezTo>
                  <a:pt x="16826" y="8508"/>
                  <a:pt x="16834" y="8508"/>
                  <a:pt x="16842" y="8508"/>
                </a:cubicBezTo>
              </a:path>
              <a:path w="6450" h="1291">
                <a:moveTo>
                  <a:pt x="17016" y="7987"/>
                </a:moveTo>
                <a:cubicBezTo>
                  <a:pt x="17115" y="8126"/>
                  <a:pt x="17203" y="8239"/>
                  <a:pt x="17314" y="8359"/>
                </a:cubicBezTo>
                <a:cubicBezTo>
                  <a:pt x="17397" y="8450"/>
                  <a:pt x="17458" y="8469"/>
                  <a:pt x="17562" y="8508"/>
                </a:cubicBezTo>
              </a:path>
              <a:path w="6450" h="1291">
                <a:moveTo>
                  <a:pt x="17413" y="7938"/>
                </a:moveTo>
                <a:cubicBezTo>
                  <a:pt x="17269" y="8089"/>
                  <a:pt x="17143" y="8249"/>
                  <a:pt x="17016" y="8409"/>
                </a:cubicBezTo>
                <a:cubicBezTo>
                  <a:pt x="16975" y="8461"/>
                  <a:pt x="16903" y="8514"/>
                  <a:pt x="16966" y="8558"/>
                </a:cubicBezTo>
              </a:path>
              <a:path w="6450" h="1291">
                <a:moveTo>
                  <a:pt x="18256" y="7789"/>
                </a:moveTo>
                <a:cubicBezTo>
                  <a:pt x="18256" y="7909"/>
                  <a:pt x="18235" y="8018"/>
                  <a:pt x="18231" y="8136"/>
                </a:cubicBezTo>
                <a:cubicBezTo>
                  <a:pt x="18228" y="8232"/>
                  <a:pt x="18245" y="8296"/>
                  <a:pt x="18256" y="8384"/>
                </a:cubicBezTo>
              </a:path>
              <a:path w="6450" h="1291">
                <a:moveTo>
                  <a:pt x="18083" y="8012"/>
                </a:moveTo>
                <a:cubicBezTo>
                  <a:pt x="18209" y="8033"/>
                  <a:pt x="18328" y="8058"/>
                  <a:pt x="18455" y="8062"/>
                </a:cubicBezTo>
                <a:cubicBezTo>
                  <a:pt x="18488" y="8062"/>
                  <a:pt x="18521" y="8062"/>
                  <a:pt x="18554" y="8062"/>
                </a:cubicBezTo>
              </a:path>
              <a:path w="6450" h="1291">
                <a:moveTo>
                  <a:pt x="18951" y="7640"/>
                </a:moveTo>
                <a:cubicBezTo>
                  <a:pt x="18967" y="7927"/>
                  <a:pt x="18973" y="8201"/>
                  <a:pt x="19025" y="8483"/>
                </a:cubicBezTo>
                <a:cubicBezTo>
                  <a:pt x="19033" y="8524"/>
                  <a:pt x="19042" y="8566"/>
                  <a:pt x="19050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384120" y="3490920"/>
            <a:ext cx="857160" cy="287280"/>
          </a:xfrm>
          <a:custGeom>
            <a:avLst/>
            <a:gdLst/>
            <a:ahLst/>
            <a:rect l="l" t="t" r="r" b="b"/>
            <a:pathLst>
              <a:path w="2382" h="794">
                <a:moveTo>
                  <a:pt x="1067" y="9699"/>
                </a:moveTo>
                <a:cubicBezTo>
                  <a:pt x="1096" y="9788"/>
                  <a:pt x="1093" y="9878"/>
                  <a:pt x="1116" y="9971"/>
                </a:cubicBezTo>
                <a:cubicBezTo>
                  <a:pt x="1140" y="10067"/>
                  <a:pt x="1163" y="10177"/>
                  <a:pt x="1191" y="10269"/>
                </a:cubicBezTo>
                <a:cubicBezTo>
                  <a:pt x="1205" y="10315"/>
                  <a:pt x="1232" y="10336"/>
                  <a:pt x="1265" y="10368"/>
                </a:cubicBezTo>
                <a:cubicBezTo>
                  <a:pt x="1300" y="10311"/>
                  <a:pt x="1312" y="10266"/>
                  <a:pt x="1315" y="10195"/>
                </a:cubicBezTo>
                <a:cubicBezTo>
                  <a:pt x="1319" y="10105"/>
                  <a:pt x="1333" y="10008"/>
                  <a:pt x="1364" y="9922"/>
                </a:cubicBezTo>
                <a:cubicBezTo>
                  <a:pt x="1385" y="9865"/>
                  <a:pt x="1391" y="9768"/>
                  <a:pt x="1439" y="9723"/>
                </a:cubicBezTo>
                <a:cubicBezTo>
                  <a:pt x="1455" y="9715"/>
                  <a:pt x="1472" y="9707"/>
                  <a:pt x="1488" y="9699"/>
                </a:cubicBezTo>
              </a:path>
              <a:path w="2382" h="794">
                <a:moveTo>
                  <a:pt x="1612" y="10046"/>
                </a:moveTo>
                <a:cubicBezTo>
                  <a:pt x="1744" y="10039"/>
                  <a:pt x="1795" y="10059"/>
                  <a:pt x="1860" y="9947"/>
                </a:cubicBezTo>
                <a:cubicBezTo>
                  <a:pt x="1889" y="9897"/>
                  <a:pt x="1950" y="9780"/>
                  <a:pt x="1860" y="9748"/>
                </a:cubicBezTo>
                <a:cubicBezTo>
                  <a:pt x="1808" y="9729"/>
                  <a:pt x="1724" y="9792"/>
                  <a:pt x="1687" y="9823"/>
                </a:cubicBezTo>
                <a:cubicBezTo>
                  <a:pt x="1608" y="9887"/>
                  <a:pt x="1572" y="9975"/>
                  <a:pt x="1563" y="10071"/>
                </a:cubicBezTo>
                <a:cubicBezTo>
                  <a:pt x="1553" y="10177"/>
                  <a:pt x="1563" y="10207"/>
                  <a:pt x="1637" y="10269"/>
                </a:cubicBezTo>
                <a:cubicBezTo>
                  <a:pt x="1722" y="10340"/>
                  <a:pt x="1783" y="10318"/>
                  <a:pt x="1885" y="10294"/>
                </a:cubicBezTo>
              </a:path>
              <a:path w="2382" h="794">
                <a:moveTo>
                  <a:pt x="2009" y="10046"/>
                </a:moveTo>
                <a:cubicBezTo>
                  <a:pt x="1997" y="10180"/>
                  <a:pt x="1973" y="10242"/>
                  <a:pt x="2034" y="10344"/>
                </a:cubicBezTo>
                <a:cubicBezTo>
                  <a:pt x="2034" y="10274"/>
                  <a:pt x="2042" y="10210"/>
                  <a:pt x="2059" y="10145"/>
                </a:cubicBezTo>
                <a:cubicBezTo>
                  <a:pt x="2085" y="10048"/>
                  <a:pt x="2131" y="10000"/>
                  <a:pt x="2183" y="9922"/>
                </a:cubicBezTo>
                <a:cubicBezTo>
                  <a:pt x="2218" y="9852"/>
                  <a:pt x="2245" y="9822"/>
                  <a:pt x="2307" y="9798"/>
                </a:cubicBezTo>
              </a:path>
              <a:path w="2382" h="794">
                <a:moveTo>
                  <a:pt x="2530" y="9723"/>
                </a:moveTo>
                <a:cubicBezTo>
                  <a:pt x="2549" y="9853"/>
                  <a:pt x="2555" y="9966"/>
                  <a:pt x="2555" y="10096"/>
                </a:cubicBezTo>
                <a:cubicBezTo>
                  <a:pt x="2555" y="10156"/>
                  <a:pt x="2596" y="10269"/>
                  <a:pt x="2580" y="10319"/>
                </a:cubicBezTo>
                <a:cubicBezTo>
                  <a:pt x="2572" y="10327"/>
                  <a:pt x="2563" y="10336"/>
                  <a:pt x="2555" y="10344"/>
                </a:cubicBezTo>
              </a:path>
              <a:path w="2382" h="794">
                <a:moveTo>
                  <a:pt x="2332" y="9971"/>
                </a:moveTo>
                <a:cubicBezTo>
                  <a:pt x="2416" y="9944"/>
                  <a:pt x="2490" y="9947"/>
                  <a:pt x="2580" y="9947"/>
                </a:cubicBezTo>
                <a:cubicBezTo>
                  <a:pt x="2638" y="9947"/>
                  <a:pt x="2695" y="9947"/>
                  <a:pt x="2753" y="9947"/>
                </a:cubicBezTo>
              </a:path>
              <a:path w="2382" h="794">
                <a:moveTo>
                  <a:pt x="2729" y="10096"/>
                </a:moveTo>
                <a:cubicBezTo>
                  <a:pt x="2826" y="10063"/>
                  <a:pt x="2879" y="10042"/>
                  <a:pt x="2952" y="9971"/>
                </a:cubicBezTo>
                <a:cubicBezTo>
                  <a:pt x="2960" y="9963"/>
                  <a:pt x="2969" y="9955"/>
                  <a:pt x="2977" y="9947"/>
                </a:cubicBezTo>
                <a:cubicBezTo>
                  <a:pt x="2928" y="9917"/>
                  <a:pt x="2874" y="9918"/>
                  <a:pt x="2828" y="9971"/>
                </a:cubicBezTo>
                <a:cubicBezTo>
                  <a:pt x="2794" y="10011"/>
                  <a:pt x="2740" y="10119"/>
                  <a:pt x="2729" y="10170"/>
                </a:cubicBezTo>
                <a:cubicBezTo>
                  <a:pt x="2718" y="10223"/>
                  <a:pt x="2759" y="10313"/>
                  <a:pt x="2803" y="10344"/>
                </a:cubicBezTo>
                <a:cubicBezTo>
                  <a:pt x="2846" y="10374"/>
                  <a:pt x="2879" y="10368"/>
                  <a:pt x="2927" y="10368"/>
                </a:cubicBezTo>
              </a:path>
              <a:path w="2382" h="794">
                <a:moveTo>
                  <a:pt x="2977" y="10021"/>
                </a:moveTo>
                <a:cubicBezTo>
                  <a:pt x="3020" y="10109"/>
                  <a:pt x="3076" y="10146"/>
                  <a:pt x="3150" y="10220"/>
                </a:cubicBezTo>
                <a:cubicBezTo>
                  <a:pt x="3217" y="10286"/>
                  <a:pt x="3302" y="10306"/>
                  <a:pt x="3373" y="10344"/>
                </a:cubicBezTo>
                <a:cubicBezTo>
                  <a:pt x="3403" y="10373"/>
                  <a:pt x="3418" y="10378"/>
                  <a:pt x="3448" y="10344"/>
                </a:cubicBezTo>
              </a:path>
              <a:path w="2382" h="794">
                <a:moveTo>
                  <a:pt x="3200" y="10046"/>
                </a:moveTo>
                <a:cubicBezTo>
                  <a:pt x="3093" y="10139"/>
                  <a:pt x="3024" y="10243"/>
                  <a:pt x="2927" y="10344"/>
                </a:cubicBezTo>
                <a:cubicBezTo>
                  <a:pt x="2880" y="10393"/>
                  <a:pt x="2848" y="10441"/>
                  <a:pt x="2803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1320840" y="3330720"/>
            <a:ext cx="1393920" cy="544320"/>
          </a:xfrm>
          <a:custGeom>
            <a:avLst/>
            <a:gdLst/>
            <a:ahLst/>
            <a:rect l="l" t="t" r="r" b="b"/>
            <a:pathLst>
              <a:path w="3871" h="1514">
                <a:moveTo>
                  <a:pt x="3969" y="9252"/>
                </a:moveTo>
                <a:cubicBezTo>
                  <a:pt x="3959" y="9321"/>
                  <a:pt x="3922" y="9339"/>
                  <a:pt x="3894" y="9401"/>
                </a:cubicBezTo>
                <a:cubicBezTo>
                  <a:pt x="3851" y="9497"/>
                  <a:pt x="3790" y="9576"/>
                  <a:pt x="3746" y="9674"/>
                </a:cubicBezTo>
                <a:cubicBezTo>
                  <a:pt x="3706" y="9765"/>
                  <a:pt x="3675" y="9848"/>
                  <a:pt x="3671" y="9947"/>
                </a:cubicBezTo>
                <a:cubicBezTo>
                  <a:pt x="3667" y="10064"/>
                  <a:pt x="3676" y="10160"/>
                  <a:pt x="3721" y="10269"/>
                </a:cubicBezTo>
                <a:cubicBezTo>
                  <a:pt x="3749" y="10337"/>
                  <a:pt x="3846" y="10448"/>
                  <a:pt x="3919" y="10468"/>
                </a:cubicBezTo>
                <a:cubicBezTo>
                  <a:pt x="3977" y="10476"/>
                  <a:pt x="4035" y="10484"/>
                  <a:pt x="4093" y="10492"/>
                </a:cubicBezTo>
              </a:path>
              <a:path w="3871" h="1514">
                <a:moveTo>
                  <a:pt x="4291" y="9922"/>
                </a:moveTo>
                <a:cubicBezTo>
                  <a:pt x="4375" y="9950"/>
                  <a:pt x="4448" y="9947"/>
                  <a:pt x="4539" y="9947"/>
                </a:cubicBezTo>
                <a:cubicBezTo>
                  <a:pt x="4556" y="9947"/>
                  <a:pt x="4572" y="9947"/>
                  <a:pt x="4589" y="9947"/>
                </a:cubicBezTo>
              </a:path>
              <a:path w="3871" h="1514">
                <a:moveTo>
                  <a:pt x="4887" y="9500"/>
                </a:moveTo>
                <a:cubicBezTo>
                  <a:pt x="5012" y="9438"/>
                  <a:pt x="5047" y="9391"/>
                  <a:pt x="5159" y="9475"/>
                </a:cubicBezTo>
                <a:cubicBezTo>
                  <a:pt x="5236" y="9533"/>
                  <a:pt x="5196" y="9572"/>
                  <a:pt x="5184" y="9649"/>
                </a:cubicBezTo>
                <a:cubicBezTo>
                  <a:pt x="5170" y="9736"/>
                  <a:pt x="5122" y="9768"/>
                  <a:pt x="5060" y="9823"/>
                </a:cubicBezTo>
                <a:cubicBezTo>
                  <a:pt x="4991" y="9884"/>
                  <a:pt x="4948" y="9956"/>
                  <a:pt x="4887" y="10021"/>
                </a:cubicBezTo>
                <a:cubicBezTo>
                  <a:pt x="4823" y="10089"/>
                  <a:pt x="4789" y="10146"/>
                  <a:pt x="4738" y="10220"/>
                </a:cubicBezTo>
                <a:cubicBezTo>
                  <a:pt x="4702" y="10254"/>
                  <a:pt x="4689" y="10276"/>
                  <a:pt x="4688" y="10319"/>
                </a:cubicBezTo>
                <a:cubicBezTo>
                  <a:pt x="4739" y="10345"/>
                  <a:pt x="4825" y="10358"/>
                  <a:pt x="4887" y="10368"/>
                </a:cubicBezTo>
                <a:cubicBezTo>
                  <a:pt x="4945" y="10377"/>
                  <a:pt x="4983" y="10363"/>
                  <a:pt x="5035" y="10344"/>
                </a:cubicBezTo>
              </a:path>
              <a:path w="3871" h="1514">
                <a:moveTo>
                  <a:pt x="5457" y="10418"/>
                </a:moveTo>
                <a:cubicBezTo>
                  <a:pt x="5449" y="10507"/>
                  <a:pt x="5435" y="10583"/>
                  <a:pt x="5407" y="10666"/>
                </a:cubicBezTo>
                <a:cubicBezTo>
                  <a:pt x="5381" y="10743"/>
                  <a:pt x="5367" y="10749"/>
                  <a:pt x="5432" y="10765"/>
                </a:cubicBezTo>
              </a:path>
              <a:path w="3871" h="1514">
                <a:moveTo>
                  <a:pt x="5779" y="9922"/>
                </a:moveTo>
                <a:cubicBezTo>
                  <a:pt x="5854" y="9906"/>
                  <a:pt x="5910" y="9898"/>
                  <a:pt x="5978" y="9872"/>
                </a:cubicBezTo>
              </a:path>
              <a:path w="3871" h="1514">
                <a:moveTo>
                  <a:pt x="6300" y="9500"/>
                </a:moveTo>
                <a:cubicBezTo>
                  <a:pt x="6421" y="9476"/>
                  <a:pt x="6508" y="9465"/>
                  <a:pt x="6623" y="9525"/>
                </a:cubicBezTo>
                <a:cubicBezTo>
                  <a:pt x="6687" y="9559"/>
                  <a:pt x="6766" y="9640"/>
                  <a:pt x="6747" y="9723"/>
                </a:cubicBezTo>
                <a:cubicBezTo>
                  <a:pt x="6733" y="9784"/>
                  <a:pt x="6627" y="9848"/>
                  <a:pt x="6573" y="9872"/>
                </a:cubicBezTo>
                <a:cubicBezTo>
                  <a:pt x="6509" y="9900"/>
                  <a:pt x="6418" y="9956"/>
                  <a:pt x="6350" y="9971"/>
                </a:cubicBezTo>
                <a:cubicBezTo>
                  <a:pt x="6305" y="9971"/>
                  <a:pt x="6292" y="9967"/>
                  <a:pt x="6276" y="9996"/>
                </a:cubicBezTo>
                <a:cubicBezTo>
                  <a:pt x="6366" y="9996"/>
                  <a:pt x="6441" y="9992"/>
                  <a:pt x="6524" y="10021"/>
                </a:cubicBezTo>
                <a:cubicBezTo>
                  <a:pt x="6632" y="10059"/>
                  <a:pt x="6683" y="10127"/>
                  <a:pt x="6747" y="10220"/>
                </a:cubicBezTo>
                <a:cubicBezTo>
                  <a:pt x="6787" y="10279"/>
                  <a:pt x="6866" y="10372"/>
                  <a:pt x="6796" y="10443"/>
                </a:cubicBezTo>
                <a:cubicBezTo>
                  <a:pt x="6752" y="10488"/>
                  <a:pt x="6658" y="10505"/>
                  <a:pt x="6598" y="10492"/>
                </a:cubicBezTo>
                <a:cubicBezTo>
                  <a:pt x="6485" y="10468"/>
                  <a:pt x="6397" y="10399"/>
                  <a:pt x="6325" y="10319"/>
                </a:cubicBezTo>
              </a:path>
              <a:path w="3871" h="1514">
                <a:moveTo>
                  <a:pt x="7268" y="9451"/>
                </a:moveTo>
                <a:cubicBezTo>
                  <a:pt x="7452" y="9719"/>
                  <a:pt x="7534" y="9809"/>
                  <a:pt x="7541" y="10120"/>
                </a:cubicBezTo>
                <a:cubicBezTo>
                  <a:pt x="7544" y="10258"/>
                  <a:pt x="7501" y="10404"/>
                  <a:pt x="7417" y="10517"/>
                </a:cubicBezTo>
                <a:cubicBezTo>
                  <a:pt x="7353" y="10604"/>
                  <a:pt x="7261" y="10642"/>
                  <a:pt x="7169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473040" y="4106880"/>
            <a:ext cx="706320" cy="457200"/>
          </a:xfrm>
          <a:custGeom>
            <a:avLst/>
            <a:gdLst/>
            <a:ahLst/>
            <a:rect l="l" t="t" r="r" b="b"/>
            <a:pathLst>
              <a:path w="1960" h="1266">
                <a:moveTo>
                  <a:pt x="1315" y="11584"/>
                </a:moveTo>
                <a:cubicBezTo>
                  <a:pt x="1356" y="11647"/>
                  <a:pt x="1407" y="11737"/>
                  <a:pt x="1439" y="11807"/>
                </a:cubicBezTo>
                <a:cubicBezTo>
                  <a:pt x="1483" y="11903"/>
                  <a:pt x="1514" y="12011"/>
                  <a:pt x="1563" y="12105"/>
                </a:cubicBezTo>
                <a:cubicBezTo>
                  <a:pt x="1597" y="12170"/>
                  <a:pt x="1641" y="12246"/>
                  <a:pt x="1687" y="12303"/>
                </a:cubicBezTo>
              </a:path>
              <a:path w="1960" h="1266">
                <a:moveTo>
                  <a:pt x="1786" y="11708"/>
                </a:moveTo>
                <a:cubicBezTo>
                  <a:pt x="1758" y="11834"/>
                  <a:pt x="1740" y="11955"/>
                  <a:pt x="1712" y="12080"/>
                </a:cubicBezTo>
                <a:cubicBezTo>
                  <a:pt x="1683" y="12208"/>
                  <a:pt x="1675" y="12347"/>
                  <a:pt x="1662" y="12477"/>
                </a:cubicBezTo>
                <a:cubicBezTo>
                  <a:pt x="1655" y="12541"/>
                  <a:pt x="1662" y="12610"/>
                  <a:pt x="1662" y="12675"/>
                </a:cubicBezTo>
                <a:cubicBezTo>
                  <a:pt x="1691" y="12619"/>
                  <a:pt x="1702" y="12595"/>
                  <a:pt x="1712" y="12551"/>
                </a:cubicBezTo>
              </a:path>
              <a:path w="1960" h="1266">
                <a:moveTo>
                  <a:pt x="1984" y="11881"/>
                </a:moveTo>
                <a:cubicBezTo>
                  <a:pt x="1990" y="11976"/>
                  <a:pt x="2009" y="12059"/>
                  <a:pt x="2009" y="12154"/>
                </a:cubicBezTo>
                <a:cubicBezTo>
                  <a:pt x="2009" y="12196"/>
                  <a:pt x="2017" y="12212"/>
                  <a:pt x="1984" y="12204"/>
                </a:cubicBezTo>
              </a:path>
              <a:path w="1960" h="1266">
                <a:moveTo>
                  <a:pt x="2009" y="11410"/>
                </a:moveTo>
                <a:cubicBezTo>
                  <a:pt x="2094" y="11422"/>
                  <a:pt x="2094" y="11456"/>
                  <a:pt x="2133" y="11534"/>
                </a:cubicBezTo>
              </a:path>
              <a:path w="1960" h="1266">
                <a:moveTo>
                  <a:pt x="2208" y="11981"/>
                </a:moveTo>
                <a:cubicBezTo>
                  <a:pt x="2208" y="12130"/>
                  <a:pt x="2208" y="12146"/>
                  <a:pt x="2208" y="12229"/>
                </a:cubicBezTo>
                <a:cubicBezTo>
                  <a:pt x="2229" y="12150"/>
                  <a:pt x="2247" y="12058"/>
                  <a:pt x="2257" y="11981"/>
                </a:cubicBezTo>
                <a:cubicBezTo>
                  <a:pt x="2266" y="11908"/>
                  <a:pt x="2294" y="11844"/>
                  <a:pt x="2307" y="11782"/>
                </a:cubicBezTo>
                <a:cubicBezTo>
                  <a:pt x="2307" y="11766"/>
                  <a:pt x="2307" y="11749"/>
                  <a:pt x="2307" y="11733"/>
                </a:cubicBezTo>
                <a:cubicBezTo>
                  <a:pt x="2344" y="11806"/>
                  <a:pt x="2321" y="11872"/>
                  <a:pt x="2332" y="11956"/>
                </a:cubicBezTo>
                <a:cubicBezTo>
                  <a:pt x="2350" y="12093"/>
                  <a:pt x="2387" y="12125"/>
                  <a:pt x="2456" y="12229"/>
                </a:cubicBezTo>
                <a:cubicBezTo>
                  <a:pt x="2502" y="12298"/>
                  <a:pt x="2569" y="12303"/>
                  <a:pt x="2629" y="12229"/>
                </a:cubicBezTo>
                <a:cubicBezTo>
                  <a:pt x="2637" y="12212"/>
                  <a:pt x="2646" y="12196"/>
                  <a:pt x="2654" y="12179"/>
                </a:cubicBezTo>
              </a:path>
              <a:path w="1960" h="1266">
                <a:moveTo>
                  <a:pt x="2704" y="11609"/>
                </a:moveTo>
                <a:cubicBezTo>
                  <a:pt x="2698" y="11733"/>
                  <a:pt x="2658" y="11879"/>
                  <a:pt x="2679" y="12005"/>
                </a:cubicBezTo>
                <a:cubicBezTo>
                  <a:pt x="2696" y="12107"/>
                  <a:pt x="2720" y="12204"/>
                  <a:pt x="2753" y="12303"/>
                </a:cubicBezTo>
                <a:cubicBezTo>
                  <a:pt x="2761" y="12328"/>
                  <a:pt x="2770" y="12353"/>
                  <a:pt x="2778" y="12378"/>
                </a:cubicBezTo>
              </a:path>
              <a:path w="1960" h="1266">
                <a:moveTo>
                  <a:pt x="2580" y="11832"/>
                </a:moveTo>
                <a:cubicBezTo>
                  <a:pt x="2684" y="11803"/>
                  <a:pt x="2728" y="11819"/>
                  <a:pt x="2828" y="11832"/>
                </a:cubicBezTo>
                <a:cubicBezTo>
                  <a:pt x="2919" y="11832"/>
                  <a:pt x="2961" y="11829"/>
                  <a:pt x="3026" y="11807"/>
                </a:cubicBezTo>
              </a:path>
              <a:path w="1960" h="1266">
                <a:moveTo>
                  <a:pt x="3200" y="11782"/>
                </a:moveTo>
                <a:cubicBezTo>
                  <a:pt x="3175" y="11807"/>
                  <a:pt x="3167" y="11815"/>
                  <a:pt x="3150" y="11832"/>
                </a:cubicBezTo>
              </a:path>
              <a:path w="1960" h="1266">
                <a:moveTo>
                  <a:pt x="3175" y="12055"/>
                </a:moveTo>
                <a:cubicBezTo>
                  <a:pt x="3223" y="12079"/>
                  <a:pt x="3237" y="12087"/>
                  <a:pt x="3274" y="120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1393920" y="4098960"/>
            <a:ext cx="106200" cy="374760"/>
          </a:xfrm>
          <a:custGeom>
            <a:avLst/>
            <a:gdLst/>
            <a:ahLst/>
            <a:rect l="l" t="t" r="r" b="b"/>
            <a:pathLst>
              <a:path w="298" h="1043">
                <a:moveTo>
                  <a:pt x="4167" y="11385"/>
                </a:moveTo>
                <a:cubicBezTo>
                  <a:pt x="4119" y="11433"/>
                  <a:pt x="4049" y="11499"/>
                  <a:pt x="4018" y="11559"/>
                </a:cubicBezTo>
                <a:cubicBezTo>
                  <a:pt x="3960" y="11672"/>
                  <a:pt x="3929" y="11783"/>
                  <a:pt x="3894" y="11906"/>
                </a:cubicBezTo>
                <a:cubicBezTo>
                  <a:pt x="3868" y="11999"/>
                  <a:pt x="3875" y="12138"/>
                  <a:pt x="3919" y="12229"/>
                </a:cubicBezTo>
                <a:cubicBezTo>
                  <a:pt x="3962" y="12316"/>
                  <a:pt x="4039" y="12378"/>
                  <a:pt x="4118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1"/>
          <p:cNvSpPr/>
          <p:nvPr/>
        </p:nvSpPr>
        <p:spPr>
          <a:xfrm>
            <a:off x="1616040" y="4170240"/>
            <a:ext cx="295200" cy="473040"/>
          </a:xfrm>
          <a:custGeom>
            <a:avLst/>
            <a:gdLst/>
            <a:ahLst/>
            <a:rect l="l" t="t" r="r" b="b"/>
            <a:pathLst>
              <a:path w="819" h="1315">
                <a:moveTo>
                  <a:pt x="4564" y="11584"/>
                </a:moveTo>
                <a:cubicBezTo>
                  <a:pt x="4553" y="11673"/>
                  <a:pt x="4531" y="11766"/>
                  <a:pt x="4514" y="11857"/>
                </a:cubicBezTo>
                <a:cubicBezTo>
                  <a:pt x="4481" y="12032"/>
                  <a:pt x="4502" y="12089"/>
                  <a:pt x="4614" y="12254"/>
                </a:cubicBezTo>
                <a:cubicBezTo>
                  <a:pt x="4661" y="12324"/>
                  <a:pt x="4754" y="12388"/>
                  <a:pt x="4837" y="12402"/>
                </a:cubicBezTo>
                <a:cubicBezTo>
                  <a:pt x="4927" y="12417"/>
                  <a:pt x="4993" y="12374"/>
                  <a:pt x="5035" y="12303"/>
                </a:cubicBezTo>
                <a:cubicBezTo>
                  <a:pt x="5086" y="12216"/>
                  <a:pt x="5102" y="12105"/>
                  <a:pt x="5085" y="12005"/>
                </a:cubicBezTo>
                <a:cubicBezTo>
                  <a:pt x="5072" y="11928"/>
                  <a:pt x="5016" y="11787"/>
                  <a:pt x="4961" y="11733"/>
                </a:cubicBezTo>
                <a:cubicBezTo>
                  <a:pt x="4905" y="11678"/>
                  <a:pt x="4769" y="11635"/>
                  <a:pt x="4688" y="11658"/>
                </a:cubicBezTo>
                <a:cubicBezTo>
                  <a:pt x="4611" y="11679"/>
                  <a:pt x="4606" y="11722"/>
                  <a:pt x="4589" y="11782"/>
                </a:cubicBezTo>
                <a:cubicBezTo>
                  <a:pt x="4560" y="11888"/>
                  <a:pt x="4565" y="11909"/>
                  <a:pt x="4614" y="12005"/>
                </a:cubicBezTo>
              </a:path>
              <a:path w="819" h="1315">
                <a:moveTo>
                  <a:pt x="5308" y="12427"/>
                </a:moveTo>
                <a:cubicBezTo>
                  <a:pt x="5302" y="12537"/>
                  <a:pt x="5305" y="12655"/>
                  <a:pt x="5234" y="12750"/>
                </a:cubicBezTo>
                <a:cubicBezTo>
                  <a:pt x="5196" y="12802"/>
                  <a:pt x="5153" y="12849"/>
                  <a:pt x="5110" y="128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2"/>
          <p:cNvSpPr/>
          <p:nvPr/>
        </p:nvSpPr>
        <p:spPr>
          <a:xfrm>
            <a:off x="2125800" y="4179960"/>
            <a:ext cx="160200" cy="419040"/>
          </a:xfrm>
          <a:custGeom>
            <a:avLst/>
            <a:gdLst/>
            <a:ahLst/>
            <a:rect l="l" t="t" r="r" b="b"/>
            <a:pathLst>
              <a:path w="447" h="1166">
                <a:moveTo>
                  <a:pt x="5953" y="11832"/>
                </a:moveTo>
                <a:cubicBezTo>
                  <a:pt x="5953" y="11953"/>
                  <a:pt x="5938" y="12056"/>
                  <a:pt x="5928" y="12179"/>
                </a:cubicBezTo>
                <a:cubicBezTo>
                  <a:pt x="5921" y="12266"/>
                  <a:pt x="5904" y="12338"/>
                  <a:pt x="5904" y="12427"/>
                </a:cubicBezTo>
                <a:cubicBezTo>
                  <a:pt x="5904" y="12501"/>
                  <a:pt x="5904" y="12576"/>
                  <a:pt x="5904" y="12650"/>
                </a:cubicBezTo>
              </a:path>
              <a:path w="447" h="1166">
                <a:moveTo>
                  <a:pt x="6077" y="11609"/>
                </a:moveTo>
                <a:cubicBezTo>
                  <a:pt x="6189" y="11720"/>
                  <a:pt x="6217" y="11788"/>
                  <a:pt x="6276" y="11931"/>
                </a:cubicBezTo>
                <a:cubicBezTo>
                  <a:pt x="6338" y="12081"/>
                  <a:pt x="6350" y="12192"/>
                  <a:pt x="6350" y="12353"/>
                </a:cubicBezTo>
                <a:cubicBezTo>
                  <a:pt x="6350" y="12482"/>
                  <a:pt x="6318" y="12590"/>
                  <a:pt x="6251" y="12700"/>
                </a:cubicBezTo>
                <a:cubicBezTo>
                  <a:pt x="6234" y="12725"/>
                  <a:pt x="6218" y="12749"/>
                  <a:pt x="6201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3"/>
          <p:cNvSpPr/>
          <p:nvPr/>
        </p:nvSpPr>
        <p:spPr>
          <a:xfrm>
            <a:off x="4330800" y="3402000"/>
            <a:ext cx="438120" cy="312840"/>
          </a:xfrm>
          <a:custGeom>
            <a:avLst/>
            <a:gdLst/>
            <a:ahLst/>
            <a:rect l="l" t="t" r="r" b="b"/>
            <a:pathLst>
              <a:path w="1217" h="869">
                <a:moveTo>
                  <a:pt x="12229" y="9748"/>
                </a:moveTo>
                <a:cubicBezTo>
                  <a:pt x="12113" y="9767"/>
                  <a:pt x="12097" y="9776"/>
                  <a:pt x="12030" y="9773"/>
                </a:cubicBezTo>
                <a:cubicBezTo>
                  <a:pt x="12183" y="9686"/>
                  <a:pt x="12336" y="9610"/>
                  <a:pt x="12502" y="9550"/>
                </a:cubicBezTo>
                <a:cubicBezTo>
                  <a:pt x="12692" y="9482"/>
                  <a:pt x="12898" y="9436"/>
                  <a:pt x="13097" y="9475"/>
                </a:cubicBezTo>
                <a:cubicBezTo>
                  <a:pt x="13212" y="9497"/>
                  <a:pt x="13275" y="9637"/>
                  <a:pt x="13246" y="9748"/>
                </a:cubicBezTo>
                <a:cubicBezTo>
                  <a:pt x="13212" y="9877"/>
                  <a:pt x="13111" y="9990"/>
                  <a:pt x="13072" y="10120"/>
                </a:cubicBezTo>
                <a:cubicBezTo>
                  <a:pt x="13053" y="10183"/>
                  <a:pt x="13001" y="10365"/>
                  <a:pt x="13146" y="10319"/>
                </a:cubicBezTo>
                <a:cubicBezTo>
                  <a:pt x="13171" y="10302"/>
                  <a:pt x="13196" y="10286"/>
                  <a:pt x="13221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4"/>
          <p:cNvSpPr/>
          <p:nvPr/>
        </p:nvSpPr>
        <p:spPr>
          <a:xfrm>
            <a:off x="5187960" y="3286080"/>
            <a:ext cx="2876400" cy="527040"/>
          </a:xfrm>
          <a:custGeom>
            <a:avLst/>
            <a:gdLst/>
            <a:ahLst/>
            <a:rect l="l" t="t" r="r" b="b"/>
            <a:pathLst>
              <a:path w="7988" h="1465">
                <a:moveTo>
                  <a:pt x="14436" y="9128"/>
                </a:moveTo>
                <a:cubicBezTo>
                  <a:pt x="14468" y="9277"/>
                  <a:pt x="14505" y="9419"/>
                  <a:pt x="14585" y="9550"/>
                </a:cubicBezTo>
                <a:cubicBezTo>
                  <a:pt x="14674" y="9697"/>
                  <a:pt x="14799" y="9799"/>
                  <a:pt x="14908" y="9922"/>
                </a:cubicBezTo>
                <a:cubicBezTo>
                  <a:pt x="14965" y="9986"/>
                  <a:pt x="14983" y="10025"/>
                  <a:pt x="15056" y="10071"/>
                </a:cubicBezTo>
              </a:path>
              <a:path w="7988" h="1465">
                <a:moveTo>
                  <a:pt x="14883" y="9302"/>
                </a:moveTo>
                <a:cubicBezTo>
                  <a:pt x="14787" y="9471"/>
                  <a:pt x="14686" y="9633"/>
                  <a:pt x="14585" y="9798"/>
                </a:cubicBezTo>
                <a:cubicBezTo>
                  <a:pt x="14531" y="9886"/>
                  <a:pt x="14438" y="9995"/>
                  <a:pt x="14412" y="10096"/>
                </a:cubicBezTo>
                <a:cubicBezTo>
                  <a:pt x="14412" y="10137"/>
                  <a:pt x="14412" y="10145"/>
                  <a:pt x="14412" y="10170"/>
                </a:cubicBezTo>
              </a:path>
              <a:path w="7988" h="1465">
                <a:moveTo>
                  <a:pt x="15230" y="9525"/>
                </a:moveTo>
                <a:cubicBezTo>
                  <a:pt x="15348" y="9508"/>
                  <a:pt x="15435" y="9467"/>
                  <a:pt x="15528" y="9550"/>
                </a:cubicBezTo>
                <a:cubicBezTo>
                  <a:pt x="15536" y="9558"/>
                  <a:pt x="15545" y="9567"/>
                  <a:pt x="15553" y="9575"/>
                </a:cubicBezTo>
              </a:path>
              <a:path w="7988" h="1465">
                <a:moveTo>
                  <a:pt x="15205" y="9699"/>
                </a:moveTo>
                <a:cubicBezTo>
                  <a:pt x="15359" y="9755"/>
                  <a:pt x="15464" y="9773"/>
                  <a:pt x="15627" y="9773"/>
                </a:cubicBezTo>
              </a:path>
              <a:path w="7988" h="1465">
                <a:moveTo>
                  <a:pt x="16073" y="9550"/>
                </a:moveTo>
                <a:cubicBezTo>
                  <a:pt x="16208" y="9533"/>
                  <a:pt x="16336" y="9519"/>
                  <a:pt x="16470" y="9500"/>
                </a:cubicBezTo>
              </a:path>
              <a:path w="7988" h="1465">
                <a:moveTo>
                  <a:pt x="16718" y="9401"/>
                </a:moveTo>
                <a:cubicBezTo>
                  <a:pt x="16668" y="9480"/>
                  <a:pt x="16613" y="9533"/>
                  <a:pt x="16669" y="9624"/>
                </a:cubicBezTo>
                <a:cubicBezTo>
                  <a:pt x="16709" y="9688"/>
                  <a:pt x="16793" y="9737"/>
                  <a:pt x="16867" y="9748"/>
                </a:cubicBezTo>
                <a:cubicBezTo>
                  <a:pt x="16920" y="9756"/>
                  <a:pt x="16986" y="9748"/>
                  <a:pt x="17041" y="9748"/>
                </a:cubicBezTo>
              </a:path>
              <a:path w="7988" h="1465">
                <a:moveTo>
                  <a:pt x="17190" y="9252"/>
                </a:moveTo>
                <a:cubicBezTo>
                  <a:pt x="17131" y="9326"/>
                  <a:pt x="17114" y="9407"/>
                  <a:pt x="17090" y="9500"/>
                </a:cubicBezTo>
                <a:cubicBezTo>
                  <a:pt x="17053" y="9645"/>
                  <a:pt x="17041" y="9773"/>
                  <a:pt x="17041" y="9922"/>
                </a:cubicBezTo>
                <a:cubicBezTo>
                  <a:pt x="17041" y="10028"/>
                  <a:pt x="17048" y="10097"/>
                  <a:pt x="17090" y="10195"/>
                </a:cubicBezTo>
              </a:path>
              <a:path w="7988" h="1465">
                <a:moveTo>
                  <a:pt x="17462" y="9376"/>
                </a:moveTo>
                <a:cubicBezTo>
                  <a:pt x="17524" y="9482"/>
                  <a:pt x="17528" y="9560"/>
                  <a:pt x="17562" y="9674"/>
                </a:cubicBezTo>
                <a:cubicBezTo>
                  <a:pt x="17580" y="9735"/>
                  <a:pt x="17587" y="9762"/>
                  <a:pt x="17587" y="9823"/>
                </a:cubicBezTo>
              </a:path>
              <a:path w="7988" h="1465">
                <a:moveTo>
                  <a:pt x="17314" y="9699"/>
                </a:moveTo>
                <a:cubicBezTo>
                  <a:pt x="17505" y="9718"/>
                  <a:pt x="17534" y="9707"/>
                  <a:pt x="17636" y="9748"/>
                </a:cubicBezTo>
              </a:path>
              <a:path w="7988" h="1465">
                <a:moveTo>
                  <a:pt x="17438" y="9971"/>
                </a:moveTo>
                <a:cubicBezTo>
                  <a:pt x="17566" y="10008"/>
                  <a:pt x="17611" y="10021"/>
                  <a:pt x="17735" y="10021"/>
                </a:cubicBezTo>
              </a:path>
              <a:path w="7988" h="1465">
                <a:moveTo>
                  <a:pt x="18132" y="9823"/>
                </a:moveTo>
                <a:cubicBezTo>
                  <a:pt x="18161" y="9994"/>
                  <a:pt x="18199" y="10154"/>
                  <a:pt x="18231" y="10319"/>
                </a:cubicBezTo>
                <a:cubicBezTo>
                  <a:pt x="18231" y="10335"/>
                  <a:pt x="18231" y="10352"/>
                  <a:pt x="18231" y="10368"/>
                </a:cubicBezTo>
                <a:cubicBezTo>
                  <a:pt x="18253" y="10257"/>
                  <a:pt x="18256" y="10162"/>
                  <a:pt x="18256" y="10046"/>
                </a:cubicBezTo>
                <a:cubicBezTo>
                  <a:pt x="18256" y="9920"/>
                  <a:pt x="18231" y="9802"/>
                  <a:pt x="18231" y="9674"/>
                </a:cubicBezTo>
                <a:cubicBezTo>
                  <a:pt x="18231" y="9570"/>
                  <a:pt x="18235" y="9475"/>
                  <a:pt x="18256" y="9376"/>
                </a:cubicBezTo>
                <a:cubicBezTo>
                  <a:pt x="18268" y="9320"/>
                  <a:pt x="18283" y="9227"/>
                  <a:pt x="18355" y="9203"/>
                </a:cubicBezTo>
                <a:cubicBezTo>
                  <a:pt x="18475" y="9164"/>
                  <a:pt x="18669" y="9142"/>
                  <a:pt x="18802" y="9153"/>
                </a:cubicBezTo>
                <a:cubicBezTo>
                  <a:pt x="19107" y="9178"/>
                  <a:pt x="19412" y="9199"/>
                  <a:pt x="19720" y="9203"/>
                </a:cubicBezTo>
                <a:cubicBezTo>
                  <a:pt x="20019" y="9207"/>
                  <a:pt x="20315" y="9241"/>
                  <a:pt x="20613" y="9252"/>
                </a:cubicBezTo>
                <a:cubicBezTo>
                  <a:pt x="20863" y="9261"/>
                  <a:pt x="21109" y="9287"/>
                  <a:pt x="21357" y="9302"/>
                </a:cubicBezTo>
                <a:cubicBezTo>
                  <a:pt x="21431" y="9306"/>
                  <a:pt x="21639" y="9325"/>
                  <a:pt x="21704" y="9277"/>
                </a:cubicBezTo>
                <a:cubicBezTo>
                  <a:pt x="21791" y="9212"/>
                  <a:pt x="21704" y="9235"/>
                  <a:pt x="21704" y="9178"/>
                </a:cubicBezTo>
              </a:path>
              <a:path w="7988" h="1465">
                <a:moveTo>
                  <a:pt x="18802" y="9699"/>
                </a:moveTo>
                <a:cubicBezTo>
                  <a:pt x="18782" y="9779"/>
                  <a:pt x="18739" y="9888"/>
                  <a:pt x="18752" y="9971"/>
                </a:cubicBezTo>
                <a:cubicBezTo>
                  <a:pt x="18767" y="10071"/>
                  <a:pt x="18886" y="10100"/>
                  <a:pt x="18976" y="10071"/>
                </a:cubicBezTo>
                <a:cubicBezTo>
                  <a:pt x="18984" y="10063"/>
                  <a:pt x="18992" y="10054"/>
                  <a:pt x="19000" y="10046"/>
                </a:cubicBezTo>
              </a:path>
              <a:path w="7988" h="1465">
                <a:moveTo>
                  <a:pt x="19124" y="9674"/>
                </a:moveTo>
                <a:cubicBezTo>
                  <a:pt x="19069" y="9817"/>
                  <a:pt x="19035" y="9943"/>
                  <a:pt x="19025" y="10096"/>
                </a:cubicBezTo>
                <a:cubicBezTo>
                  <a:pt x="19017" y="10218"/>
                  <a:pt x="19035" y="10377"/>
                  <a:pt x="19075" y="10492"/>
                </a:cubicBezTo>
                <a:cubicBezTo>
                  <a:pt x="19095" y="10533"/>
                  <a:pt x="19104" y="10539"/>
                  <a:pt x="19100" y="10567"/>
                </a:cubicBezTo>
              </a:path>
              <a:path w="7988" h="1465">
                <a:moveTo>
                  <a:pt x="19174" y="9475"/>
                </a:moveTo>
                <a:cubicBezTo>
                  <a:pt x="19280" y="9439"/>
                  <a:pt x="19432" y="9342"/>
                  <a:pt x="19472" y="9525"/>
                </a:cubicBezTo>
                <a:cubicBezTo>
                  <a:pt x="19493" y="9620"/>
                  <a:pt x="19459" y="9681"/>
                  <a:pt x="19397" y="9748"/>
                </a:cubicBezTo>
                <a:cubicBezTo>
                  <a:pt x="19365" y="9782"/>
                  <a:pt x="19331" y="9815"/>
                  <a:pt x="19298" y="9847"/>
                </a:cubicBezTo>
                <a:cubicBezTo>
                  <a:pt x="19336" y="9938"/>
                  <a:pt x="19390" y="9922"/>
                  <a:pt x="19496" y="9922"/>
                </a:cubicBezTo>
              </a:path>
              <a:path w="7988" h="1465">
                <a:moveTo>
                  <a:pt x="19621" y="10170"/>
                </a:moveTo>
                <a:cubicBezTo>
                  <a:pt x="19752" y="10164"/>
                  <a:pt x="19819" y="10153"/>
                  <a:pt x="19943" y="10120"/>
                </a:cubicBezTo>
              </a:path>
              <a:path w="7988" h="1465">
                <a:moveTo>
                  <a:pt x="20141" y="9847"/>
                </a:moveTo>
                <a:cubicBezTo>
                  <a:pt x="20121" y="9949"/>
                  <a:pt x="20118" y="10101"/>
                  <a:pt x="20265" y="10145"/>
                </a:cubicBezTo>
                <a:cubicBezTo>
                  <a:pt x="20333" y="10145"/>
                  <a:pt x="20352" y="10148"/>
                  <a:pt x="20389" y="10120"/>
                </a:cubicBezTo>
              </a:path>
              <a:path w="7988" h="1465">
                <a:moveTo>
                  <a:pt x="20513" y="9624"/>
                </a:moveTo>
                <a:cubicBezTo>
                  <a:pt x="20460" y="9706"/>
                  <a:pt x="20439" y="9801"/>
                  <a:pt x="20414" y="9897"/>
                </a:cubicBezTo>
                <a:cubicBezTo>
                  <a:pt x="20376" y="10043"/>
                  <a:pt x="20354" y="10195"/>
                  <a:pt x="20340" y="10344"/>
                </a:cubicBezTo>
                <a:cubicBezTo>
                  <a:pt x="20332" y="10428"/>
                  <a:pt x="20362" y="10516"/>
                  <a:pt x="20389" y="10592"/>
                </a:cubicBezTo>
              </a:path>
              <a:path w="7988" h="1465">
                <a:moveTo>
                  <a:pt x="20712" y="9649"/>
                </a:moveTo>
                <a:cubicBezTo>
                  <a:pt x="20652" y="9761"/>
                  <a:pt x="20578" y="9866"/>
                  <a:pt x="20563" y="9996"/>
                </a:cubicBezTo>
                <a:cubicBezTo>
                  <a:pt x="20550" y="10107"/>
                  <a:pt x="20582" y="10285"/>
                  <a:pt x="20662" y="10368"/>
                </a:cubicBezTo>
                <a:cubicBezTo>
                  <a:pt x="20729" y="10438"/>
                  <a:pt x="20777" y="10453"/>
                  <a:pt x="20861" y="10468"/>
                </a:cubicBezTo>
              </a:path>
              <a:path w="7988" h="1465">
                <a:moveTo>
                  <a:pt x="21010" y="9872"/>
                </a:moveTo>
                <a:cubicBezTo>
                  <a:pt x="20994" y="10019"/>
                  <a:pt x="20985" y="10148"/>
                  <a:pt x="20985" y="10294"/>
                </a:cubicBezTo>
                <a:cubicBezTo>
                  <a:pt x="20985" y="10346"/>
                  <a:pt x="20986" y="10364"/>
                  <a:pt x="21010" y="10393"/>
                </a:cubicBezTo>
              </a:path>
              <a:path w="7988" h="1465">
                <a:moveTo>
                  <a:pt x="21208" y="9649"/>
                </a:moveTo>
                <a:cubicBezTo>
                  <a:pt x="21328" y="9826"/>
                  <a:pt x="21428" y="9946"/>
                  <a:pt x="21406" y="10170"/>
                </a:cubicBezTo>
                <a:cubicBezTo>
                  <a:pt x="21394" y="10291"/>
                  <a:pt x="21312" y="10384"/>
                  <a:pt x="21233" y="10468"/>
                </a:cubicBezTo>
                <a:cubicBezTo>
                  <a:pt x="21163" y="10542"/>
                  <a:pt x="21155" y="10536"/>
                  <a:pt x="21134" y="10443"/>
                </a:cubicBezTo>
              </a:path>
              <a:path w="7988" h="1465">
                <a:moveTo>
                  <a:pt x="21580" y="9748"/>
                </a:moveTo>
                <a:cubicBezTo>
                  <a:pt x="21571" y="9861"/>
                  <a:pt x="21533" y="9956"/>
                  <a:pt x="21530" y="10071"/>
                </a:cubicBezTo>
                <a:cubicBezTo>
                  <a:pt x="21526" y="10221"/>
                  <a:pt x="21534" y="10320"/>
                  <a:pt x="21630" y="10443"/>
                </a:cubicBezTo>
                <a:cubicBezTo>
                  <a:pt x="21691" y="10521"/>
                  <a:pt x="21715" y="10526"/>
                  <a:pt x="21803" y="10542"/>
                </a:cubicBezTo>
              </a:path>
              <a:path w="7988" h="1465">
                <a:moveTo>
                  <a:pt x="21903" y="9897"/>
                </a:moveTo>
                <a:cubicBezTo>
                  <a:pt x="21903" y="10072"/>
                  <a:pt x="21907" y="10224"/>
                  <a:pt x="21927" y="10393"/>
                </a:cubicBezTo>
                <a:cubicBezTo>
                  <a:pt x="21932" y="10433"/>
                  <a:pt x="21927" y="10477"/>
                  <a:pt x="21927" y="10517"/>
                </a:cubicBezTo>
              </a:path>
              <a:path w="7988" h="1465">
                <a:moveTo>
                  <a:pt x="22225" y="9699"/>
                </a:moveTo>
                <a:cubicBezTo>
                  <a:pt x="22332" y="9892"/>
                  <a:pt x="22423" y="10021"/>
                  <a:pt x="22374" y="10244"/>
                </a:cubicBezTo>
                <a:cubicBezTo>
                  <a:pt x="22350" y="10353"/>
                  <a:pt x="22259" y="10406"/>
                  <a:pt x="22175" y="104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5"/>
          <p:cNvSpPr/>
          <p:nvPr/>
        </p:nvSpPr>
        <p:spPr>
          <a:xfrm>
            <a:off x="509760" y="4929120"/>
            <a:ext cx="588960" cy="330120"/>
          </a:xfrm>
          <a:custGeom>
            <a:avLst/>
            <a:gdLst/>
            <a:ahLst/>
            <a:rect l="l" t="t" r="r" b="b"/>
            <a:pathLst>
              <a:path w="1638" h="919">
                <a:moveTo>
                  <a:pt x="1488" y="13717"/>
                </a:moveTo>
                <a:cubicBezTo>
                  <a:pt x="1515" y="13816"/>
                  <a:pt x="1537" y="13914"/>
                  <a:pt x="1563" y="14015"/>
                </a:cubicBezTo>
                <a:cubicBezTo>
                  <a:pt x="1599" y="14155"/>
                  <a:pt x="1667" y="14263"/>
                  <a:pt x="1736" y="14387"/>
                </a:cubicBezTo>
                <a:cubicBezTo>
                  <a:pt x="1808" y="14517"/>
                  <a:pt x="1828" y="14551"/>
                  <a:pt x="1960" y="14610"/>
                </a:cubicBezTo>
              </a:path>
              <a:path w="1638" h="919">
                <a:moveTo>
                  <a:pt x="1761" y="13717"/>
                </a:moveTo>
                <a:cubicBezTo>
                  <a:pt x="1711" y="13818"/>
                  <a:pt x="1659" y="13914"/>
                  <a:pt x="1612" y="14015"/>
                </a:cubicBezTo>
                <a:cubicBezTo>
                  <a:pt x="1559" y="14130"/>
                  <a:pt x="1513" y="14246"/>
                  <a:pt x="1463" y="14362"/>
                </a:cubicBezTo>
                <a:cubicBezTo>
                  <a:pt x="1442" y="14412"/>
                  <a:pt x="1439" y="14444"/>
                  <a:pt x="1414" y="14486"/>
                </a:cubicBezTo>
              </a:path>
              <a:path w="1638" h="919">
                <a:moveTo>
                  <a:pt x="1910" y="14213"/>
                </a:moveTo>
                <a:cubicBezTo>
                  <a:pt x="1922" y="14307"/>
                  <a:pt x="1953" y="14521"/>
                  <a:pt x="1910" y="14436"/>
                </a:cubicBezTo>
              </a:path>
              <a:path w="1638" h="919">
                <a:moveTo>
                  <a:pt x="2009" y="13742"/>
                </a:moveTo>
                <a:cubicBezTo>
                  <a:pt x="2063" y="13688"/>
                  <a:pt x="2085" y="13674"/>
                  <a:pt x="2133" y="13742"/>
                </a:cubicBezTo>
              </a:path>
              <a:path w="1638" h="919">
                <a:moveTo>
                  <a:pt x="2084" y="14213"/>
                </a:moveTo>
                <a:cubicBezTo>
                  <a:pt x="2076" y="14263"/>
                  <a:pt x="2067" y="14312"/>
                  <a:pt x="2059" y="14362"/>
                </a:cubicBezTo>
                <a:cubicBezTo>
                  <a:pt x="2104" y="14272"/>
                  <a:pt x="2141" y="14164"/>
                  <a:pt x="2208" y="14089"/>
                </a:cubicBezTo>
                <a:cubicBezTo>
                  <a:pt x="2232" y="14064"/>
                  <a:pt x="2240" y="14055"/>
                  <a:pt x="2257" y="14039"/>
                </a:cubicBezTo>
                <a:cubicBezTo>
                  <a:pt x="2304" y="14133"/>
                  <a:pt x="2302" y="14235"/>
                  <a:pt x="2332" y="14337"/>
                </a:cubicBezTo>
                <a:cubicBezTo>
                  <a:pt x="2349" y="14396"/>
                  <a:pt x="2377" y="14498"/>
                  <a:pt x="2431" y="14536"/>
                </a:cubicBezTo>
                <a:cubicBezTo>
                  <a:pt x="2447" y="14544"/>
                  <a:pt x="2464" y="14552"/>
                  <a:pt x="2480" y="14560"/>
                </a:cubicBezTo>
                <a:cubicBezTo>
                  <a:pt x="2529" y="14500"/>
                  <a:pt x="2568" y="14416"/>
                  <a:pt x="2580" y="14337"/>
                </a:cubicBezTo>
                <a:cubicBezTo>
                  <a:pt x="2595" y="14239"/>
                  <a:pt x="2618" y="14137"/>
                  <a:pt x="2629" y="14039"/>
                </a:cubicBezTo>
                <a:cubicBezTo>
                  <a:pt x="2635" y="13984"/>
                  <a:pt x="2629" y="13922"/>
                  <a:pt x="2629" y="13866"/>
                </a:cubicBezTo>
                <a:cubicBezTo>
                  <a:pt x="2629" y="14079"/>
                  <a:pt x="2579" y="14363"/>
                  <a:pt x="2654" y="14560"/>
                </a:cubicBezTo>
              </a:path>
              <a:path w="1638" h="919">
                <a:moveTo>
                  <a:pt x="2555" y="13990"/>
                </a:moveTo>
                <a:cubicBezTo>
                  <a:pt x="2623" y="13956"/>
                  <a:pt x="2697" y="13965"/>
                  <a:pt x="2778" y="13965"/>
                </a:cubicBezTo>
              </a:path>
              <a:path w="1638" h="919">
                <a:moveTo>
                  <a:pt x="3051" y="13965"/>
                </a:moveTo>
                <a:cubicBezTo>
                  <a:pt x="3051" y="13973"/>
                  <a:pt x="3051" y="13982"/>
                  <a:pt x="3051" y="13990"/>
                </a:cubicBezTo>
              </a:path>
              <a:path w="1638" h="919">
                <a:moveTo>
                  <a:pt x="3026" y="14238"/>
                </a:moveTo>
                <a:cubicBezTo>
                  <a:pt x="3026" y="14280"/>
                  <a:pt x="3018" y="14296"/>
                  <a:pt x="3051" y="14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6"/>
          <p:cNvSpPr/>
          <p:nvPr/>
        </p:nvSpPr>
        <p:spPr>
          <a:xfrm>
            <a:off x="1687680" y="4929120"/>
            <a:ext cx="1733400" cy="723960"/>
          </a:xfrm>
          <a:custGeom>
            <a:avLst/>
            <a:gdLst/>
            <a:ahLst/>
            <a:rect l="l" t="t" r="r" b="b"/>
            <a:pathLst>
              <a:path w="4813" h="2010">
                <a:moveTo>
                  <a:pt x="4936" y="14039"/>
                </a:moveTo>
                <a:cubicBezTo>
                  <a:pt x="4900" y="14102"/>
                  <a:pt x="4856" y="14181"/>
                  <a:pt x="4812" y="14238"/>
                </a:cubicBezTo>
                <a:cubicBezTo>
                  <a:pt x="4737" y="14335"/>
                  <a:pt x="4704" y="14406"/>
                  <a:pt x="4688" y="14536"/>
                </a:cubicBezTo>
                <a:cubicBezTo>
                  <a:pt x="4674" y="14648"/>
                  <a:pt x="4693" y="14743"/>
                  <a:pt x="4762" y="14833"/>
                </a:cubicBezTo>
                <a:cubicBezTo>
                  <a:pt x="4817" y="14904"/>
                  <a:pt x="4873" y="14952"/>
                  <a:pt x="4961" y="14957"/>
                </a:cubicBezTo>
                <a:cubicBezTo>
                  <a:pt x="5085" y="14964"/>
                  <a:pt x="5141" y="14830"/>
                  <a:pt x="5184" y="14734"/>
                </a:cubicBezTo>
                <a:cubicBezTo>
                  <a:pt x="5228" y="14636"/>
                  <a:pt x="5226" y="14467"/>
                  <a:pt x="5209" y="14362"/>
                </a:cubicBezTo>
                <a:cubicBezTo>
                  <a:pt x="5195" y="14277"/>
                  <a:pt x="5125" y="14126"/>
                  <a:pt x="5060" y="14064"/>
                </a:cubicBezTo>
                <a:cubicBezTo>
                  <a:pt x="5008" y="14014"/>
                  <a:pt x="4895" y="13984"/>
                  <a:pt x="4837" y="14015"/>
                </a:cubicBezTo>
                <a:cubicBezTo>
                  <a:pt x="4753" y="14059"/>
                  <a:pt x="4808" y="14131"/>
                  <a:pt x="4837" y="14188"/>
                </a:cubicBezTo>
              </a:path>
              <a:path w="4813" h="2010">
                <a:moveTo>
                  <a:pt x="5556" y="14436"/>
                </a:moveTo>
                <a:cubicBezTo>
                  <a:pt x="5655" y="14454"/>
                  <a:pt x="5731" y="14461"/>
                  <a:pt x="5829" y="14461"/>
                </a:cubicBezTo>
              </a:path>
              <a:path w="4813" h="2010">
                <a:moveTo>
                  <a:pt x="5655" y="14560"/>
                </a:moveTo>
                <a:cubicBezTo>
                  <a:pt x="5779" y="14596"/>
                  <a:pt x="5828" y="14617"/>
                  <a:pt x="5953" y="14585"/>
                </a:cubicBezTo>
              </a:path>
              <a:path w="4813" h="2010">
                <a:moveTo>
                  <a:pt x="6524" y="13965"/>
                </a:moveTo>
                <a:cubicBezTo>
                  <a:pt x="6440" y="14044"/>
                  <a:pt x="6320" y="14138"/>
                  <a:pt x="6300" y="14263"/>
                </a:cubicBezTo>
                <a:cubicBezTo>
                  <a:pt x="6283" y="14365"/>
                  <a:pt x="6287" y="14515"/>
                  <a:pt x="6325" y="14610"/>
                </a:cubicBezTo>
                <a:cubicBezTo>
                  <a:pt x="6379" y="14746"/>
                  <a:pt x="6445" y="14787"/>
                  <a:pt x="6573" y="14833"/>
                </a:cubicBezTo>
              </a:path>
              <a:path w="4813" h="2010">
                <a:moveTo>
                  <a:pt x="6697" y="14213"/>
                </a:moveTo>
                <a:cubicBezTo>
                  <a:pt x="6741" y="14300"/>
                  <a:pt x="6798" y="14376"/>
                  <a:pt x="6846" y="14461"/>
                </a:cubicBezTo>
                <a:cubicBezTo>
                  <a:pt x="6913" y="14579"/>
                  <a:pt x="6981" y="14658"/>
                  <a:pt x="7094" y="14734"/>
                </a:cubicBezTo>
              </a:path>
              <a:path w="4813" h="2010">
                <a:moveTo>
                  <a:pt x="6995" y="14263"/>
                </a:moveTo>
                <a:cubicBezTo>
                  <a:pt x="6849" y="14383"/>
                  <a:pt x="6780" y="14435"/>
                  <a:pt x="6747" y="14635"/>
                </a:cubicBezTo>
                <a:cubicBezTo>
                  <a:pt x="6747" y="14643"/>
                  <a:pt x="6747" y="14652"/>
                  <a:pt x="6747" y="14660"/>
                </a:cubicBezTo>
              </a:path>
              <a:path w="4813" h="2010">
                <a:moveTo>
                  <a:pt x="7367" y="14213"/>
                </a:moveTo>
                <a:cubicBezTo>
                  <a:pt x="7342" y="14339"/>
                  <a:pt x="7362" y="14412"/>
                  <a:pt x="7367" y="14536"/>
                </a:cubicBezTo>
                <a:cubicBezTo>
                  <a:pt x="7367" y="14594"/>
                  <a:pt x="7367" y="14602"/>
                  <a:pt x="7367" y="14635"/>
                </a:cubicBezTo>
              </a:path>
              <a:path w="4813" h="2010">
                <a:moveTo>
                  <a:pt x="7193" y="14387"/>
                </a:moveTo>
                <a:cubicBezTo>
                  <a:pt x="7276" y="14387"/>
                  <a:pt x="7358" y="14387"/>
                  <a:pt x="7441" y="14387"/>
                </a:cubicBezTo>
              </a:path>
              <a:path w="4813" h="2010">
                <a:moveTo>
                  <a:pt x="7714" y="14188"/>
                </a:moveTo>
                <a:cubicBezTo>
                  <a:pt x="7789" y="14195"/>
                  <a:pt x="7864" y="14200"/>
                  <a:pt x="7888" y="14288"/>
                </a:cubicBezTo>
                <a:cubicBezTo>
                  <a:pt x="7911" y="14373"/>
                  <a:pt x="7840" y="14398"/>
                  <a:pt x="7789" y="14436"/>
                </a:cubicBezTo>
                <a:cubicBezTo>
                  <a:pt x="7734" y="14477"/>
                  <a:pt x="7669" y="14536"/>
                  <a:pt x="7689" y="14610"/>
                </a:cubicBezTo>
                <a:cubicBezTo>
                  <a:pt x="7706" y="14674"/>
                  <a:pt x="7818" y="14660"/>
                  <a:pt x="7863" y="14660"/>
                </a:cubicBezTo>
              </a:path>
              <a:path w="4813" h="2010">
                <a:moveTo>
                  <a:pt x="8062" y="13915"/>
                </a:moveTo>
                <a:cubicBezTo>
                  <a:pt x="8123" y="13993"/>
                  <a:pt x="8159" y="14066"/>
                  <a:pt x="8186" y="14163"/>
                </a:cubicBezTo>
                <a:cubicBezTo>
                  <a:pt x="8215" y="14265"/>
                  <a:pt x="8229" y="14405"/>
                  <a:pt x="8210" y="14511"/>
                </a:cubicBezTo>
                <a:cubicBezTo>
                  <a:pt x="8199" y="14573"/>
                  <a:pt x="8167" y="14648"/>
                  <a:pt x="8111" y="14684"/>
                </a:cubicBezTo>
                <a:cubicBezTo>
                  <a:pt x="8054" y="14721"/>
                  <a:pt x="8004" y="14727"/>
                  <a:pt x="7987" y="14660"/>
                </a:cubicBezTo>
              </a:path>
              <a:path w="4813" h="2010">
                <a:moveTo>
                  <a:pt x="8310" y="13692"/>
                </a:moveTo>
                <a:cubicBezTo>
                  <a:pt x="8398" y="13713"/>
                  <a:pt x="8531" y="13713"/>
                  <a:pt x="8508" y="13841"/>
                </a:cubicBezTo>
                <a:cubicBezTo>
                  <a:pt x="8488" y="13956"/>
                  <a:pt x="8454" y="13900"/>
                  <a:pt x="8409" y="13965"/>
                </a:cubicBezTo>
                <a:cubicBezTo>
                  <a:pt x="8369" y="14023"/>
                  <a:pt x="8403" y="14079"/>
                  <a:pt x="8458" y="14114"/>
                </a:cubicBezTo>
                <a:cubicBezTo>
                  <a:pt x="8521" y="14145"/>
                  <a:pt x="8552" y="14154"/>
                  <a:pt x="8607" y="14139"/>
                </a:cubicBezTo>
              </a:path>
              <a:path w="4813" h="2010">
                <a:moveTo>
                  <a:pt x="8756" y="14436"/>
                </a:moveTo>
                <a:cubicBezTo>
                  <a:pt x="8815" y="14431"/>
                  <a:pt x="8850" y="14423"/>
                  <a:pt x="8905" y="14412"/>
                </a:cubicBezTo>
              </a:path>
              <a:path w="4813" h="2010">
                <a:moveTo>
                  <a:pt x="9153" y="14089"/>
                </a:moveTo>
                <a:cubicBezTo>
                  <a:pt x="9262" y="14073"/>
                  <a:pt x="9306" y="14074"/>
                  <a:pt x="9401" y="14139"/>
                </a:cubicBezTo>
                <a:cubicBezTo>
                  <a:pt x="9456" y="14177"/>
                  <a:pt x="9421" y="14256"/>
                  <a:pt x="9376" y="14288"/>
                </a:cubicBezTo>
                <a:cubicBezTo>
                  <a:pt x="9315" y="14331"/>
                  <a:pt x="9264" y="14324"/>
                  <a:pt x="9203" y="14362"/>
                </a:cubicBezTo>
                <a:cubicBezTo>
                  <a:pt x="9195" y="14370"/>
                  <a:pt x="9186" y="14379"/>
                  <a:pt x="9178" y="14387"/>
                </a:cubicBezTo>
                <a:cubicBezTo>
                  <a:pt x="9224" y="14433"/>
                  <a:pt x="9277" y="14447"/>
                  <a:pt x="9327" y="14486"/>
                </a:cubicBezTo>
                <a:cubicBezTo>
                  <a:pt x="9399" y="14542"/>
                  <a:pt x="9446" y="14566"/>
                  <a:pt x="9451" y="14660"/>
                </a:cubicBezTo>
                <a:cubicBezTo>
                  <a:pt x="9456" y="14754"/>
                  <a:pt x="9456" y="14788"/>
                  <a:pt x="9351" y="14808"/>
                </a:cubicBezTo>
                <a:cubicBezTo>
                  <a:pt x="9271" y="14824"/>
                  <a:pt x="9152" y="14761"/>
                  <a:pt x="9079" y="14734"/>
                </a:cubicBezTo>
              </a:path>
              <a:path w="4813" h="2010">
                <a:moveTo>
                  <a:pt x="8954" y="15032"/>
                </a:moveTo>
                <a:cubicBezTo>
                  <a:pt x="8954" y="15153"/>
                  <a:pt x="8963" y="15262"/>
                  <a:pt x="8979" y="15379"/>
                </a:cubicBezTo>
                <a:cubicBezTo>
                  <a:pt x="8979" y="15420"/>
                  <a:pt x="8979" y="15428"/>
                  <a:pt x="8979" y="15453"/>
                </a:cubicBezTo>
              </a:path>
              <a:path w="4813" h="2010">
                <a:moveTo>
                  <a:pt x="8781" y="15180"/>
                </a:moveTo>
                <a:cubicBezTo>
                  <a:pt x="8839" y="15210"/>
                  <a:pt x="8893" y="15232"/>
                  <a:pt x="8954" y="15255"/>
                </a:cubicBezTo>
              </a:path>
              <a:path w="4813" h="2010">
                <a:moveTo>
                  <a:pt x="9227" y="15056"/>
                </a:moveTo>
                <a:cubicBezTo>
                  <a:pt x="9375" y="15067"/>
                  <a:pt x="9384" y="15089"/>
                  <a:pt x="9475" y="15205"/>
                </a:cubicBezTo>
                <a:cubicBezTo>
                  <a:pt x="9536" y="15283"/>
                  <a:pt x="9483" y="15287"/>
                  <a:pt x="9426" y="15280"/>
                </a:cubicBezTo>
                <a:cubicBezTo>
                  <a:pt x="9409" y="15280"/>
                  <a:pt x="9393" y="15280"/>
                  <a:pt x="9376" y="15280"/>
                </a:cubicBezTo>
                <a:cubicBezTo>
                  <a:pt x="9368" y="15288"/>
                  <a:pt x="9359" y="15296"/>
                  <a:pt x="9351" y="15304"/>
                </a:cubicBezTo>
                <a:cubicBezTo>
                  <a:pt x="9361" y="15383"/>
                  <a:pt x="9387" y="15392"/>
                  <a:pt x="9426" y="15453"/>
                </a:cubicBezTo>
                <a:cubicBezTo>
                  <a:pt x="9464" y="15511"/>
                  <a:pt x="9518" y="15606"/>
                  <a:pt x="9500" y="15677"/>
                </a:cubicBezTo>
                <a:cubicBezTo>
                  <a:pt x="9484" y="15739"/>
                  <a:pt x="9356" y="15690"/>
                  <a:pt x="9327" y="15677"/>
                </a:cubicBezTo>
                <a:cubicBezTo>
                  <a:pt x="9259" y="15647"/>
                  <a:pt x="9194" y="15610"/>
                  <a:pt x="9128" y="155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7"/>
          <p:cNvSpPr/>
          <p:nvPr/>
        </p:nvSpPr>
        <p:spPr>
          <a:xfrm>
            <a:off x="5946840" y="5268960"/>
            <a:ext cx="1403280" cy="660240"/>
          </a:xfrm>
          <a:custGeom>
            <a:avLst/>
            <a:gdLst/>
            <a:ahLst/>
            <a:rect l="l" t="t" r="r" b="b"/>
            <a:pathLst>
              <a:path w="3895" h="1836">
                <a:moveTo>
                  <a:pt x="16768" y="14635"/>
                </a:moveTo>
                <a:cubicBezTo>
                  <a:pt x="16663" y="14813"/>
                  <a:pt x="16612" y="14952"/>
                  <a:pt x="16570" y="15156"/>
                </a:cubicBezTo>
                <a:cubicBezTo>
                  <a:pt x="16533" y="15333"/>
                  <a:pt x="16500" y="15519"/>
                  <a:pt x="16520" y="15701"/>
                </a:cubicBezTo>
                <a:cubicBezTo>
                  <a:pt x="16535" y="15838"/>
                  <a:pt x="16571" y="15888"/>
                  <a:pt x="16644" y="15999"/>
                </a:cubicBezTo>
              </a:path>
              <a:path w="3895" h="1836">
                <a:moveTo>
                  <a:pt x="16966" y="15329"/>
                </a:moveTo>
                <a:cubicBezTo>
                  <a:pt x="17063" y="15329"/>
                  <a:pt x="17144" y="15351"/>
                  <a:pt x="17239" y="15354"/>
                </a:cubicBezTo>
                <a:cubicBezTo>
                  <a:pt x="17333" y="15357"/>
                  <a:pt x="17375" y="15353"/>
                  <a:pt x="17462" y="15329"/>
                </a:cubicBezTo>
              </a:path>
              <a:path w="3895" h="1836">
                <a:moveTo>
                  <a:pt x="17537" y="15156"/>
                </a:moveTo>
                <a:cubicBezTo>
                  <a:pt x="17629" y="15189"/>
                  <a:pt x="17700" y="15221"/>
                  <a:pt x="17760" y="15304"/>
                </a:cubicBezTo>
                <a:cubicBezTo>
                  <a:pt x="17802" y="15363"/>
                  <a:pt x="17800" y="15469"/>
                  <a:pt x="17760" y="15528"/>
                </a:cubicBezTo>
                <a:cubicBezTo>
                  <a:pt x="17714" y="15595"/>
                  <a:pt x="17637" y="15644"/>
                  <a:pt x="17587" y="15701"/>
                </a:cubicBezTo>
                <a:cubicBezTo>
                  <a:pt x="17537" y="15758"/>
                  <a:pt x="17475" y="15838"/>
                  <a:pt x="17562" y="15900"/>
                </a:cubicBezTo>
                <a:cubicBezTo>
                  <a:pt x="17656" y="15966"/>
                  <a:pt x="17686" y="15934"/>
                  <a:pt x="17785" y="15925"/>
                </a:cubicBezTo>
              </a:path>
              <a:path w="3895" h="1836">
                <a:moveTo>
                  <a:pt x="17959" y="15627"/>
                </a:moveTo>
                <a:cubicBezTo>
                  <a:pt x="18126" y="15627"/>
                  <a:pt x="18150" y="15652"/>
                  <a:pt x="18231" y="15602"/>
                </a:cubicBezTo>
              </a:path>
              <a:path w="3895" h="1836">
                <a:moveTo>
                  <a:pt x="18479" y="15304"/>
                </a:moveTo>
                <a:cubicBezTo>
                  <a:pt x="18539" y="15443"/>
                  <a:pt x="18529" y="15519"/>
                  <a:pt x="18529" y="15677"/>
                </a:cubicBezTo>
                <a:cubicBezTo>
                  <a:pt x="18529" y="15769"/>
                  <a:pt x="18554" y="16041"/>
                  <a:pt x="18554" y="15949"/>
                </a:cubicBezTo>
                <a:cubicBezTo>
                  <a:pt x="18554" y="15856"/>
                  <a:pt x="18513" y="15768"/>
                  <a:pt x="18504" y="15677"/>
                </a:cubicBezTo>
                <a:cubicBezTo>
                  <a:pt x="18493" y="15556"/>
                  <a:pt x="18467" y="15313"/>
                  <a:pt x="18529" y="15205"/>
                </a:cubicBezTo>
                <a:cubicBezTo>
                  <a:pt x="18564" y="15144"/>
                  <a:pt x="18669" y="15144"/>
                  <a:pt x="18728" y="15156"/>
                </a:cubicBezTo>
                <a:cubicBezTo>
                  <a:pt x="18821" y="15175"/>
                  <a:pt x="18910" y="15211"/>
                  <a:pt x="19000" y="15230"/>
                </a:cubicBezTo>
                <a:cubicBezTo>
                  <a:pt x="19042" y="15230"/>
                  <a:pt x="19050" y="15230"/>
                  <a:pt x="19075" y="15230"/>
                </a:cubicBezTo>
              </a:path>
              <a:path w="3895" h="1836">
                <a:moveTo>
                  <a:pt x="18876" y="15329"/>
                </a:moveTo>
                <a:cubicBezTo>
                  <a:pt x="18923" y="15376"/>
                  <a:pt x="18971" y="15392"/>
                  <a:pt x="19025" y="15429"/>
                </a:cubicBezTo>
                <a:cubicBezTo>
                  <a:pt x="19090" y="15473"/>
                  <a:pt x="19114" y="15477"/>
                  <a:pt x="19124" y="15553"/>
                </a:cubicBezTo>
                <a:cubicBezTo>
                  <a:pt x="19078" y="15580"/>
                  <a:pt x="19032" y="15599"/>
                  <a:pt x="18976" y="15602"/>
                </a:cubicBezTo>
                <a:cubicBezTo>
                  <a:pt x="18959" y="15602"/>
                  <a:pt x="18943" y="15602"/>
                  <a:pt x="18926" y="15602"/>
                </a:cubicBezTo>
                <a:cubicBezTo>
                  <a:pt x="18948" y="15699"/>
                  <a:pt x="19007" y="15742"/>
                  <a:pt x="19050" y="15825"/>
                </a:cubicBezTo>
                <a:cubicBezTo>
                  <a:pt x="19088" y="15897"/>
                  <a:pt x="19083" y="15962"/>
                  <a:pt x="19050" y="16024"/>
                </a:cubicBezTo>
                <a:cubicBezTo>
                  <a:pt x="19014" y="16091"/>
                  <a:pt x="18940" y="16096"/>
                  <a:pt x="18876" y="16049"/>
                </a:cubicBezTo>
                <a:cubicBezTo>
                  <a:pt x="18804" y="15996"/>
                  <a:pt x="18843" y="15959"/>
                  <a:pt x="18876" y="15900"/>
                </a:cubicBezTo>
              </a:path>
              <a:path w="3895" h="1836">
                <a:moveTo>
                  <a:pt x="19323" y="16098"/>
                </a:moveTo>
                <a:cubicBezTo>
                  <a:pt x="19311" y="16150"/>
                  <a:pt x="19239" y="16360"/>
                  <a:pt x="19273" y="16446"/>
                </a:cubicBezTo>
                <a:cubicBezTo>
                  <a:pt x="19281" y="16454"/>
                  <a:pt x="19290" y="16462"/>
                  <a:pt x="19298" y="16470"/>
                </a:cubicBezTo>
              </a:path>
              <a:path w="3895" h="1836">
                <a:moveTo>
                  <a:pt x="19745" y="15553"/>
                </a:moveTo>
                <a:cubicBezTo>
                  <a:pt x="19704" y="15722"/>
                  <a:pt x="19693" y="15774"/>
                  <a:pt x="19769" y="15925"/>
                </a:cubicBezTo>
                <a:cubicBezTo>
                  <a:pt x="19805" y="15997"/>
                  <a:pt x="19823" y="16006"/>
                  <a:pt x="19893" y="16024"/>
                </a:cubicBezTo>
                <a:cubicBezTo>
                  <a:pt x="19957" y="15816"/>
                  <a:pt x="19923" y="15685"/>
                  <a:pt x="19844" y="15478"/>
                </a:cubicBezTo>
                <a:cubicBezTo>
                  <a:pt x="19819" y="15413"/>
                  <a:pt x="19804" y="15421"/>
                  <a:pt x="19794" y="15354"/>
                </a:cubicBezTo>
              </a:path>
              <a:path w="3895" h="1836">
                <a:moveTo>
                  <a:pt x="20191" y="15056"/>
                </a:moveTo>
                <a:cubicBezTo>
                  <a:pt x="20306" y="15277"/>
                  <a:pt x="20387" y="15500"/>
                  <a:pt x="20414" y="15751"/>
                </a:cubicBezTo>
                <a:cubicBezTo>
                  <a:pt x="20445" y="16035"/>
                  <a:pt x="20366" y="16169"/>
                  <a:pt x="20191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8"/>
          <p:cNvSpPr/>
          <p:nvPr/>
        </p:nvSpPr>
        <p:spPr>
          <a:xfrm>
            <a:off x="6786720" y="3990960"/>
            <a:ext cx="758520" cy="420840"/>
          </a:xfrm>
          <a:custGeom>
            <a:avLst/>
            <a:gdLst/>
            <a:ahLst/>
            <a:rect l="l" t="t" r="r" b="b"/>
            <a:pathLst>
              <a:path w="2109" h="1167">
                <a:moveTo>
                  <a:pt x="18876" y="11162"/>
                </a:moveTo>
                <a:cubicBezTo>
                  <a:pt x="18969" y="11103"/>
                  <a:pt x="19034" y="11067"/>
                  <a:pt x="19149" y="11088"/>
                </a:cubicBezTo>
                <a:cubicBezTo>
                  <a:pt x="19252" y="11106"/>
                  <a:pt x="19334" y="11218"/>
                  <a:pt x="19372" y="11311"/>
                </a:cubicBezTo>
                <a:cubicBezTo>
                  <a:pt x="19420" y="11429"/>
                  <a:pt x="19408" y="11619"/>
                  <a:pt x="19348" y="11733"/>
                </a:cubicBezTo>
                <a:cubicBezTo>
                  <a:pt x="19281" y="11860"/>
                  <a:pt x="19162" y="11945"/>
                  <a:pt x="19025" y="11981"/>
                </a:cubicBezTo>
                <a:cubicBezTo>
                  <a:pt x="18938" y="12004"/>
                  <a:pt x="18868" y="11905"/>
                  <a:pt x="18852" y="11832"/>
                </a:cubicBezTo>
                <a:cubicBezTo>
                  <a:pt x="18841" y="11780"/>
                  <a:pt x="18853" y="11747"/>
                  <a:pt x="18876" y="11708"/>
                </a:cubicBezTo>
                <a:cubicBezTo>
                  <a:pt x="18967" y="11685"/>
                  <a:pt x="19060" y="11726"/>
                  <a:pt x="19149" y="11782"/>
                </a:cubicBezTo>
                <a:cubicBezTo>
                  <a:pt x="19281" y="11866"/>
                  <a:pt x="19380" y="11989"/>
                  <a:pt x="19521" y="12055"/>
                </a:cubicBezTo>
                <a:cubicBezTo>
                  <a:pt x="19546" y="12063"/>
                  <a:pt x="19571" y="12072"/>
                  <a:pt x="19596" y="12080"/>
                </a:cubicBezTo>
              </a:path>
              <a:path w="2109" h="1167">
                <a:moveTo>
                  <a:pt x="19869" y="11187"/>
                </a:moveTo>
                <a:cubicBezTo>
                  <a:pt x="19816" y="11322"/>
                  <a:pt x="19753" y="11441"/>
                  <a:pt x="19745" y="11584"/>
                </a:cubicBezTo>
                <a:cubicBezTo>
                  <a:pt x="19737" y="11736"/>
                  <a:pt x="19795" y="11842"/>
                  <a:pt x="19893" y="11956"/>
                </a:cubicBezTo>
                <a:cubicBezTo>
                  <a:pt x="19962" y="12024"/>
                  <a:pt x="19978" y="12045"/>
                  <a:pt x="20042" y="12055"/>
                </a:cubicBezTo>
              </a:path>
              <a:path w="2109" h="1167">
                <a:moveTo>
                  <a:pt x="20340" y="11410"/>
                </a:moveTo>
                <a:cubicBezTo>
                  <a:pt x="20323" y="11615"/>
                  <a:pt x="20291" y="11747"/>
                  <a:pt x="20365" y="11931"/>
                </a:cubicBezTo>
                <a:cubicBezTo>
                  <a:pt x="20373" y="11948"/>
                  <a:pt x="20381" y="11964"/>
                  <a:pt x="20389" y="11981"/>
                </a:cubicBezTo>
              </a:path>
              <a:path w="2109" h="1167">
                <a:moveTo>
                  <a:pt x="20737" y="11162"/>
                </a:moveTo>
                <a:cubicBezTo>
                  <a:pt x="20846" y="11391"/>
                  <a:pt x="20960" y="11620"/>
                  <a:pt x="20960" y="11881"/>
                </a:cubicBezTo>
                <a:cubicBezTo>
                  <a:pt x="20960" y="12056"/>
                  <a:pt x="20887" y="12131"/>
                  <a:pt x="20786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9"/>
          <p:cNvSpPr/>
          <p:nvPr/>
        </p:nvSpPr>
        <p:spPr>
          <a:xfrm>
            <a:off x="1465200" y="4956120"/>
            <a:ext cx="4000680" cy="1204920"/>
          </a:xfrm>
          <a:custGeom>
            <a:avLst/>
            <a:gdLst/>
            <a:ahLst/>
            <a:rect l="l" t="t" r="r" b="b"/>
            <a:pathLst>
              <a:path w="11113" h="3349">
                <a:moveTo>
                  <a:pt x="4936" y="16446"/>
                </a:moveTo>
                <a:cubicBezTo>
                  <a:pt x="4987" y="16485"/>
                  <a:pt x="5035" y="16493"/>
                  <a:pt x="5085" y="16520"/>
                </a:cubicBezTo>
                <a:cubicBezTo>
                  <a:pt x="5130" y="16544"/>
                  <a:pt x="5185" y="16619"/>
                  <a:pt x="5135" y="16669"/>
                </a:cubicBezTo>
                <a:cubicBezTo>
                  <a:pt x="5096" y="16708"/>
                  <a:pt x="5034" y="16694"/>
                  <a:pt x="4986" y="16694"/>
                </a:cubicBezTo>
                <a:cubicBezTo>
                  <a:pt x="5015" y="16730"/>
                  <a:pt x="5076" y="16795"/>
                  <a:pt x="5085" y="16842"/>
                </a:cubicBezTo>
                <a:cubicBezTo>
                  <a:pt x="5100" y="16922"/>
                  <a:pt x="5048" y="17001"/>
                  <a:pt x="4986" y="17041"/>
                </a:cubicBezTo>
                <a:cubicBezTo>
                  <a:pt x="4905" y="17094"/>
                  <a:pt x="4887" y="17073"/>
                  <a:pt x="4887" y="16991"/>
                </a:cubicBezTo>
              </a:path>
              <a:path w="11113" h="3349">
                <a:moveTo>
                  <a:pt x="5383" y="16669"/>
                </a:moveTo>
                <a:cubicBezTo>
                  <a:pt x="5471" y="16651"/>
                  <a:pt x="5547" y="16629"/>
                  <a:pt x="5631" y="16619"/>
                </a:cubicBezTo>
              </a:path>
              <a:path w="11113" h="3349">
                <a:moveTo>
                  <a:pt x="5531" y="16793"/>
                </a:moveTo>
                <a:cubicBezTo>
                  <a:pt x="5624" y="16885"/>
                  <a:pt x="5649" y="16878"/>
                  <a:pt x="5779" y="16842"/>
                </a:cubicBezTo>
              </a:path>
              <a:path w="11113" h="3349">
                <a:moveTo>
                  <a:pt x="6251" y="16123"/>
                </a:moveTo>
                <a:cubicBezTo>
                  <a:pt x="6146" y="16300"/>
                  <a:pt x="6073" y="16388"/>
                  <a:pt x="6102" y="16594"/>
                </a:cubicBezTo>
                <a:cubicBezTo>
                  <a:pt x="6118" y="16707"/>
                  <a:pt x="6159" y="16806"/>
                  <a:pt x="6226" y="16892"/>
                </a:cubicBezTo>
              </a:path>
              <a:path w="11113" h="3349">
                <a:moveTo>
                  <a:pt x="6449" y="16421"/>
                </a:moveTo>
                <a:cubicBezTo>
                  <a:pt x="6460" y="16535"/>
                  <a:pt x="6505" y="16609"/>
                  <a:pt x="6548" y="16718"/>
                </a:cubicBezTo>
                <a:cubicBezTo>
                  <a:pt x="6595" y="16835"/>
                  <a:pt x="6624" y="16857"/>
                  <a:pt x="6722" y="16942"/>
                </a:cubicBezTo>
              </a:path>
              <a:path w="11113" h="3349">
                <a:moveTo>
                  <a:pt x="6672" y="16421"/>
                </a:moveTo>
                <a:cubicBezTo>
                  <a:pt x="6587" y="16506"/>
                  <a:pt x="6525" y="16563"/>
                  <a:pt x="6474" y="16669"/>
                </a:cubicBezTo>
                <a:cubicBezTo>
                  <a:pt x="6454" y="16709"/>
                  <a:pt x="6445" y="16715"/>
                  <a:pt x="6449" y="16743"/>
                </a:cubicBezTo>
              </a:path>
              <a:path w="11113" h="3349">
                <a:moveTo>
                  <a:pt x="6921" y="16396"/>
                </a:moveTo>
                <a:cubicBezTo>
                  <a:pt x="6921" y="16514"/>
                  <a:pt x="6895" y="16690"/>
                  <a:pt x="6945" y="16793"/>
                </a:cubicBezTo>
              </a:path>
              <a:path w="11113" h="3349">
                <a:moveTo>
                  <a:pt x="6846" y="16619"/>
                </a:moveTo>
                <a:cubicBezTo>
                  <a:pt x="6994" y="16663"/>
                  <a:pt x="6949" y="16659"/>
                  <a:pt x="7069" y="16644"/>
                </a:cubicBezTo>
              </a:path>
              <a:path w="11113" h="3349">
                <a:moveTo>
                  <a:pt x="7268" y="16421"/>
                </a:moveTo>
                <a:cubicBezTo>
                  <a:pt x="7348" y="16432"/>
                  <a:pt x="7451" y="16449"/>
                  <a:pt x="7491" y="16545"/>
                </a:cubicBezTo>
                <a:cubicBezTo>
                  <a:pt x="7516" y="16606"/>
                  <a:pt x="7479" y="16675"/>
                  <a:pt x="7441" y="16718"/>
                </a:cubicBezTo>
                <a:cubicBezTo>
                  <a:pt x="7399" y="16765"/>
                  <a:pt x="7370" y="16807"/>
                  <a:pt x="7367" y="16867"/>
                </a:cubicBezTo>
                <a:cubicBezTo>
                  <a:pt x="7363" y="16948"/>
                  <a:pt x="7395" y="17008"/>
                  <a:pt x="7491" y="16991"/>
                </a:cubicBezTo>
                <a:cubicBezTo>
                  <a:pt x="7516" y="16983"/>
                  <a:pt x="7540" y="16974"/>
                  <a:pt x="7565" y="16966"/>
                </a:cubicBezTo>
              </a:path>
              <a:path w="11113" h="3349">
                <a:moveTo>
                  <a:pt x="7789" y="16123"/>
                </a:moveTo>
                <a:cubicBezTo>
                  <a:pt x="7847" y="16197"/>
                  <a:pt x="7899" y="16275"/>
                  <a:pt x="7913" y="16371"/>
                </a:cubicBezTo>
                <a:cubicBezTo>
                  <a:pt x="7932" y="16501"/>
                  <a:pt x="7938" y="16638"/>
                  <a:pt x="7913" y="16768"/>
                </a:cubicBezTo>
                <a:cubicBezTo>
                  <a:pt x="7900" y="16833"/>
                  <a:pt x="7831" y="16947"/>
                  <a:pt x="7764" y="16966"/>
                </a:cubicBezTo>
                <a:cubicBezTo>
                  <a:pt x="7719" y="16966"/>
                  <a:pt x="7706" y="16970"/>
                  <a:pt x="7689" y="16942"/>
                </a:cubicBezTo>
              </a:path>
              <a:path w="11113" h="3349">
                <a:moveTo>
                  <a:pt x="8111" y="16024"/>
                </a:moveTo>
                <a:cubicBezTo>
                  <a:pt x="8179" y="16058"/>
                  <a:pt x="8322" y="16103"/>
                  <a:pt x="8285" y="16222"/>
                </a:cubicBezTo>
                <a:cubicBezTo>
                  <a:pt x="8273" y="16260"/>
                  <a:pt x="8217" y="16311"/>
                  <a:pt x="8210" y="16346"/>
                </a:cubicBezTo>
                <a:cubicBezTo>
                  <a:pt x="8195" y="16416"/>
                  <a:pt x="8246" y="16468"/>
                  <a:pt x="8285" y="16520"/>
                </a:cubicBezTo>
                <a:cubicBezTo>
                  <a:pt x="8320" y="16567"/>
                  <a:pt x="8358" y="16564"/>
                  <a:pt x="8409" y="16570"/>
                </a:cubicBezTo>
              </a:path>
              <a:path w="11113" h="3349">
                <a:moveTo>
                  <a:pt x="5854" y="16470"/>
                </a:moveTo>
                <a:cubicBezTo>
                  <a:pt x="5892" y="16546"/>
                  <a:pt x="5940" y="16633"/>
                  <a:pt x="5953" y="16718"/>
                </a:cubicBezTo>
                <a:cubicBezTo>
                  <a:pt x="5964" y="16796"/>
                  <a:pt x="5979" y="16850"/>
                  <a:pt x="6003" y="16917"/>
                </a:cubicBezTo>
                <a:cubicBezTo>
                  <a:pt x="6003" y="16805"/>
                  <a:pt x="6017" y="16704"/>
                  <a:pt x="6028" y="16594"/>
                </a:cubicBezTo>
                <a:cubicBezTo>
                  <a:pt x="6039" y="16478"/>
                  <a:pt x="6029" y="16361"/>
                  <a:pt x="6052" y="16247"/>
                </a:cubicBezTo>
                <a:cubicBezTo>
                  <a:pt x="6069" y="16160"/>
                  <a:pt x="6093" y="16053"/>
                  <a:pt x="6127" y="15974"/>
                </a:cubicBezTo>
                <a:cubicBezTo>
                  <a:pt x="6161" y="15894"/>
                  <a:pt x="6223" y="15857"/>
                  <a:pt x="6300" y="15825"/>
                </a:cubicBezTo>
                <a:cubicBezTo>
                  <a:pt x="6426" y="15772"/>
                  <a:pt x="6559" y="15759"/>
                  <a:pt x="6697" y="15776"/>
                </a:cubicBezTo>
                <a:cubicBezTo>
                  <a:pt x="6870" y="15797"/>
                  <a:pt x="7046" y="15803"/>
                  <a:pt x="7218" y="15825"/>
                </a:cubicBezTo>
                <a:cubicBezTo>
                  <a:pt x="7398" y="15849"/>
                  <a:pt x="7585" y="15874"/>
                  <a:pt x="7764" y="15900"/>
                </a:cubicBezTo>
                <a:cubicBezTo>
                  <a:pt x="7910" y="15921"/>
                  <a:pt x="8019" y="15913"/>
                  <a:pt x="8161" y="15900"/>
                </a:cubicBezTo>
                <a:cubicBezTo>
                  <a:pt x="8249" y="15892"/>
                  <a:pt x="8267" y="15920"/>
                  <a:pt x="8260" y="15850"/>
                </a:cubicBezTo>
                <a:cubicBezTo>
                  <a:pt x="8252" y="15842"/>
                  <a:pt x="8243" y="15833"/>
                  <a:pt x="8235" y="15825"/>
                </a:cubicBezTo>
              </a:path>
              <a:path w="11113" h="3349">
                <a:moveTo>
                  <a:pt x="4242" y="16173"/>
                </a:moveTo>
                <a:cubicBezTo>
                  <a:pt x="4242" y="16251"/>
                  <a:pt x="4234" y="16303"/>
                  <a:pt x="4242" y="16371"/>
                </a:cubicBezTo>
                <a:cubicBezTo>
                  <a:pt x="4246" y="16411"/>
                  <a:pt x="4242" y="16455"/>
                  <a:pt x="4242" y="16495"/>
                </a:cubicBezTo>
              </a:path>
              <a:path w="11113" h="3349">
                <a:moveTo>
                  <a:pt x="4068" y="16321"/>
                </a:moveTo>
                <a:cubicBezTo>
                  <a:pt x="4217" y="16378"/>
                  <a:pt x="4237" y="16379"/>
                  <a:pt x="4316" y="16421"/>
                </a:cubicBezTo>
              </a:path>
              <a:path w="11113" h="3349">
                <a:moveTo>
                  <a:pt x="4093" y="16619"/>
                </a:moveTo>
                <a:cubicBezTo>
                  <a:pt x="4211" y="16717"/>
                  <a:pt x="4221" y="16759"/>
                  <a:pt x="4316" y="16743"/>
                </a:cubicBezTo>
              </a:path>
              <a:path w="11113" h="3349">
                <a:moveTo>
                  <a:pt x="4539" y="16818"/>
                </a:moveTo>
                <a:cubicBezTo>
                  <a:pt x="4539" y="16917"/>
                  <a:pt x="4539" y="17016"/>
                  <a:pt x="4539" y="17115"/>
                </a:cubicBezTo>
                <a:cubicBezTo>
                  <a:pt x="4539" y="17011"/>
                  <a:pt x="4553" y="16918"/>
                  <a:pt x="4564" y="16818"/>
                </a:cubicBezTo>
                <a:cubicBezTo>
                  <a:pt x="4578" y="16694"/>
                  <a:pt x="4595" y="16566"/>
                  <a:pt x="4638" y="16446"/>
                </a:cubicBezTo>
                <a:cubicBezTo>
                  <a:pt x="4660" y="16384"/>
                  <a:pt x="4659" y="16326"/>
                  <a:pt x="4688" y="16272"/>
                </a:cubicBezTo>
                <a:cubicBezTo>
                  <a:pt x="4738" y="16179"/>
                  <a:pt x="4781" y="16236"/>
                  <a:pt x="4862" y="16247"/>
                </a:cubicBezTo>
                <a:cubicBezTo>
                  <a:pt x="4946" y="16258"/>
                  <a:pt x="5027" y="16277"/>
                  <a:pt x="5110" y="16297"/>
                </a:cubicBezTo>
                <a:cubicBezTo>
                  <a:pt x="5178" y="16314"/>
                  <a:pt x="5214" y="16321"/>
                  <a:pt x="5283" y="16321"/>
                </a:cubicBezTo>
              </a:path>
              <a:path w="11113" h="3349">
                <a:moveTo>
                  <a:pt x="8830" y="16545"/>
                </a:moveTo>
                <a:cubicBezTo>
                  <a:pt x="8935" y="16545"/>
                  <a:pt x="9027" y="16545"/>
                  <a:pt x="9128" y="16520"/>
                </a:cubicBezTo>
                <a:cubicBezTo>
                  <a:pt x="9257" y="16488"/>
                  <a:pt x="9380" y="16453"/>
                  <a:pt x="9500" y="16396"/>
                </a:cubicBezTo>
                <a:cubicBezTo>
                  <a:pt x="9641" y="16329"/>
                  <a:pt x="9800" y="16223"/>
                  <a:pt x="9897" y="16098"/>
                </a:cubicBezTo>
                <a:cubicBezTo>
                  <a:pt x="10015" y="15945"/>
                  <a:pt x="10145" y="15767"/>
                  <a:pt x="10244" y="15602"/>
                </a:cubicBezTo>
                <a:cubicBezTo>
                  <a:pt x="10345" y="15434"/>
                  <a:pt x="10447" y="15239"/>
                  <a:pt x="10517" y="15056"/>
                </a:cubicBezTo>
                <a:cubicBezTo>
                  <a:pt x="10574" y="14906"/>
                  <a:pt x="10650" y="14778"/>
                  <a:pt x="10716" y="14635"/>
                </a:cubicBezTo>
                <a:cubicBezTo>
                  <a:pt x="10731" y="14601"/>
                  <a:pt x="10812" y="14467"/>
                  <a:pt x="10815" y="14436"/>
                </a:cubicBezTo>
                <a:cubicBezTo>
                  <a:pt x="10815" y="14392"/>
                  <a:pt x="10818" y="14378"/>
                  <a:pt x="10790" y="14362"/>
                </a:cubicBezTo>
              </a:path>
              <a:path w="11113" h="3349">
                <a:moveTo>
                  <a:pt x="10393" y="14412"/>
                </a:moveTo>
                <a:cubicBezTo>
                  <a:pt x="10492" y="14400"/>
                  <a:pt x="10500" y="14366"/>
                  <a:pt x="10567" y="14312"/>
                </a:cubicBezTo>
                <a:cubicBezTo>
                  <a:pt x="10628" y="14263"/>
                  <a:pt x="10664" y="14221"/>
                  <a:pt x="10716" y="14163"/>
                </a:cubicBezTo>
                <a:cubicBezTo>
                  <a:pt x="10784" y="14088"/>
                  <a:pt x="10864" y="14190"/>
                  <a:pt x="10914" y="14238"/>
                </a:cubicBezTo>
                <a:cubicBezTo>
                  <a:pt x="10989" y="14313"/>
                  <a:pt x="11030" y="14354"/>
                  <a:pt x="11088" y="14412"/>
                </a:cubicBezTo>
              </a:path>
              <a:path w="11113" h="3349">
                <a:moveTo>
                  <a:pt x="11633" y="13866"/>
                </a:moveTo>
                <a:cubicBezTo>
                  <a:pt x="11662" y="13943"/>
                  <a:pt x="11658" y="14004"/>
                  <a:pt x="11658" y="14089"/>
                </a:cubicBezTo>
                <a:cubicBezTo>
                  <a:pt x="11658" y="14166"/>
                  <a:pt x="11683" y="14233"/>
                  <a:pt x="11683" y="14312"/>
                </a:cubicBezTo>
              </a:path>
              <a:path w="11113" h="3349">
                <a:moveTo>
                  <a:pt x="11460" y="14039"/>
                </a:moveTo>
                <a:cubicBezTo>
                  <a:pt x="11560" y="14039"/>
                  <a:pt x="11638" y="14050"/>
                  <a:pt x="11733" y="14064"/>
                </a:cubicBezTo>
                <a:cubicBezTo>
                  <a:pt x="11782" y="14064"/>
                  <a:pt x="11799" y="14064"/>
                  <a:pt x="11832" y="14064"/>
                </a:cubicBezTo>
              </a:path>
              <a:path w="11113" h="3349">
                <a:moveTo>
                  <a:pt x="11609" y="14337"/>
                </a:moveTo>
                <a:cubicBezTo>
                  <a:pt x="11725" y="14376"/>
                  <a:pt x="11745" y="14408"/>
                  <a:pt x="11807" y="14362"/>
                </a:cubicBezTo>
              </a:path>
              <a:path w="11113" h="3349">
                <a:moveTo>
                  <a:pt x="12129" y="13940"/>
                </a:moveTo>
                <a:cubicBezTo>
                  <a:pt x="12146" y="14052"/>
                  <a:pt x="12134" y="14179"/>
                  <a:pt x="12154" y="14288"/>
                </a:cubicBezTo>
                <a:cubicBezTo>
                  <a:pt x="12166" y="14355"/>
                  <a:pt x="12155" y="14475"/>
                  <a:pt x="12179" y="14536"/>
                </a:cubicBezTo>
                <a:cubicBezTo>
                  <a:pt x="12187" y="14544"/>
                  <a:pt x="12196" y="14552"/>
                  <a:pt x="12204" y="14560"/>
                </a:cubicBezTo>
                <a:cubicBezTo>
                  <a:pt x="12204" y="14382"/>
                  <a:pt x="12203" y="14212"/>
                  <a:pt x="12179" y="14039"/>
                </a:cubicBezTo>
                <a:cubicBezTo>
                  <a:pt x="12172" y="13986"/>
                  <a:pt x="12201" y="13886"/>
                  <a:pt x="12229" y="13841"/>
                </a:cubicBezTo>
                <a:cubicBezTo>
                  <a:pt x="12264" y="13785"/>
                  <a:pt x="12317" y="13770"/>
                  <a:pt x="12378" y="13767"/>
                </a:cubicBezTo>
                <a:cubicBezTo>
                  <a:pt x="12460" y="13763"/>
                  <a:pt x="12544" y="13767"/>
                  <a:pt x="12626" y="13767"/>
                </a:cubicBezTo>
              </a:path>
              <a:path w="11113" h="3349">
                <a:moveTo>
                  <a:pt x="12427" y="14064"/>
                </a:moveTo>
                <a:cubicBezTo>
                  <a:pt x="12481" y="14037"/>
                  <a:pt x="12623" y="13961"/>
                  <a:pt x="12675" y="14039"/>
                </a:cubicBezTo>
                <a:cubicBezTo>
                  <a:pt x="12742" y="14140"/>
                  <a:pt x="12574" y="14212"/>
                  <a:pt x="12526" y="14238"/>
                </a:cubicBezTo>
                <a:cubicBezTo>
                  <a:pt x="12591" y="14290"/>
                  <a:pt x="12661" y="14307"/>
                  <a:pt x="12725" y="14362"/>
                </a:cubicBezTo>
                <a:cubicBezTo>
                  <a:pt x="12782" y="14411"/>
                  <a:pt x="12740" y="14488"/>
                  <a:pt x="12700" y="14536"/>
                </a:cubicBezTo>
                <a:cubicBezTo>
                  <a:pt x="12656" y="14589"/>
                  <a:pt x="12579" y="14586"/>
                  <a:pt x="12526" y="14560"/>
                </a:cubicBezTo>
                <a:cubicBezTo>
                  <a:pt x="12488" y="14541"/>
                  <a:pt x="12484" y="14495"/>
                  <a:pt x="12477" y="14461"/>
                </a:cubicBezTo>
              </a:path>
              <a:path w="11113" h="3349">
                <a:moveTo>
                  <a:pt x="13072" y="14163"/>
                </a:moveTo>
                <a:cubicBezTo>
                  <a:pt x="13147" y="14147"/>
                  <a:pt x="13207" y="14130"/>
                  <a:pt x="13271" y="14114"/>
                </a:cubicBezTo>
              </a:path>
              <a:path w="11113" h="3349">
                <a:moveTo>
                  <a:pt x="13171" y="14412"/>
                </a:moveTo>
                <a:cubicBezTo>
                  <a:pt x="13283" y="14426"/>
                  <a:pt x="13295" y="14431"/>
                  <a:pt x="13395" y="14387"/>
                </a:cubicBezTo>
              </a:path>
              <a:path w="11113" h="3349">
                <a:moveTo>
                  <a:pt x="13568" y="14015"/>
                </a:moveTo>
                <a:cubicBezTo>
                  <a:pt x="13671" y="14105"/>
                  <a:pt x="13703" y="14230"/>
                  <a:pt x="13791" y="14337"/>
                </a:cubicBezTo>
                <a:cubicBezTo>
                  <a:pt x="13847" y="14405"/>
                  <a:pt x="13907" y="14470"/>
                  <a:pt x="13965" y="14536"/>
                </a:cubicBezTo>
              </a:path>
              <a:path w="11113" h="3349">
                <a:moveTo>
                  <a:pt x="13990" y="13940"/>
                </a:moveTo>
                <a:cubicBezTo>
                  <a:pt x="13870" y="14069"/>
                  <a:pt x="13760" y="14210"/>
                  <a:pt x="13667" y="14362"/>
                </a:cubicBezTo>
                <a:cubicBezTo>
                  <a:pt x="13623" y="14433"/>
                  <a:pt x="13571" y="14540"/>
                  <a:pt x="13543" y="14610"/>
                </a:cubicBezTo>
              </a:path>
              <a:path w="11113" h="3349">
                <a:moveTo>
                  <a:pt x="14288" y="14064"/>
                </a:moveTo>
                <a:cubicBezTo>
                  <a:pt x="14288" y="14150"/>
                  <a:pt x="14298" y="14281"/>
                  <a:pt x="14263" y="14362"/>
                </a:cubicBezTo>
                <a:cubicBezTo>
                  <a:pt x="14255" y="14370"/>
                  <a:pt x="14246" y="14379"/>
                  <a:pt x="14238" y="14387"/>
                </a:cubicBezTo>
              </a:path>
              <a:path w="11113" h="3349">
                <a:moveTo>
                  <a:pt x="14163" y="14288"/>
                </a:moveTo>
                <a:cubicBezTo>
                  <a:pt x="14268" y="14310"/>
                  <a:pt x="14272" y="14321"/>
                  <a:pt x="14362" y="14288"/>
                </a:cubicBezTo>
              </a:path>
              <a:path w="11113" h="3349">
                <a:moveTo>
                  <a:pt x="14635" y="13990"/>
                </a:moveTo>
                <a:cubicBezTo>
                  <a:pt x="14785" y="13968"/>
                  <a:pt x="14751" y="13981"/>
                  <a:pt x="14858" y="14064"/>
                </a:cubicBezTo>
                <a:cubicBezTo>
                  <a:pt x="14930" y="14119"/>
                  <a:pt x="15011" y="14233"/>
                  <a:pt x="15007" y="14337"/>
                </a:cubicBezTo>
                <a:cubicBezTo>
                  <a:pt x="15003" y="14432"/>
                  <a:pt x="14932" y="14532"/>
                  <a:pt x="14858" y="14585"/>
                </a:cubicBezTo>
                <a:cubicBezTo>
                  <a:pt x="14813" y="14617"/>
                  <a:pt x="14709" y="14629"/>
                  <a:pt x="14684" y="14560"/>
                </a:cubicBezTo>
                <a:cubicBezTo>
                  <a:pt x="14684" y="14544"/>
                  <a:pt x="14684" y="14527"/>
                  <a:pt x="14684" y="14511"/>
                </a:cubicBezTo>
                <a:cubicBezTo>
                  <a:pt x="14799" y="14511"/>
                  <a:pt x="14856" y="14507"/>
                  <a:pt x="14957" y="14560"/>
                </a:cubicBezTo>
                <a:cubicBezTo>
                  <a:pt x="15007" y="14585"/>
                  <a:pt x="15024" y="14593"/>
                  <a:pt x="15032" y="14635"/>
                </a:cubicBezTo>
              </a:path>
              <a:path w="11113" h="3349">
                <a:moveTo>
                  <a:pt x="14263" y="15156"/>
                </a:moveTo>
                <a:cubicBezTo>
                  <a:pt x="14387" y="15176"/>
                  <a:pt x="14411" y="15184"/>
                  <a:pt x="14486" y="15180"/>
                </a:cubicBezTo>
              </a:path>
              <a:path w="11113" h="3349">
                <a:moveTo>
                  <a:pt x="14833" y="14982"/>
                </a:moveTo>
                <a:cubicBezTo>
                  <a:pt x="14928" y="15003"/>
                  <a:pt x="14995" y="15013"/>
                  <a:pt x="15081" y="15056"/>
                </a:cubicBezTo>
                <a:cubicBezTo>
                  <a:pt x="15187" y="15108"/>
                  <a:pt x="15113" y="15137"/>
                  <a:pt x="15056" y="15180"/>
                </a:cubicBezTo>
                <a:cubicBezTo>
                  <a:pt x="15008" y="15216"/>
                  <a:pt x="14992" y="15222"/>
                  <a:pt x="14932" y="15230"/>
                </a:cubicBezTo>
                <a:cubicBezTo>
                  <a:pt x="14924" y="15285"/>
                  <a:pt x="14880" y="15351"/>
                  <a:pt x="14932" y="15404"/>
                </a:cubicBezTo>
                <a:cubicBezTo>
                  <a:pt x="14983" y="15455"/>
                  <a:pt x="15067" y="15518"/>
                  <a:pt x="15131" y="15553"/>
                </a:cubicBezTo>
                <a:cubicBezTo>
                  <a:pt x="15147" y="15561"/>
                  <a:pt x="15164" y="15569"/>
                  <a:pt x="15180" y="15577"/>
                </a:cubicBezTo>
              </a:path>
              <a:path w="11113" h="3349">
                <a:moveTo>
                  <a:pt x="11286" y="15081"/>
                </a:moveTo>
                <a:cubicBezTo>
                  <a:pt x="11344" y="15104"/>
                  <a:pt x="11411" y="15076"/>
                  <a:pt x="11485" y="15056"/>
                </a:cubicBezTo>
              </a:path>
              <a:path w="11113" h="3349">
                <a:moveTo>
                  <a:pt x="11683" y="14858"/>
                </a:moveTo>
                <a:cubicBezTo>
                  <a:pt x="11876" y="14893"/>
                  <a:pt x="11909" y="14854"/>
                  <a:pt x="11981" y="14932"/>
                </a:cubicBezTo>
                <a:cubicBezTo>
                  <a:pt x="11970" y="15032"/>
                  <a:pt x="11950" y="15061"/>
                  <a:pt x="11881" y="15131"/>
                </a:cubicBezTo>
                <a:cubicBezTo>
                  <a:pt x="11834" y="15178"/>
                  <a:pt x="11773" y="15193"/>
                  <a:pt x="11807" y="15280"/>
                </a:cubicBezTo>
                <a:cubicBezTo>
                  <a:pt x="11836" y="15353"/>
                  <a:pt x="11943" y="15400"/>
                  <a:pt x="12005" y="15429"/>
                </a:cubicBezTo>
                <a:cubicBezTo>
                  <a:pt x="12022" y="15437"/>
                  <a:pt x="12038" y="15445"/>
                  <a:pt x="12055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20"/>
          <p:cNvSpPr/>
          <p:nvPr/>
        </p:nvSpPr>
        <p:spPr>
          <a:xfrm>
            <a:off x="5902200" y="4776840"/>
            <a:ext cx="1411560" cy="492120"/>
          </a:xfrm>
          <a:custGeom>
            <a:avLst/>
            <a:gdLst/>
            <a:ahLst/>
            <a:rect l="l" t="t" r="r" b="b"/>
            <a:pathLst>
              <a:path w="3920" h="1365">
                <a:moveTo>
                  <a:pt x="16570" y="13271"/>
                </a:moveTo>
                <a:cubicBezTo>
                  <a:pt x="16467" y="13432"/>
                  <a:pt x="16401" y="13526"/>
                  <a:pt x="16396" y="13717"/>
                </a:cubicBezTo>
                <a:cubicBezTo>
                  <a:pt x="16389" y="13958"/>
                  <a:pt x="16451" y="14077"/>
                  <a:pt x="16644" y="14238"/>
                </a:cubicBezTo>
                <a:cubicBezTo>
                  <a:pt x="16669" y="14246"/>
                  <a:pt x="16693" y="14255"/>
                  <a:pt x="16718" y="14263"/>
                </a:cubicBezTo>
              </a:path>
              <a:path w="3920" h="1365">
                <a:moveTo>
                  <a:pt x="16917" y="13791"/>
                </a:moveTo>
                <a:cubicBezTo>
                  <a:pt x="17000" y="13761"/>
                  <a:pt x="17101" y="13753"/>
                  <a:pt x="17190" y="13742"/>
                </a:cubicBezTo>
                <a:cubicBezTo>
                  <a:pt x="17206" y="13742"/>
                  <a:pt x="17223" y="13742"/>
                  <a:pt x="17239" y="13742"/>
                </a:cubicBezTo>
              </a:path>
              <a:path w="3920" h="1365">
                <a:moveTo>
                  <a:pt x="17388" y="13543"/>
                </a:moveTo>
                <a:cubicBezTo>
                  <a:pt x="17490" y="13580"/>
                  <a:pt x="17609" y="13623"/>
                  <a:pt x="17587" y="13767"/>
                </a:cubicBezTo>
                <a:cubicBezTo>
                  <a:pt x="17575" y="13847"/>
                  <a:pt x="17490" y="13959"/>
                  <a:pt x="17438" y="14015"/>
                </a:cubicBezTo>
                <a:cubicBezTo>
                  <a:pt x="17375" y="14083"/>
                  <a:pt x="17409" y="14134"/>
                  <a:pt x="17487" y="14139"/>
                </a:cubicBezTo>
                <a:cubicBezTo>
                  <a:pt x="17539" y="14139"/>
                  <a:pt x="17557" y="14138"/>
                  <a:pt x="17587" y="14114"/>
                </a:cubicBezTo>
              </a:path>
              <a:path w="3920" h="1365">
                <a:moveTo>
                  <a:pt x="18058" y="13643"/>
                </a:moveTo>
                <a:cubicBezTo>
                  <a:pt x="18058" y="13841"/>
                  <a:pt x="18042" y="14049"/>
                  <a:pt x="18083" y="14238"/>
                </a:cubicBezTo>
                <a:cubicBezTo>
                  <a:pt x="18083" y="14246"/>
                  <a:pt x="18083" y="14255"/>
                  <a:pt x="18083" y="14263"/>
                </a:cubicBezTo>
              </a:path>
              <a:path w="3920" h="1365">
                <a:moveTo>
                  <a:pt x="17859" y="13891"/>
                </a:moveTo>
                <a:cubicBezTo>
                  <a:pt x="17987" y="13869"/>
                  <a:pt x="18101" y="13866"/>
                  <a:pt x="18231" y="13866"/>
                </a:cubicBezTo>
              </a:path>
              <a:path w="3920" h="1365">
                <a:moveTo>
                  <a:pt x="18479" y="13891"/>
                </a:moveTo>
                <a:cubicBezTo>
                  <a:pt x="18470" y="14011"/>
                  <a:pt x="18440" y="14151"/>
                  <a:pt x="18504" y="14263"/>
                </a:cubicBezTo>
                <a:cubicBezTo>
                  <a:pt x="18529" y="14288"/>
                  <a:pt x="18537" y="14296"/>
                  <a:pt x="18554" y="14312"/>
                </a:cubicBezTo>
                <a:cubicBezTo>
                  <a:pt x="18554" y="14195"/>
                  <a:pt x="18550" y="14079"/>
                  <a:pt x="18529" y="13965"/>
                </a:cubicBezTo>
                <a:cubicBezTo>
                  <a:pt x="18512" y="13874"/>
                  <a:pt x="18470" y="13753"/>
                  <a:pt x="18529" y="13667"/>
                </a:cubicBezTo>
                <a:cubicBezTo>
                  <a:pt x="18589" y="13581"/>
                  <a:pt x="18653" y="13547"/>
                  <a:pt x="18752" y="13543"/>
                </a:cubicBezTo>
                <a:cubicBezTo>
                  <a:pt x="18826" y="13540"/>
                  <a:pt x="18902" y="13543"/>
                  <a:pt x="18976" y="13543"/>
                </a:cubicBezTo>
              </a:path>
              <a:path w="3920" h="1365">
                <a:moveTo>
                  <a:pt x="18827" y="13618"/>
                </a:moveTo>
                <a:cubicBezTo>
                  <a:pt x="18878" y="13689"/>
                  <a:pt x="18929" y="13692"/>
                  <a:pt x="19000" y="13742"/>
                </a:cubicBezTo>
                <a:cubicBezTo>
                  <a:pt x="19008" y="13750"/>
                  <a:pt x="19017" y="13759"/>
                  <a:pt x="19025" y="13767"/>
                </a:cubicBezTo>
                <a:cubicBezTo>
                  <a:pt x="18979" y="13820"/>
                  <a:pt x="18919" y="13853"/>
                  <a:pt x="18852" y="13866"/>
                </a:cubicBezTo>
                <a:cubicBezTo>
                  <a:pt x="18835" y="13866"/>
                  <a:pt x="18819" y="13866"/>
                  <a:pt x="18802" y="13866"/>
                </a:cubicBezTo>
                <a:cubicBezTo>
                  <a:pt x="18843" y="13934"/>
                  <a:pt x="18859" y="13952"/>
                  <a:pt x="18926" y="14015"/>
                </a:cubicBezTo>
                <a:cubicBezTo>
                  <a:pt x="18976" y="14062"/>
                  <a:pt x="19135" y="14235"/>
                  <a:pt x="19050" y="14312"/>
                </a:cubicBezTo>
                <a:cubicBezTo>
                  <a:pt x="19030" y="14330"/>
                  <a:pt x="18907" y="14349"/>
                  <a:pt x="18876" y="14337"/>
                </a:cubicBezTo>
                <a:cubicBezTo>
                  <a:pt x="18815" y="14313"/>
                  <a:pt x="18840" y="14279"/>
                  <a:pt x="18852" y="14238"/>
                </a:cubicBezTo>
              </a:path>
              <a:path w="3920" h="1365">
                <a:moveTo>
                  <a:pt x="19273" y="14337"/>
                </a:moveTo>
                <a:cubicBezTo>
                  <a:pt x="19266" y="14395"/>
                  <a:pt x="19214" y="14595"/>
                  <a:pt x="19273" y="14635"/>
                </a:cubicBezTo>
              </a:path>
              <a:path w="3920" h="1365">
                <a:moveTo>
                  <a:pt x="19571" y="13965"/>
                </a:moveTo>
                <a:cubicBezTo>
                  <a:pt x="19564" y="14088"/>
                  <a:pt x="19545" y="14210"/>
                  <a:pt x="19695" y="14263"/>
                </a:cubicBezTo>
                <a:cubicBezTo>
                  <a:pt x="19773" y="14290"/>
                  <a:pt x="19816" y="14260"/>
                  <a:pt x="19819" y="14188"/>
                </a:cubicBezTo>
                <a:cubicBezTo>
                  <a:pt x="19830" y="13954"/>
                  <a:pt x="19761" y="13930"/>
                  <a:pt x="19621" y="13717"/>
                </a:cubicBezTo>
                <a:cubicBezTo>
                  <a:pt x="19601" y="13677"/>
                  <a:pt x="19592" y="13670"/>
                  <a:pt x="19596" y="13643"/>
                </a:cubicBezTo>
              </a:path>
              <a:path w="3920" h="1365">
                <a:moveTo>
                  <a:pt x="19993" y="13395"/>
                </a:moveTo>
                <a:cubicBezTo>
                  <a:pt x="20134" y="13599"/>
                  <a:pt x="20230" y="13751"/>
                  <a:pt x="20290" y="13990"/>
                </a:cubicBezTo>
                <a:cubicBezTo>
                  <a:pt x="20329" y="14147"/>
                  <a:pt x="20316" y="14212"/>
                  <a:pt x="20216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1"/>
          <p:cNvSpPr/>
          <p:nvPr/>
        </p:nvSpPr>
        <p:spPr>
          <a:xfrm>
            <a:off x="1697040" y="5518080"/>
            <a:ext cx="241200" cy="250920"/>
          </a:xfrm>
          <a:custGeom>
            <a:avLst/>
            <a:gdLst/>
            <a:ahLst/>
            <a:rect l="l" t="t" r="r" b="b"/>
            <a:pathLst>
              <a:path w="671" h="696">
                <a:moveTo>
                  <a:pt x="4837" y="15577"/>
                </a:moveTo>
                <a:cubicBezTo>
                  <a:pt x="4824" y="15626"/>
                  <a:pt x="4776" y="15738"/>
                  <a:pt x="4837" y="15776"/>
                </a:cubicBezTo>
                <a:cubicBezTo>
                  <a:pt x="4845" y="15776"/>
                  <a:pt x="4854" y="15776"/>
                  <a:pt x="4862" y="15776"/>
                </a:cubicBezTo>
              </a:path>
              <a:path w="671" h="696">
                <a:moveTo>
                  <a:pt x="4713" y="15404"/>
                </a:moveTo>
                <a:cubicBezTo>
                  <a:pt x="4797" y="15452"/>
                  <a:pt x="4887" y="15473"/>
                  <a:pt x="4986" y="15478"/>
                </a:cubicBezTo>
                <a:cubicBezTo>
                  <a:pt x="5002" y="15478"/>
                  <a:pt x="5019" y="15478"/>
                  <a:pt x="5035" y="15478"/>
                </a:cubicBezTo>
              </a:path>
              <a:path w="671" h="696">
                <a:moveTo>
                  <a:pt x="5184" y="15329"/>
                </a:moveTo>
                <a:cubicBezTo>
                  <a:pt x="5234" y="15354"/>
                  <a:pt x="5358" y="15407"/>
                  <a:pt x="5383" y="15453"/>
                </a:cubicBezTo>
                <a:cubicBezTo>
                  <a:pt x="5441" y="15560"/>
                  <a:pt x="5323" y="15581"/>
                  <a:pt x="5259" y="15602"/>
                </a:cubicBezTo>
                <a:cubicBezTo>
                  <a:pt x="5198" y="15622"/>
                  <a:pt x="5183" y="15620"/>
                  <a:pt x="5159" y="15652"/>
                </a:cubicBezTo>
                <a:cubicBezTo>
                  <a:pt x="5194" y="15712"/>
                  <a:pt x="5240" y="15773"/>
                  <a:pt x="5283" y="15825"/>
                </a:cubicBezTo>
                <a:cubicBezTo>
                  <a:pt x="5313" y="15861"/>
                  <a:pt x="5393" y="15984"/>
                  <a:pt x="5308" y="16024"/>
                </a:cubicBezTo>
                <a:cubicBezTo>
                  <a:pt x="5241" y="16055"/>
                  <a:pt x="5142" y="16000"/>
                  <a:pt x="5085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2"/>
          <p:cNvSpPr/>
          <p:nvPr/>
        </p:nvSpPr>
        <p:spPr>
          <a:xfrm>
            <a:off x="3963960" y="5653080"/>
            <a:ext cx="1243080" cy="312840"/>
          </a:xfrm>
          <a:custGeom>
            <a:avLst/>
            <a:gdLst/>
            <a:ahLst/>
            <a:rect l="l" t="t" r="r" b="b"/>
            <a:pathLst>
              <a:path w="3449" h="870">
                <a:moveTo>
                  <a:pt x="11013" y="16173"/>
                </a:moveTo>
                <a:cubicBezTo>
                  <a:pt x="11109" y="16173"/>
                  <a:pt x="11194" y="16157"/>
                  <a:pt x="11286" y="16148"/>
                </a:cubicBezTo>
                <a:cubicBezTo>
                  <a:pt x="11369" y="16148"/>
                  <a:pt x="11385" y="16148"/>
                  <a:pt x="11435" y="16148"/>
                </a:cubicBezTo>
              </a:path>
              <a:path w="3449" h="870">
                <a:moveTo>
                  <a:pt x="11584" y="15949"/>
                </a:moveTo>
                <a:cubicBezTo>
                  <a:pt x="11709" y="15912"/>
                  <a:pt x="11767" y="15875"/>
                  <a:pt x="11881" y="15925"/>
                </a:cubicBezTo>
                <a:cubicBezTo>
                  <a:pt x="11965" y="15962"/>
                  <a:pt x="11977" y="16026"/>
                  <a:pt x="11906" y="16098"/>
                </a:cubicBezTo>
                <a:cubicBezTo>
                  <a:pt x="11856" y="16149"/>
                  <a:pt x="11776" y="16193"/>
                  <a:pt x="11733" y="16247"/>
                </a:cubicBezTo>
                <a:cubicBezTo>
                  <a:pt x="11693" y="16298"/>
                  <a:pt x="11688" y="16421"/>
                  <a:pt x="11733" y="16470"/>
                </a:cubicBezTo>
                <a:cubicBezTo>
                  <a:pt x="11787" y="16529"/>
                  <a:pt x="11870" y="16535"/>
                  <a:pt x="11931" y="16520"/>
                </a:cubicBezTo>
              </a:path>
              <a:path w="3449" h="870">
                <a:moveTo>
                  <a:pt x="12303" y="15776"/>
                </a:moveTo>
                <a:cubicBezTo>
                  <a:pt x="12303" y="15919"/>
                  <a:pt x="12312" y="16019"/>
                  <a:pt x="12328" y="16148"/>
                </a:cubicBezTo>
              </a:path>
              <a:path w="3449" h="870">
                <a:moveTo>
                  <a:pt x="12105" y="15974"/>
                </a:moveTo>
                <a:cubicBezTo>
                  <a:pt x="12200" y="16019"/>
                  <a:pt x="12284" y="16039"/>
                  <a:pt x="12378" y="16073"/>
                </a:cubicBezTo>
              </a:path>
              <a:path w="3449" h="870">
                <a:moveTo>
                  <a:pt x="12129" y="16346"/>
                </a:moveTo>
                <a:cubicBezTo>
                  <a:pt x="12273" y="16397"/>
                  <a:pt x="12249" y="16406"/>
                  <a:pt x="12378" y="16371"/>
                </a:cubicBezTo>
              </a:path>
              <a:path w="3449" h="870">
                <a:moveTo>
                  <a:pt x="12626" y="16073"/>
                </a:moveTo>
                <a:cubicBezTo>
                  <a:pt x="12611" y="16181"/>
                  <a:pt x="12611" y="16263"/>
                  <a:pt x="12650" y="16371"/>
                </a:cubicBezTo>
                <a:cubicBezTo>
                  <a:pt x="12674" y="16438"/>
                  <a:pt x="12692" y="16516"/>
                  <a:pt x="12725" y="16570"/>
                </a:cubicBezTo>
                <a:cubicBezTo>
                  <a:pt x="12725" y="16376"/>
                  <a:pt x="12730" y="16188"/>
                  <a:pt x="12750" y="15999"/>
                </a:cubicBezTo>
                <a:cubicBezTo>
                  <a:pt x="12764" y="15871"/>
                  <a:pt x="12778" y="15820"/>
                  <a:pt x="12898" y="15751"/>
                </a:cubicBezTo>
                <a:cubicBezTo>
                  <a:pt x="12954" y="15719"/>
                  <a:pt x="13034" y="15705"/>
                  <a:pt x="13097" y="15701"/>
                </a:cubicBezTo>
                <a:cubicBezTo>
                  <a:pt x="13141" y="15701"/>
                  <a:pt x="13155" y="15698"/>
                  <a:pt x="13171" y="15726"/>
                </a:cubicBezTo>
              </a:path>
              <a:path w="3449" h="870">
                <a:moveTo>
                  <a:pt x="12998" y="15900"/>
                </a:moveTo>
                <a:cubicBezTo>
                  <a:pt x="13073" y="15910"/>
                  <a:pt x="13150" y="15920"/>
                  <a:pt x="13221" y="15949"/>
                </a:cubicBezTo>
                <a:cubicBezTo>
                  <a:pt x="13265" y="15971"/>
                  <a:pt x="13276" y="15974"/>
                  <a:pt x="13295" y="15999"/>
                </a:cubicBezTo>
                <a:cubicBezTo>
                  <a:pt x="13241" y="16076"/>
                  <a:pt x="13217" y="16073"/>
                  <a:pt x="13122" y="16073"/>
                </a:cubicBezTo>
                <a:cubicBezTo>
                  <a:pt x="13158" y="16125"/>
                  <a:pt x="13212" y="16144"/>
                  <a:pt x="13246" y="16197"/>
                </a:cubicBezTo>
                <a:cubicBezTo>
                  <a:pt x="13282" y="16253"/>
                  <a:pt x="13316" y="16289"/>
                  <a:pt x="13271" y="16346"/>
                </a:cubicBezTo>
                <a:cubicBezTo>
                  <a:pt x="13226" y="16402"/>
                  <a:pt x="13187" y="16472"/>
                  <a:pt x="13097" y="16446"/>
                </a:cubicBezTo>
                <a:cubicBezTo>
                  <a:pt x="13062" y="16411"/>
                  <a:pt x="13058" y="16389"/>
                  <a:pt x="13097" y="16346"/>
                </a:cubicBezTo>
              </a:path>
              <a:path w="3449" h="870">
                <a:moveTo>
                  <a:pt x="13469" y="16073"/>
                </a:moveTo>
                <a:cubicBezTo>
                  <a:pt x="13583" y="16098"/>
                  <a:pt x="13676" y="16123"/>
                  <a:pt x="13791" y="16123"/>
                </a:cubicBezTo>
              </a:path>
              <a:path w="3449" h="870">
                <a:moveTo>
                  <a:pt x="13568" y="16297"/>
                </a:moveTo>
                <a:cubicBezTo>
                  <a:pt x="13674" y="16339"/>
                  <a:pt x="13704" y="16346"/>
                  <a:pt x="13816" y="16346"/>
                </a:cubicBezTo>
              </a:path>
              <a:path w="3449" h="870">
                <a:moveTo>
                  <a:pt x="14089" y="15925"/>
                </a:moveTo>
                <a:cubicBezTo>
                  <a:pt x="14181" y="16043"/>
                  <a:pt x="14244" y="16184"/>
                  <a:pt x="14337" y="16297"/>
                </a:cubicBezTo>
                <a:cubicBezTo>
                  <a:pt x="14408" y="16367"/>
                  <a:pt x="14430" y="16388"/>
                  <a:pt x="14461" y="16446"/>
                </a:cubicBezTo>
              </a:path>
              <a:path w="3449" h="870">
                <a:moveTo>
                  <a:pt x="14288" y="15900"/>
                </a:moveTo>
                <a:cubicBezTo>
                  <a:pt x="14094" y="16084"/>
                  <a:pt x="13952" y="16221"/>
                  <a:pt x="13791" y="164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23"/>
          <p:cNvSpPr/>
          <p:nvPr/>
        </p:nvSpPr>
        <p:spPr>
          <a:xfrm>
            <a:off x="6384960" y="1803240"/>
            <a:ext cx="750960" cy="785880"/>
          </a:xfrm>
          <a:custGeom>
            <a:avLst/>
            <a:gdLst/>
            <a:ahLst/>
            <a:rect l="l" t="t" r="r" b="b"/>
            <a:pathLst>
              <a:path w="2085" h="2183">
                <a:moveTo>
                  <a:pt x="18951" y="5011"/>
                </a:moveTo>
                <a:cubicBezTo>
                  <a:pt x="18951" y="5122"/>
                  <a:pt x="18930" y="5223"/>
                  <a:pt x="18926" y="5333"/>
                </a:cubicBezTo>
                <a:cubicBezTo>
                  <a:pt x="18922" y="5455"/>
                  <a:pt x="18925" y="5567"/>
                  <a:pt x="18951" y="5680"/>
                </a:cubicBezTo>
                <a:cubicBezTo>
                  <a:pt x="18951" y="5688"/>
                  <a:pt x="18951" y="5697"/>
                  <a:pt x="18951" y="5705"/>
                </a:cubicBezTo>
              </a:path>
              <a:path w="2085" h="2183">
                <a:moveTo>
                  <a:pt x="18157" y="5234"/>
                </a:moveTo>
                <a:cubicBezTo>
                  <a:pt x="18171" y="5364"/>
                  <a:pt x="18133" y="5559"/>
                  <a:pt x="18157" y="5680"/>
                </a:cubicBezTo>
                <a:cubicBezTo>
                  <a:pt x="18173" y="5757"/>
                  <a:pt x="18174" y="5759"/>
                  <a:pt x="18157" y="5829"/>
                </a:cubicBezTo>
              </a:path>
              <a:path w="2085" h="2183">
                <a:moveTo>
                  <a:pt x="19348" y="5928"/>
                </a:moveTo>
                <a:cubicBezTo>
                  <a:pt x="19488" y="5928"/>
                  <a:pt x="19629" y="5928"/>
                  <a:pt x="19769" y="5928"/>
                </a:cubicBezTo>
              </a:path>
              <a:path w="2085" h="2183">
                <a:moveTo>
                  <a:pt x="19348" y="6300"/>
                </a:moveTo>
                <a:cubicBezTo>
                  <a:pt x="19604" y="6322"/>
                  <a:pt x="19661" y="6330"/>
                  <a:pt x="19819" y="6325"/>
                </a:cubicBezTo>
              </a:path>
              <a:path w="2085" h="2183">
                <a:moveTo>
                  <a:pt x="19323" y="6722"/>
                </a:moveTo>
                <a:cubicBezTo>
                  <a:pt x="19464" y="6722"/>
                  <a:pt x="19604" y="6722"/>
                  <a:pt x="19745" y="6722"/>
                </a:cubicBezTo>
              </a:path>
              <a:path w="2085" h="2183">
                <a:moveTo>
                  <a:pt x="19273" y="7169"/>
                </a:moveTo>
                <a:cubicBezTo>
                  <a:pt x="19478" y="7184"/>
                  <a:pt x="19604" y="7201"/>
                  <a:pt x="19794" y="7169"/>
                </a:cubicBezTo>
              </a:path>
              <a:path w="2085" h="2183">
                <a:moveTo>
                  <a:pt x="18256" y="6821"/>
                </a:moveTo>
                <a:cubicBezTo>
                  <a:pt x="18281" y="6736"/>
                  <a:pt x="18210" y="6707"/>
                  <a:pt x="18182" y="6796"/>
                </a:cubicBezTo>
                <a:cubicBezTo>
                  <a:pt x="18182" y="6813"/>
                  <a:pt x="18182" y="6829"/>
                  <a:pt x="18182" y="6846"/>
                </a:cubicBezTo>
                <a:cubicBezTo>
                  <a:pt x="18233" y="6877"/>
                  <a:pt x="18230" y="6877"/>
                  <a:pt x="18281" y="6846"/>
                </a:cubicBezTo>
                <a:cubicBezTo>
                  <a:pt x="18272" y="6773"/>
                  <a:pt x="18252" y="6710"/>
                  <a:pt x="18157" y="6747"/>
                </a:cubicBezTo>
                <a:cubicBezTo>
                  <a:pt x="18116" y="6763"/>
                  <a:pt x="18071" y="6847"/>
                  <a:pt x="18132" y="6871"/>
                </a:cubicBezTo>
                <a:cubicBezTo>
                  <a:pt x="18189" y="6893"/>
                  <a:pt x="18278" y="6837"/>
                  <a:pt x="18256" y="6772"/>
                </a:cubicBezTo>
                <a:cubicBezTo>
                  <a:pt x="18248" y="6764"/>
                  <a:pt x="18239" y="6755"/>
                  <a:pt x="18231" y="6747"/>
                </a:cubicBezTo>
                <a:cubicBezTo>
                  <a:pt x="18204" y="6774"/>
                  <a:pt x="18113" y="6830"/>
                  <a:pt x="18182" y="6871"/>
                </a:cubicBezTo>
                <a:cubicBezTo>
                  <a:pt x="18241" y="6906"/>
                  <a:pt x="18331" y="6794"/>
                  <a:pt x="18331" y="6747"/>
                </a:cubicBezTo>
                <a:cubicBezTo>
                  <a:pt x="18323" y="6739"/>
                  <a:pt x="18314" y="6730"/>
                  <a:pt x="18306" y="6722"/>
                </a:cubicBezTo>
                <a:cubicBezTo>
                  <a:pt x="18245" y="6698"/>
                  <a:pt x="18232" y="6723"/>
                  <a:pt x="18182" y="6772"/>
                </a:cubicBezTo>
                <a:cubicBezTo>
                  <a:pt x="18148" y="6806"/>
                  <a:pt x="18118" y="6827"/>
                  <a:pt x="18107" y="6871"/>
                </a:cubicBezTo>
              </a:path>
              <a:path w="2085" h="2183">
                <a:moveTo>
                  <a:pt x="17785" y="6424"/>
                </a:moveTo>
                <a:lnTo>
                  <a:pt x="17785" y="6424"/>
                </a:lnTo>
              </a:path>
              <a:path w="2085" h="2183">
                <a:moveTo>
                  <a:pt x="17785" y="6424"/>
                </a:moveTo>
                <a:cubicBezTo>
                  <a:pt x="17768" y="6416"/>
                  <a:pt x="17752" y="6408"/>
                  <a:pt x="17735" y="6400"/>
                </a:cubicBezTo>
              </a:path>
              <a:path w="2085" h="2183">
                <a:moveTo>
                  <a:pt x="17735" y="6400"/>
                </a:moveTo>
                <a:cubicBezTo>
                  <a:pt x="17735" y="6416"/>
                  <a:pt x="17735" y="6433"/>
                  <a:pt x="17735" y="6449"/>
                </a:cubicBezTo>
              </a:path>
              <a:path w="2085" h="2183">
                <a:moveTo>
                  <a:pt x="18976" y="6400"/>
                </a:moveTo>
                <a:cubicBezTo>
                  <a:pt x="18976" y="6416"/>
                  <a:pt x="18976" y="6433"/>
                  <a:pt x="18976" y="6449"/>
                </a:cubicBezTo>
              </a:path>
              <a:path w="2085" h="2183">
                <a:moveTo>
                  <a:pt x="18876" y="6350"/>
                </a:moveTo>
                <a:cubicBezTo>
                  <a:pt x="18854" y="6373"/>
                  <a:pt x="18849" y="6381"/>
                  <a:pt x="18827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4"/>
          <p:cNvSpPr/>
          <p:nvPr/>
        </p:nvSpPr>
        <p:spPr>
          <a:xfrm>
            <a:off x="6249960" y="1955880"/>
            <a:ext cx="19080" cy="152280"/>
          </a:xfrm>
          <a:custGeom>
            <a:avLst/>
            <a:gdLst/>
            <a:ahLst/>
            <a:rect l="l" t="t" r="r" b="b"/>
            <a:pathLst>
              <a:path w="51" h="423">
                <a:moveTo>
                  <a:pt x="17363" y="5432"/>
                </a:moveTo>
                <a:cubicBezTo>
                  <a:pt x="17363" y="5549"/>
                  <a:pt x="17342" y="5694"/>
                  <a:pt x="17388" y="5804"/>
                </a:cubicBezTo>
                <a:cubicBezTo>
                  <a:pt x="17396" y="5821"/>
                  <a:pt x="17405" y="5837"/>
                  <a:pt x="17413" y="58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5"/>
          <p:cNvSpPr/>
          <p:nvPr/>
        </p:nvSpPr>
        <p:spPr>
          <a:xfrm>
            <a:off x="5991120" y="1919160"/>
            <a:ext cx="19080" cy="19692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6644" y="5333"/>
                </a:moveTo>
                <a:cubicBezTo>
                  <a:pt x="16644" y="5487"/>
                  <a:pt x="16651" y="5634"/>
                  <a:pt x="16669" y="5779"/>
                </a:cubicBezTo>
                <a:cubicBezTo>
                  <a:pt x="16669" y="5841"/>
                  <a:pt x="16660" y="5856"/>
                  <a:pt x="16694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6"/>
          <p:cNvSpPr/>
          <p:nvPr/>
        </p:nvSpPr>
        <p:spPr>
          <a:xfrm>
            <a:off x="5769000" y="919080"/>
            <a:ext cx="1741320" cy="1546200"/>
          </a:xfrm>
          <a:custGeom>
            <a:avLst/>
            <a:gdLst/>
            <a:ahLst/>
            <a:rect l="l" t="t" r="r" b="b"/>
            <a:pathLst>
              <a:path w="4838" h="4292">
                <a:moveTo>
                  <a:pt x="19348" y="4738"/>
                </a:moveTo>
                <a:cubicBezTo>
                  <a:pt x="19459" y="4738"/>
                  <a:pt x="19560" y="4716"/>
                  <a:pt x="19670" y="4713"/>
                </a:cubicBezTo>
                <a:cubicBezTo>
                  <a:pt x="19777" y="4710"/>
                  <a:pt x="19886" y="4713"/>
                  <a:pt x="19993" y="4713"/>
                </a:cubicBezTo>
              </a:path>
              <a:path w="4838" h="4292">
                <a:moveTo>
                  <a:pt x="19521" y="4688"/>
                </a:moveTo>
                <a:cubicBezTo>
                  <a:pt x="19441" y="4711"/>
                  <a:pt x="19424" y="4733"/>
                  <a:pt x="19447" y="4812"/>
                </a:cubicBezTo>
                <a:cubicBezTo>
                  <a:pt x="19517" y="4771"/>
                  <a:pt x="19540" y="4761"/>
                  <a:pt x="19496" y="4688"/>
                </a:cubicBezTo>
                <a:cubicBezTo>
                  <a:pt x="19467" y="4673"/>
                  <a:pt x="19413" y="4683"/>
                  <a:pt x="19397" y="4738"/>
                </a:cubicBezTo>
                <a:cubicBezTo>
                  <a:pt x="19370" y="4830"/>
                  <a:pt x="19468" y="4833"/>
                  <a:pt x="19521" y="4812"/>
                </a:cubicBezTo>
                <a:cubicBezTo>
                  <a:pt x="19622" y="4773"/>
                  <a:pt x="19613" y="4730"/>
                  <a:pt x="19596" y="4638"/>
                </a:cubicBezTo>
                <a:cubicBezTo>
                  <a:pt x="19526" y="4598"/>
                  <a:pt x="19512" y="4624"/>
                  <a:pt x="19447" y="4663"/>
                </a:cubicBezTo>
                <a:cubicBezTo>
                  <a:pt x="19375" y="4706"/>
                  <a:pt x="19366" y="4729"/>
                  <a:pt x="19348" y="4812"/>
                </a:cubicBezTo>
                <a:cubicBezTo>
                  <a:pt x="19348" y="4820"/>
                  <a:pt x="19348" y="4829"/>
                  <a:pt x="19348" y="4837"/>
                </a:cubicBezTo>
              </a:path>
              <a:path w="4838" h="4292">
                <a:moveTo>
                  <a:pt x="16793" y="4911"/>
                </a:moveTo>
                <a:cubicBezTo>
                  <a:pt x="16793" y="4895"/>
                  <a:pt x="16793" y="4878"/>
                  <a:pt x="16793" y="4862"/>
                </a:cubicBezTo>
                <a:cubicBezTo>
                  <a:pt x="16742" y="4904"/>
                  <a:pt x="16696" y="4974"/>
                  <a:pt x="16793" y="4986"/>
                </a:cubicBezTo>
                <a:cubicBezTo>
                  <a:pt x="16881" y="4997"/>
                  <a:pt x="16882" y="4913"/>
                  <a:pt x="16842" y="4862"/>
                </a:cubicBezTo>
                <a:cubicBezTo>
                  <a:pt x="16788" y="4792"/>
                  <a:pt x="16729" y="4897"/>
                  <a:pt x="16718" y="4936"/>
                </a:cubicBezTo>
                <a:cubicBezTo>
                  <a:pt x="16763" y="4936"/>
                  <a:pt x="16776" y="4939"/>
                  <a:pt x="16793" y="4911"/>
                </a:cubicBezTo>
              </a:path>
              <a:path w="4838" h="4292">
                <a:moveTo>
                  <a:pt x="16222" y="3373"/>
                </a:moveTo>
                <a:cubicBezTo>
                  <a:pt x="16237" y="3427"/>
                  <a:pt x="16255" y="3471"/>
                  <a:pt x="16272" y="3522"/>
                </a:cubicBezTo>
                <a:cubicBezTo>
                  <a:pt x="16310" y="3636"/>
                  <a:pt x="16347" y="3772"/>
                  <a:pt x="16396" y="3870"/>
                </a:cubicBezTo>
                <a:cubicBezTo>
                  <a:pt x="16427" y="3931"/>
                  <a:pt x="16464" y="3983"/>
                  <a:pt x="16495" y="4043"/>
                </a:cubicBezTo>
                <a:cubicBezTo>
                  <a:pt x="16558" y="4163"/>
                  <a:pt x="16625" y="4275"/>
                  <a:pt x="16694" y="4390"/>
                </a:cubicBezTo>
                <a:cubicBezTo>
                  <a:pt x="16729" y="4448"/>
                  <a:pt x="16758" y="4506"/>
                  <a:pt x="16793" y="4564"/>
                </a:cubicBezTo>
                <a:cubicBezTo>
                  <a:pt x="16827" y="4621"/>
                  <a:pt x="16841" y="4689"/>
                  <a:pt x="16867" y="4738"/>
                </a:cubicBezTo>
                <a:cubicBezTo>
                  <a:pt x="16931" y="4859"/>
                  <a:pt x="16984" y="4995"/>
                  <a:pt x="17041" y="5110"/>
                </a:cubicBezTo>
                <a:cubicBezTo>
                  <a:pt x="17077" y="5183"/>
                  <a:pt x="17128" y="5257"/>
                  <a:pt x="17165" y="5333"/>
                </a:cubicBezTo>
                <a:cubicBezTo>
                  <a:pt x="17241" y="5488"/>
                  <a:pt x="17331" y="5632"/>
                  <a:pt x="17413" y="5779"/>
                </a:cubicBezTo>
                <a:cubicBezTo>
                  <a:pt x="17518" y="5968"/>
                  <a:pt x="17606" y="6163"/>
                  <a:pt x="17711" y="6350"/>
                </a:cubicBezTo>
                <a:cubicBezTo>
                  <a:pt x="17752" y="6423"/>
                  <a:pt x="17805" y="6508"/>
                  <a:pt x="17859" y="6573"/>
                </a:cubicBezTo>
                <a:cubicBezTo>
                  <a:pt x="17897" y="6619"/>
                  <a:pt x="17944" y="6658"/>
                  <a:pt x="17983" y="6697"/>
                </a:cubicBezTo>
                <a:cubicBezTo>
                  <a:pt x="18019" y="6734"/>
                  <a:pt x="18087" y="6799"/>
                  <a:pt x="18132" y="6821"/>
                </a:cubicBezTo>
                <a:cubicBezTo>
                  <a:pt x="18173" y="6842"/>
                  <a:pt x="18255" y="6854"/>
                  <a:pt x="18306" y="6846"/>
                </a:cubicBezTo>
                <a:cubicBezTo>
                  <a:pt x="18462" y="6821"/>
                  <a:pt x="18616" y="6701"/>
                  <a:pt x="18728" y="6598"/>
                </a:cubicBezTo>
                <a:cubicBezTo>
                  <a:pt x="18831" y="6503"/>
                  <a:pt x="18860" y="6419"/>
                  <a:pt x="18926" y="6300"/>
                </a:cubicBezTo>
                <a:cubicBezTo>
                  <a:pt x="18966" y="6228"/>
                  <a:pt x="19012" y="6154"/>
                  <a:pt x="19050" y="6077"/>
                </a:cubicBezTo>
                <a:cubicBezTo>
                  <a:pt x="19182" y="5811"/>
                  <a:pt x="19325" y="5540"/>
                  <a:pt x="19422" y="5259"/>
                </a:cubicBezTo>
                <a:cubicBezTo>
                  <a:pt x="19447" y="5186"/>
                  <a:pt x="19473" y="5111"/>
                  <a:pt x="19496" y="5035"/>
                </a:cubicBezTo>
                <a:cubicBezTo>
                  <a:pt x="19522" y="4951"/>
                  <a:pt x="19538" y="4873"/>
                  <a:pt x="19571" y="4787"/>
                </a:cubicBezTo>
                <a:cubicBezTo>
                  <a:pt x="19604" y="4703"/>
                  <a:pt x="19617" y="4624"/>
                  <a:pt x="19645" y="4539"/>
                </a:cubicBezTo>
                <a:cubicBezTo>
                  <a:pt x="19680" y="4434"/>
                  <a:pt x="19703" y="4316"/>
                  <a:pt x="19745" y="4217"/>
                </a:cubicBezTo>
                <a:cubicBezTo>
                  <a:pt x="19784" y="4126"/>
                  <a:pt x="19823" y="4035"/>
                  <a:pt x="19869" y="3944"/>
                </a:cubicBezTo>
                <a:cubicBezTo>
                  <a:pt x="19915" y="3852"/>
                  <a:pt x="19951" y="3764"/>
                  <a:pt x="19993" y="3671"/>
                </a:cubicBezTo>
                <a:cubicBezTo>
                  <a:pt x="20039" y="3569"/>
                  <a:pt x="20092" y="3470"/>
                  <a:pt x="20141" y="3373"/>
                </a:cubicBezTo>
                <a:cubicBezTo>
                  <a:pt x="20190" y="3276"/>
                  <a:pt x="20245" y="3175"/>
                  <a:pt x="20290" y="3076"/>
                </a:cubicBezTo>
                <a:cubicBezTo>
                  <a:pt x="20346" y="2951"/>
                  <a:pt x="20414" y="2832"/>
                  <a:pt x="20464" y="2704"/>
                </a:cubicBezTo>
                <a:cubicBezTo>
                  <a:pt x="20484" y="2654"/>
                  <a:pt x="20496" y="2602"/>
                  <a:pt x="20513" y="2555"/>
                </a:cubicBezTo>
                <a:cubicBezTo>
                  <a:pt x="20463" y="2619"/>
                  <a:pt x="20418" y="2674"/>
                  <a:pt x="20365" y="2729"/>
                </a:cubicBezTo>
                <a:cubicBezTo>
                  <a:pt x="20314" y="2781"/>
                  <a:pt x="20243" y="2825"/>
                  <a:pt x="20191" y="2877"/>
                </a:cubicBezTo>
                <a:cubicBezTo>
                  <a:pt x="20158" y="2910"/>
                  <a:pt x="20127" y="2964"/>
                  <a:pt x="20092" y="3001"/>
                </a:cubicBezTo>
                <a:cubicBezTo>
                  <a:pt x="20204" y="2883"/>
                  <a:pt x="20301" y="2738"/>
                  <a:pt x="20414" y="2629"/>
                </a:cubicBezTo>
                <a:cubicBezTo>
                  <a:pt x="20458" y="2607"/>
                  <a:pt x="20469" y="2604"/>
                  <a:pt x="20489" y="2580"/>
                </a:cubicBezTo>
                <a:cubicBezTo>
                  <a:pt x="20555" y="2656"/>
                  <a:pt x="20608" y="2737"/>
                  <a:pt x="20687" y="2803"/>
                </a:cubicBezTo>
                <a:cubicBezTo>
                  <a:pt x="20763" y="2878"/>
                  <a:pt x="20790" y="2904"/>
                  <a:pt x="20861" y="2927"/>
                </a:cubicBezTo>
              </a:path>
              <a:path w="4838" h="4292">
                <a:moveTo>
                  <a:pt x="16024" y="4142"/>
                </a:moveTo>
                <a:cubicBezTo>
                  <a:pt x="16070" y="4051"/>
                  <a:pt x="16088" y="3966"/>
                  <a:pt x="16123" y="3870"/>
                </a:cubicBezTo>
                <a:cubicBezTo>
                  <a:pt x="16165" y="3757"/>
                  <a:pt x="16187" y="3637"/>
                  <a:pt x="16222" y="3522"/>
                </a:cubicBezTo>
              </a:path>
              <a:path w="4838" h="4292">
                <a:moveTo>
                  <a:pt x="16272" y="3324"/>
                </a:moveTo>
                <a:cubicBezTo>
                  <a:pt x="16351" y="3364"/>
                  <a:pt x="16398" y="3433"/>
                  <a:pt x="16470" y="3473"/>
                </a:cubicBezTo>
                <a:cubicBezTo>
                  <a:pt x="16548" y="3517"/>
                  <a:pt x="16634" y="3544"/>
                  <a:pt x="16718" y="35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27"/>
          <p:cNvSpPr/>
          <p:nvPr/>
        </p:nvSpPr>
        <p:spPr>
          <a:xfrm>
            <a:off x="3232080" y="3473280"/>
            <a:ext cx="1376280" cy="1295640"/>
          </a:xfrm>
          <a:custGeom>
            <a:avLst/>
            <a:gdLst/>
            <a:ahLst/>
            <a:rect l="l" t="t" r="r" b="b"/>
            <a:pathLst>
              <a:path w="3821" h="3598">
                <a:moveTo>
                  <a:pt x="8979" y="13246"/>
                </a:moveTo>
                <a:cubicBezTo>
                  <a:pt x="9236" y="13069"/>
                  <a:pt x="9410" y="12825"/>
                  <a:pt x="9599" y="12576"/>
                </a:cubicBezTo>
                <a:cubicBezTo>
                  <a:pt x="9812" y="12295"/>
                  <a:pt x="10057" y="12018"/>
                  <a:pt x="10294" y="11757"/>
                </a:cubicBezTo>
                <a:cubicBezTo>
                  <a:pt x="10535" y="11491"/>
                  <a:pt x="10820" y="11251"/>
                  <a:pt x="11088" y="11013"/>
                </a:cubicBezTo>
                <a:cubicBezTo>
                  <a:pt x="11396" y="10740"/>
                  <a:pt x="11711" y="10478"/>
                  <a:pt x="12030" y="10220"/>
                </a:cubicBezTo>
                <a:cubicBezTo>
                  <a:pt x="12222" y="10065"/>
                  <a:pt x="12410" y="9894"/>
                  <a:pt x="12626" y="9773"/>
                </a:cubicBezTo>
                <a:cubicBezTo>
                  <a:pt x="12706" y="9728"/>
                  <a:pt x="12789" y="9717"/>
                  <a:pt x="12774" y="9649"/>
                </a:cubicBezTo>
                <a:cubicBezTo>
                  <a:pt x="12741" y="9649"/>
                  <a:pt x="12708" y="9649"/>
                  <a:pt x="12675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28"/>
          <p:cNvSpPr/>
          <p:nvPr/>
        </p:nvSpPr>
        <p:spPr>
          <a:xfrm>
            <a:off x="6197760" y="3840120"/>
            <a:ext cx="1625400" cy="17640"/>
          </a:xfrm>
          <a:custGeom>
            <a:avLst/>
            <a:gdLst/>
            <a:ahLst/>
            <a:rect l="l" t="t" r="r" b="b"/>
            <a:pathLst>
              <a:path w="4516" h="51">
                <a:moveTo>
                  <a:pt x="17214" y="10716"/>
                </a:moveTo>
                <a:cubicBezTo>
                  <a:pt x="17404" y="10687"/>
                  <a:pt x="17592" y="10669"/>
                  <a:pt x="17785" y="10666"/>
                </a:cubicBezTo>
                <a:cubicBezTo>
                  <a:pt x="18274" y="10658"/>
                  <a:pt x="18760" y="10677"/>
                  <a:pt x="19248" y="10691"/>
                </a:cubicBezTo>
                <a:cubicBezTo>
                  <a:pt x="19637" y="10702"/>
                  <a:pt x="20026" y="10712"/>
                  <a:pt x="20414" y="10716"/>
                </a:cubicBezTo>
                <a:cubicBezTo>
                  <a:pt x="20796" y="10720"/>
                  <a:pt x="21178" y="10714"/>
                  <a:pt x="21555" y="10691"/>
                </a:cubicBezTo>
                <a:cubicBezTo>
                  <a:pt x="21691" y="10683"/>
                  <a:pt x="21803" y="10701"/>
                  <a:pt x="21630" y="106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29"/>
          <p:cNvSpPr/>
          <p:nvPr/>
        </p:nvSpPr>
        <p:spPr>
          <a:xfrm>
            <a:off x="5572080" y="1830240"/>
            <a:ext cx="3063960" cy="189000"/>
          </a:xfrm>
          <a:custGeom>
            <a:avLst/>
            <a:gdLst/>
            <a:ahLst/>
            <a:rect l="l" t="t" r="r" b="b"/>
            <a:pathLst>
              <a:path w="8509" h="522">
                <a:moveTo>
                  <a:pt x="15478" y="5581"/>
                </a:moveTo>
                <a:cubicBezTo>
                  <a:pt x="15583" y="5585"/>
                  <a:pt x="15673" y="5601"/>
                  <a:pt x="15776" y="5606"/>
                </a:cubicBezTo>
                <a:cubicBezTo>
                  <a:pt x="16317" y="5632"/>
                  <a:pt x="16874" y="5612"/>
                  <a:pt x="17413" y="5581"/>
                </a:cubicBezTo>
                <a:cubicBezTo>
                  <a:pt x="17785" y="5560"/>
                  <a:pt x="18158" y="5534"/>
                  <a:pt x="18529" y="5507"/>
                </a:cubicBezTo>
                <a:cubicBezTo>
                  <a:pt x="18960" y="5475"/>
                  <a:pt x="19387" y="5413"/>
                  <a:pt x="19819" y="5383"/>
                </a:cubicBezTo>
                <a:cubicBezTo>
                  <a:pt x="20629" y="5327"/>
                  <a:pt x="21439" y="5256"/>
                  <a:pt x="22250" y="5234"/>
                </a:cubicBezTo>
                <a:cubicBezTo>
                  <a:pt x="22597" y="5225"/>
                  <a:pt x="22944" y="5259"/>
                  <a:pt x="23292" y="5259"/>
                </a:cubicBezTo>
                <a:cubicBezTo>
                  <a:pt x="23463" y="5259"/>
                  <a:pt x="23723" y="5326"/>
                  <a:pt x="23887" y="5259"/>
                </a:cubicBezTo>
                <a:cubicBezTo>
                  <a:pt x="24061" y="5188"/>
                  <a:pt x="23915" y="5211"/>
                  <a:pt x="23961" y="50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30"/>
          <p:cNvSpPr/>
          <p:nvPr/>
        </p:nvSpPr>
        <p:spPr>
          <a:xfrm>
            <a:off x="6991200" y="938160"/>
            <a:ext cx="36720" cy="2079720"/>
          </a:xfrm>
          <a:custGeom>
            <a:avLst/>
            <a:gdLst/>
            <a:ahLst/>
            <a:rect l="l" t="t" r="r" b="b"/>
            <a:pathLst>
              <a:path w="100" h="5781">
                <a:moveTo>
                  <a:pt x="19447" y="2604"/>
                </a:moveTo>
                <a:cubicBezTo>
                  <a:pt x="19434" y="2714"/>
                  <a:pt x="19422" y="2812"/>
                  <a:pt x="19422" y="2927"/>
                </a:cubicBezTo>
                <a:cubicBezTo>
                  <a:pt x="19422" y="3120"/>
                  <a:pt x="19437" y="3307"/>
                  <a:pt x="19447" y="3497"/>
                </a:cubicBezTo>
                <a:cubicBezTo>
                  <a:pt x="19461" y="3761"/>
                  <a:pt x="19486" y="4026"/>
                  <a:pt x="19496" y="4291"/>
                </a:cubicBezTo>
                <a:cubicBezTo>
                  <a:pt x="19509" y="4639"/>
                  <a:pt x="19521" y="4984"/>
                  <a:pt x="19521" y="5333"/>
                </a:cubicBezTo>
                <a:cubicBezTo>
                  <a:pt x="19521" y="5954"/>
                  <a:pt x="19513" y="6573"/>
                  <a:pt x="19496" y="7193"/>
                </a:cubicBezTo>
                <a:cubicBezTo>
                  <a:pt x="19488" y="7507"/>
                  <a:pt x="19485" y="7826"/>
                  <a:pt x="19496" y="8136"/>
                </a:cubicBezTo>
                <a:cubicBezTo>
                  <a:pt x="19496" y="8261"/>
                  <a:pt x="19496" y="8303"/>
                  <a:pt x="19521" y="83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4"/>
          <p:cNvSpPr/>
          <p:nvPr/>
        </p:nvSpPr>
        <p:spPr>
          <a:xfrm>
            <a:off x="955800" y="534960"/>
            <a:ext cx="2982960" cy="804960"/>
          </a:xfrm>
          <a:custGeom>
            <a:avLst/>
            <a:gdLst/>
            <a:ahLst/>
            <a:rect l="l" t="t" r="r" b="b"/>
            <a:pathLst>
              <a:path w="8286" h="2234">
                <a:moveTo>
                  <a:pt x="2654" y="2877"/>
                </a:moveTo>
                <a:cubicBezTo>
                  <a:pt x="2710" y="3053"/>
                  <a:pt x="2772" y="3224"/>
                  <a:pt x="2828" y="3398"/>
                </a:cubicBezTo>
                <a:cubicBezTo>
                  <a:pt x="2857" y="3487"/>
                  <a:pt x="2910" y="3562"/>
                  <a:pt x="2952" y="3646"/>
                </a:cubicBezTo>
                <a:cubicBezTo>
                  <a:pt x="2974" y="3690"/>
                  <a:pt x="2977" y="3701"/>
                  <a:pt x="3001" y="3721"/>
                </a:cubicBezTo>
                <a:cubicBezTo>
                  <a:pt x="3029" y="3675"/>
                  <a:pt x="3068" y="3582"/>
                  <a:pt x="3076" y="3522"/>
                </a:cubicBezTo>
                <a:cubicBezTo>
                  <a:pt x="3095" y="3374"/>
                  <a:pt x="3083" y="3224"/>
                  <a:pt x="3101" y="3076"/>
                </a:cubicBezTo>
                <a:cubicBezTo>
                  <a:pt x="3116" y="2952"/>
                  <a:pt x="3128" y="2822"/>
                  <a:pt x="3175" y="2704"/>
                </a:cubicBezTo>
                <a:cubicBezTo>
                  <a:pt x="3197" y="2660"/>
                  <a:pt x="3200" y="2648"/>
                  <a:pt x="3225" y="2629"/>
                </a:cubicBezTo>
              </a:path>
              <a:path w="8286" h="2234">
                <a:moveTo>
                  <a:pt x="3299" y="3150"/>
                </a:moveTo>
                <a:cubicBezTo>
                  <a:pt x="3424" y="3128"/>
                  <a:pt x="3523" y="3138"/>
                  <a:pt x="3597" y="3026"/>
                </a:cubicBezTo>
                <a:cubicBezTo>
                  <a:pt x="3628" y="2980"/>
                  <a:pt x="3636" y="2882"/>
                  <a:pt x="3621" y="2828"/>
                </a:cubicBezTo>
                <a:cubicBezTo>
                  <a:pt x="3581" y="2679"/>
                  <a:pt x="3437" y="2802"/>
                  <a:pt x="3373" y="2853"/>
                </a:cubicBezTo>
                <a:cubicBezTo>
                  <a:pt x="3285" y="2923"/>
                  <a:pt x="3240" y="3041"/>
                  <a:pt x="3225" y="3150"/>
                </a:cubicBezTo>
                <a:cubicBezTo>
                  <a:pt x="3216" y="3214"/>
                  <a:pt x="3252" y="3351"/>
                  <a:pt x="3299" y="3398"/>
                </a:cubicBezTo>
                <a:cubicBezTo>
                  <a:pt x="3345" y="3444"/>
                  <a:pt x="3449" y="3442"/>
                  <a:pt x="3497" y="3423"/>
                </a:cubicBezTo>
                <a:cubicBezTo>
                  <a:pt x="3514" y="3415"/>
                  <a:pt x="3530" y="3406"/>
                  <a:pt x="3547" y="3398"/>
                </a:cubicBezTo>
              </a:path>
              <a:path w="8286" h="2234">
                <a:moveTo>
                  <a:pt x="3621" y="3125"/>
                </a:moveTo>
                <a:cubicBezTo>
                  <a:pt x="3645" y="3265"/>
                  <a:pt x="3642" y="3292"/>
                  <a:pt x="3696" y="3398"/>
                </a:cubicBezTo>
                <a:cubicBezTo>
                  <a:pt x="3725" y="3321"/>
                  <a:pt x="3721" y="3260"/>
                  <a:pt x="3721" y="3175"/>
                </a:cubicBezTo>
                <a:cubicBezTo>
                  <a:pt x="3721" y="3060"/>
                  <a:pt x="3739" y="2938"/>
                  <a:pt x="3770" y="2828"/>
                </a:cubicBezTo>
                <a:cubicBezTo>
                  <a:pt x="3793" y="2746"/>
                  <a:pt x="3838" y="2615"/>
                  <a:pt x="3894" y="2555"/>
                </a:cubicBezTo>
                <a:cubicBezTo>
                  <a:pt x="3944" y="2502"/>
                  <a:pt x="3989" y="2516"/>
                  <a:pt x="4043" y="2530"/>
                </a:cubicBezTo>
                <a:cubicBezTo>
                  <a:pt x="4089" y="2669"/>
                  <a:pt x="4067" y="2829"/>
                  <a:pt x="4093" y="2977"/>
                </a:cubicBezTo>
                <a:cubicBezTo>
                  <a:pt x="4107" y="3059"/>
                  <a:pt x="4146" y="3179"/>
                  <a:pt x="4192" y="3249"/>
                </a:cubicBezTo>
                <a:cubicBezTo>
                  <a:pt x="4227" y="3303"/>
                  <a:pt x="4239" y="3294"/>
                  <a:pt x="4217" y="3349"/>
                </a:cubicBezTo>
              </a:path>
              <a:path w="8286" h="2234">
                <a:moveTo>
                  <a:pt x="3944" y="3175"/>
                </a:moveTo>
                <a:cubicBezTo>
                  <a:pt x="4031" y="3034"/>
                  <a:pt x="4059" y="3095"/>
                  <a:pt x="4167" y="3001"/>
                </a:cubicBezTo>
                <a:cubicBezTo>
                  <a:pt x="4192" y="2952"/>
                  <a:pt x="4201" y="2935"/>
                  <a:pt x="4242" y="2927"/>
                </a:cubicBezTo>
              </a:path>
              <a:path w="8286" h="2234">
                <a:moveTo>
                  <a:pt x="4217" y="3026"/>
                </a:moveTo>
                <a:cubicBezTo>
                  <a:pt x="4291" y="3067"/>
                  <a:pt x="4350" y="3096"/>
                  <a:pt x="4440" y="3076"/>
                </a:cubicBezTo>
                <a:cubicBezTo>
                  <a:pt x="4476" y="3068"/>
                  <a:pt x="4603" y="3029"/>
                  <a:pt x="4614" y="2977"/>
                </a:cubicBezTo>
                <a:cubicBezTo>
                  <a:pt x="4620" y="2950"/>
                  <a:pt x="4595" y="2825"/>
                  <a:pt x="4539" y="2828"/>
                </a:cubicBezTo>
                <a:cubicBezTo>
                  <a:pt x="4417" y="2835"/>
                  <a:pt x="4405" y="2910"/>
                  <a:pt x="4366" y="3001"/>
                </a:cubicBezTo>
                <a:cubicBezTo>
                  <a:pt x="4330" y="3085"/>
                  <a:pt x="4337" y="3148"/>
                  <a:pt x="4390" y="3225"/>
                </a:cubicBezTo>
                <a:cubicBezTo>
                  <a:pt x="4429" y="3281"/>
                  <a:pt x="4538" y="3260"/>
                  <a:pt x="4589" y="3249"/>
                </a:cubicBezTo>
              </a:path>
              <a:path w="8286" h="2234">
                <a:moveTo>
                  <a:pt x="4738" y="3051"/>
                </a:moveTo>
                <a:cubicBezTo>
                  <a:pt x="4821" y="3120"/>
                  <a:pt x="4890" y="3151"/>
                  <a:pt x="4986" y="3200"/>
                </a:cubicBezTo>
                <a:cubicBezTo>
                  <a:pt x="5035" y="3225"/>
                  <a:pt x="5052" y="3233"/>
                  <a:pt x="5085" y="3200"/>
                </a:cubicBezTo>
              </a:path>
              <a:path w="8286" h="2234">
                <a:moveTo>
                  <a:pt x="4986" y="2952"/>
                </a:moveTo>
                <a:cubicBezTo>
                  <a:pt x="4879" y="3086"/>
                  <a:pt x="4735" y="3229"/>
                  <a:pt x="4638" y="3373"/>
                </a:cubicBezTo>
                <a:cubicBezTo>
                  <a:pt x="4617" y="3417"/>
                  <a:pt x="4604" y="3428"/>
                  <a:pt x="4638" y="3448"/>
                </a:cubicBezTo>
              </a:path>
              <a:path w="8286" h="2234">
                <a:moveTo>
                  <a:pt x="5755" y="1984"/>
                </a:moveTo>
                <a:cubicBezTo>
                  <a:pt x="5668" y="2158"/>
                  <a:pt x="5593" y="2323"/>
                  <a:pt x="5531" y="2505"/>
                </a:cubicBezTo>
                <a:cubicBezTo>
                  <a:pt x="5482" y="2650"/>
                  <a:pt x="5425" y="2823"/>
                  <a:pt x="5432" y="2977"/>
                </a:cubicBezTo>
                <a:cubicBezTo>
                  <a:pt x="5438" y="3097"/>
                  <a:pt x="5459" y="3272"/>
                  <a:pt x="5531" y="3373"/>
                </a:cubicBezTo>
                <a:cubicBezTo>
                  <a:pt x="5577" y="3437"/>
                  <a:pt x="5641" y="3482"/>
                  <a:pt x="5705" y="3522"/>
                </a:cubicBezTo>
              </a:path>
              <a:path w="8286" h="2234">
                <a:moveTo>
                  <a:pt x="6028" y="2580"/>
                </a:moveTo>
                <a:cubicBezTo>
                  <a:pt x="5988" y="2513"/>
                  <a:pt x="6024" y="2482"/>
                  <a:pt x="6028" y="2406"/>
                </a:cubicBezTo>
                <a:cubicBezTo>
                  <a:pt x="6032" y="2338"/>
                  <a:pt x="6067" y="2315"/>
                  <a:pt x="6102" y="2257"/>
                </a:cubicBezTo>
                <a:cubicBezTo>
                  <a:pt x="6131" y="2209"/>
                  <a:pt x="6203" y="2170"/>
                  <a:pt x="6251" y="2232"/>
                </a:cubicBezTo>
                <a:cubicBezTo>
                  <a:pt x="6310" y="2308"/>
                  <a:pt x="6300" y="2390"/>
                  <a:pt x="6300" y="2480"/>
                </a:cubicBezTo>
                <a:cubicBezTo>
                  <a:pt x="6300" y="2607"/>
                  <a:pt x="6268" y="2706"/>
                  <a:pt x="6251" y="2828"/>
                </a:cubicBezTo>
                <a:cubicBezTo>
                  <a:pt x="6236" y="2931"/>
                  <a:pt x="6194" y="3038"/>
                  <a:pt x="6127" y="3125"/>
                </a:cubicBezTo>
                <a:cubicBezTo>
                  <a:pt x="6089" y="3174"/>
                  <a:pt x="6015" y="3280"/>
                  <a:pt x="5953" y="3299"/>
                </a:cubicBezTo>
                <a:cubicBezTo>
                  <a:pt x="5928" y="3299"/>
                  <a:pt x="5904" y="3299"/>
                  <a:pt x="5879" y="3299"/>
                </a:cubicBezTo>
                <a:cubicBezTo>
                  <a:pt x="5844" y="3242"/>
                  <a:pt x="5843" y="3189"/>
                  <a:pt x="5879" y="3125"/>
                </a:cubicBezTo>
                <a:cubicBezTo>
                  <a:pt x="5919" y="3054"/>
                  <a:pt x="5962" y="2968"/>
                  <a:pt x="6052" y="2952"/>
                </a:cubicBezTo>
                <a:cubicBezTo>
                  <a:pt x="6144" y="2936"/>
                  <a:pt x="6205" y="2948"/>
                  <a:pt x="6251" y="3026"/>
                </a:cubicBezTo>
                <a:cubicBezTo>
                  <a:pt x="6289" y="3089"/>
                  <a:pt x="6323" y="3173"/>
                  <a:pt x="6300" y="3249"/>
                </a:cubicBezTo>
                <a:cubicBezTo>
                  <a:pt x="6292" y="3257"/>
                  <a:pt x="6284" y="3266"/>
                  <a:pt x="6276" y="3274"/>
                </a:cubicBezTo>
              </a:path>
              <a:path w="8286" h="2234">
                <a:moveTo>
                  <a:pt x="6573" y="3150"/>
                </a:moveTo>
                <a:cubicBezTo>
                  <a:pt x="6557" y="3296"/>
                  <a:pt x="6611" y="3215"/>
                  <a:pt x="6648" y="3150"/>
                </a:cubicBezTo>
                <a:cubicBezTo>
                  <a:pt x="6656" y="3142"/>
                  <a:pt x="6664" y="3133"/>
                  <a:pt x="6672" y="3125"/>
                </a:cubicBezTo>
                <a:cubicBezTo>
                  <a:pt x="6654" y="3121"/>
                  <a:pt x="6567" y="3160"/>
                  <a:pt x="6573" y="3225"/>
                </a:cubicBezTo>
                <a:cubicBezTo>
                  <a:pt x="6577" y="3277"/>
                  <a:pt x="6661" y="3257"/>
                  <a:pt x="6648" y="3175"/>
                </a:cubicBezTo>
                <a:cubicBezTo>
                  <a:pt x="6648" y="3167"/>
                  <a:pt x="6648" y="3158"/>
                  <a:pt x="6648" y="3150"/>
                </a:cubicBezTo>
              </a:path>
              <a:path w="8286" h="2234">
                <a:moveTo>
                  <a:pt x="6970" y="2257"/>
                </a:moveTo>
                <a:cubicBezTo>
                  <a:pt x="7015" y="2196"/>
                  <a:pt x="7065" y="2168"/>
                  <a:pt x="7144" y="2158"/>
                </a:cubicBezTo>
                <a:cubicBezTo>
                  <a:pt x="7226" y="2147"/>
                  <a:pt x="7312" y="2137"/>
                  <a:pt x="7392" y="2133"/>
                </a:cubicBezTo>
                <a:cubicBezTo>
                  <a:pt x="7436" y="2133"/>
                  <a:pt x="7450" y="2136"/>
                  <a:pt x="7466" y="2108"/>
                </a:cubicBezTo>
              </a:path>
              <a:path w="8286" h="2234">
                <a:moveTo>
                  <a:pt x="6995" y="2257"/>
                </a:moveTo>
                <a:cubicBezTo>
                  <a:pt x="6969" y="2353"/>
                  <a:pt x="6945" y="2431"/>
                  <a:pt x="6945" y="2530"/>
                </a:cubicBezTo>
                <a:cubicBezTo>
                  <a:pt x="6945" y="2575"/>
                  <a:pt x="6941" y="2588"/>
                  <a:pt x="6970" y="2604"/>
                </a:cubicBezTo>
                <a:cubicBezTo>
                  <a:pt x="7012" y="2563"/>
                  <a:pt x="7083" y="2456"/>
                  <a:pt x="7144" y="2456"/>
                </a:cubicBezTo>
                <a:cubicBezTo>
                  <a:pt x="7251" y="2456"/>
                  <a:pt x="7277" y="2559"/>
                  <a:pt x="7317" y="2629"/>
                </a:cubicBezTo>
                <a:cubicBezTo>
                  <a:pt x="7363" y="2709"/>
                  <a:pt x="7426" y="2805"/>
                  <a:pt x="7417" y="2902"/>
                </a:cubicBezTo>
                <a:cubicBezTo>
                  <a:pt x="7413" y="2945"/>
                  <a:pt x="7378" y="3045"/>
                  <a:pt x="7342" y="3076"/>
                </a:cubicBezTo>
                <a:cubicBezTo>
                  <a:pt x="7282" y="3128"/>
                  <a:pt x="7193" y="3146"/>
                  <a:pt x="7119" y="3150"/>
                </a:cubicBezTo>
                <a:cubicBezTo>
                  <a:pt x="7070" y="3152"/>
                  <a:pt x="6922" y="3122"/>
                  <a:pt x="6921" y="3051"/>
                </a:cubicBezTo>
                <a:cubicBezTo>
                  <a:pt x="6929" y="3043"/>
                  <a:pt x="6937" y="3034"/>
                  <a:pt x="6945" y="3026"/>
                </a:cubicBezTo>
              </a:path>
              <a:path w="8286" h="2234">
                <a:moveTo>
                  <a:pt x="7739" y="3125"/>
                </a:moveTo>
                <a:cubicBezTo>
                  <a:pt x="7583" y="3341"/>
                  <a:pt x="7573" y="3389"/>
                  <a:pt x="7441" y="3473"/>
                </a:cubicBezTo>
              </a:path>
              <a:path w="8286" h="2234">
                <a:moveTo>
                  <a:pt x="7938" y="2480"/>
                </a:moveTo>
                <a:cubicBezTo>
                  <a:pt x="8042" y="2465"/>
                  <a:pt x="8136" y="2444"/>
                  <a:pt x="8235" y="2431"/>
                </a:cubicBezTo>
              </a:path>
              <a:path w="8286" h="2234">
                <a:moveTo>
                  <a:pt x="8533" y="1984"/>
                </a:moveTo>
                <a:cubicBezTo>
                  <a:pt x="8524" y="2046"/>
                  <a:pt x="8501" y="2120"/>
                  <a:pt x="8483" y="2183"/>
                </a:cubicBezTo>
                <a:cubicBezTo>
                  <a:pt x="8446" y="2311"/>
                  <a:pt x="8377" y="2445"/>
                  <a:pt x="8359" y="2580"/>
                </a:cubicBezTo>
                <a:cubicBezTo>
                  <a:pt x="8346" y="2675"/>
                  <a:pt x="8350" y="2787"/>
                  <a:pt x="8384" y="2877"/>
                </a:cubicBezTo>
                <a:cubicBezTo>
                  <a:pt x="8407" y="2938"/>
                  <a:pt x="8494" y="2987"/>
                  <a:pt x="8558" y="3001"/>
                </a:cubicBezTo>
                <a:cubicBezTo>
                  <a:pt x="8624" y="3015"/>
                  <a:pt x="8700" y="2955"/>
                  <a:pt x="8756" y="2927"/>
                </a:cubicBezTo>
                <a:cubicBezTo>
                  <a:pt x="8815" y="2897"/>
                  <a:pt x="8865" y="2821"/>
                  <a:pt x="8880" y="2753"/>
                </a:cubicBezTo>
                <a:cubicBezTo>
                  <a:pt x="8892" y="2701"/>
                  <a:pt x="8878" y="2668"/>
                  <a:pt x="8855" y="2629"/>
                </a:cubicBezTo>
                <a:cubicBezTo>
                  <a:pt x="8789" y="2667"/>
                  <a:pt x="8783" y="2709"/>
                  <a:pt x="8731" y="2753"/>
                </a:cubicBezTo>
                <a:cubicBezTo>
                  <a:pt x="8672" y="2804"/>
                  <a:pt x="8608" y="2856"/>
                  <a:pt x="8632" y="2952"/>
                </a:cubicBezTo>
                <a:cubicBezTo>
                  <a:pt x="8657" y="2977"/>
                  <a:pt x="8665" y="2985"/>
                  <a:pt x="8682" y="3001"/>
                </a:cubicBezTo>
              </a:path>
              <a:path w="8286" h="2234">
                <a:moveTo>
                  <a:pt x="8979" y="2853"/>
                </a:moveTo>
                <a:lnTo>
                  <a:pt x="8979" y="2853"/>
                </a:lnTo>
              </a:path>
              <a:path w="8286" h="2234">
                <a:moveTo>
                  <a:pt x="9277" y="2108"/>
                </a:moveTo>
                <a:cubicBezTo>
                  <a:pt x="9363" y="2028"/>
                  <a:pt x="9408" y="1966"/>
                  <a:pt x="9525" y="1960"/>
                </a:cubicBezTo>
                <a:cubicBezTo>
                  <a:pt x="9666" y="1952"/>
                  <a:pt x="9703" y="2044"/>
                  <a:pt x="9699" y="2183"/>
                </a:cubicBezTo>
                <a:cubicBezTo>
                  <a:pt x="9696" y="2280"/>
                  <a:pt x="9667" y="2438"/>
                  <a:pt x="9624" y="2530"/>
                </a:cubicBezTo>
                <a:cubicBezTo>
                  <a:pt x="9585" y="2614"/>
                  <a:pt x="9533" y="2710"/>
                  <a:pt x="9475" y="2778"/>
                </a:cubicBezTo>
                <a:cubicBezTo>
                  <a:pt x="9444" y="2814"/>
                  <a:pt x="9376" y="2865"/>
                  <a:pt x="9327" y="2853"/>
                </a:cubicBezTo>
                <a:cubicBezTo>
                  <a:pt x="9310" y="2845"/>
                  <a:pt x="9294" y="2836"/>
                  <a:pt x="9277" y="2828"/>
                </a:cubicBezTo>
                <a:cubicBezTo>
                  <a:pt x="9283" y="2754"/>
                  <a:pt x="9278" y="2611"/>
                  <a:pt x="9376" y="2580"/>
                </a:cubicBezTo>
                <a:cubicBezTo>
                  <a:pt x="9471" y="2550"/>
                  <a:pt x="9531" y="2638"/>
                  <a:pt x="9575" y="2704"/>
                </a:cubicBezTo>
                <a:cubicBezTo>
                  <a:pt x="9609" y="2755"/>
                  <a:pt x="9633" y="2808"/>
                  <a:pt x="9674" y="2853"/>
                </a:cubicBezTo>
                <a:cubicBezTo>
                  <a:pt x="9711" y="2893"/>
                  <a:pt x="9717" y="2859"/>
                  <a:pt x="9748" y="2828"/>
                </a:cubicBezTo>
              </a:path>
              <a:path w="8286" h="2234">
                <a:moveTo>
                  <a:pt x="10046" y="1984"/>
                </a:moveTo>
                <a:cubicBezTo>
                  <a:pt x="10134" y="1955"/>
                  <a:pt x="10202" y="1935"/>
                  <a:pt x="10294" y="1935"/>
                </a:cubicBezTo>
                <a:cubicBezTo>
                  <a:pt x="10372" y="1935"/>
                  <a:pt x="10400" y="1919"/>
                  <a:pt x="10468" y="1885"/>
                </a:cubicBezTo>
              </a:path>
              <a:path w="8286" h="2234">
                <a:moveTo>
                  <a:pt x="10096" y="1984"/>
                </a:moveTo>
                <a:cubicBezTo>
                  <a:pt x="10074" y="2080"/>
                  <a:pt x="10026" y="2186"/>
                  <a:pt x="10021" y="2282"/>
                </a:cubicBezTo>
                <a:cubicBezTo>
                  <a:pt x="10021" y="2334"/>
                  <a:pt x="10022" y="2352"/>
                  <a:pt x="10046" y="2381"/>
                </a:cubicBezTo>
                <a:cubicBezTo>
                  <a:pt x="10105" y="2372"/>
                  <a:pt x="10143" y="2346"/>
                  <a:pt x="10195" y="2307"/>
                </a:cubicBezTo>
                <a:cubicBezTo>
                  <a:pt x="10250" y="2266"/>
                  <a:pt x="10269" y="2228"/>
                  <a:pt x="10344" y="2282"/>
                </a:cubicBezTo>
                <a:cubicBezTo>
                  <a:pt x="10401" y="2323"/>
                  <a:pt x="10448" y="2436"/>
                  <a:pt x="10443" y="2505"/>
                </a:cubicBezTo>
                <a:cubicBezTo>
                  <a:pt x="10437" y="2587"/>
                  <a:pt x="10380" y="2680"/>
                  <a:pt x="10344" y="2753"/>
                </a:cubicBezTo>
                <a:cubicBezTo>
                  <a:pt x="10313" y="2815"/>
                  <a:pt x="10267" y="2861"/>
                  <a:pt x="10195" y="2877"/>
                </a:cubicBezTo>
                <a:cubicBezTo>
                  <a:pt x="10088" y="2900"/>
                  <a:pt x="10063" y="2861"/>
                  <a:pt x="10021" y="2778"/>
                </a:cubicBezTo>
              </a:path>
              <a:path w="8286" h="2234">
                <a:moveTo>
                  <a:pt x="10468" y="1488"/>
                </a:moveTo>
                <a:cubicBezTo>
                  <a:pt x="10593" y="1572"/>
                  <a:pt x="10710" y="1654"/>
                  <a:pt x="10790" y="1786"/>
                </a:cubicBezTo>
                <a:cubicBezTo>
                  <a:pt x="10910" y="1983"/>
                  <a:pt x="10935" y="2181"/>
                  <a:pt x="10939" y="2406"/>
                </a:cubicBezTo>
                <a:cubicBezTo>
                  <a:pt x="10942" y="2586"/>
                  <a:pt x="10949" y="2778"/>
                  <a:pt x="10889" y="2952"/>
                </a:cubicBezTo>
                <a:cubicBezTo>
                  <a:pt x="10837" y="3058"/>
                  <a:pt x="10817" y="3098"/>
                  <a:pt x="10790" y="31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5"/>
          <p:cNvSpPr/>
          <p:nvPr/>
        </p:nvSpPr>
        <p:spPr>
          <a:xfrm>
            <a:off x="2116080" y="1500120"/>
            <a:ext cx="366840" cy="206280"/>
          </a:xfrm>
          <a:custGeom>
            <a:avLst/>
            <a:gdLst/>
            <a:ahLst/>
            <a:rect l="l" t="t" r="r" b="b"/>
            <a:pathLst>
              <a:path w="1018" h="572">
                <a:moveTo>
                  <a:pt x="6226" y="4291"/>
                </a:moveTo>
                <a:cubicBezTo>
                  <a:pt x="6170" y="4263"/>
                  <a:pt x="6156" y="4301"/>
                  <a:pt x="6152" y="4366"/>
                </a:cubicBezTo>
                <a:cubicBezTo>
                  <a:pt x="6152" y="4382"/>
                  <a:pt x="6152" y="4399"/>
                  <a:pt x="6152" y="4415"/>
                </a:cubicBezTo>
                <a:cubicBezTo>
                  <a:pt x="6109" y="4387"/>
                  <a:pt x="6128" y="4343"/>
                  <a:pt x="6102" y="4291"/>
                </a:cubicBezTo>
                <a:cubicBezTo>
                  <a:pt x="6084" y="4254"/>
                  <a:pt x="6074" y="4228"/>
                  <a:pt x="6052" y="4192"/>
                </a:cubicBezTo>
                <a:cubicBezTo>
                  <a:pt x="6005" y="4252"/>
                  <a:pt x="5996" y="4297"/>
                  <a:pt x="5978" y="4366"/>
                </a:cubicBezTo>
                <a:cubicBezTo>
                  <a:pt x="5959" y="4439"/>
                  <a:pt x="5927" y="4521"/>
                  <a:pt x="5904" y="4589"/>
                </a:cubicBezTo>
                <a:cubicBezTo>
                  <a:pt x="5897" y="4611"/>
                  <a:pt x="5849" y="4744"/>
                  <a:pt x="5928" y="4738"/>
                </a:cubicBezTo>
                <a:cubicBezTo>
                  <a:pt x="6012" y="4732"/>
                  <a:pt x="6090" y="4621"/>
                  <a:pt x="6127" y="4564"/>
                </a:cubicBezTo>
                <a:cubicBezTo>
                  <a:pt x="6154" y="4522"/>
                  <a:pt x="6166" y="4500"/>
                  <a:pt x="6201" y="4465"/>
                </a:cubicBezTo>
                <a:cubicBezTo>
                  <a:pt x="6244" y="4518"/>
                  <a:pt x="6235" y="4594"/>
                  <a:pt x="6300" y="4614"/>
                </a:cubicBezTo>
                <a:cubicBezTo>
                  <a:pt x="6317" y="4614"/>
                  <a:pt x="6333" y="4614"/>
                  <a:pt x="6350" y="4614"/>
                </a:cubicBezTo>
              </a:path>
              <a:path w="1018" h="572">
                <a:moveTo>
                  <a:pt x="6424" y="4440"/>
                </a:moveTo>
                <a:cubicBezTo>
                  <a:pt x="6524" y="4397"/>
                  <a:pt x="6527" y="4390"/>
                  <a:pt x="6623" y="4390"/>
                </a:cubicBezTo>
              </a:path>
              <a:path w="1018" h="572">
                <a:moveTo>
                  <a:pt x="6524" y="4614"/>
                </a:moveTo>
                <a:cubicBezTo>
                  <a:pt x="6584" y="4609"/>
                  <a:pt x="6617" y="4600"/>
                  <a:pt x="6672" y="4589"/>
                </a:cubicBezTo>
              </a:path>
              <a:path w="1018" h="572">
                <a:moveTo>
                  <a:pt x="6846" y="4167"/>
                </a:moveTo>
                <a:cubicBezTo>
                  <a:pt x="6854" y="4261"/>
                  <a:pt x="6871" y="4344"/>
                  <a:pt x="6871" y="4440"/>
                </a:cubicBezTo>
                <a:cubicBezTo>
                  <a:pt x="6871" y="4510"/>
                  <a:pt x="6896" y="4565"/>
                  <a:pt x="6896" y="46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6"/>
          <p:cNvSpPr/>
          <p:nvPr/>
        </p:nvSpPr>
        <p:spPr>
          <a:xfrm>
            <a:off x="2955960" y="1357200"/>
            <a:ext cx="696960" cy="304920"/>
          </a:xfrm>
          <a:custGeom>
            <a:avLst/>
            <a:gdLst/>
            <a:ahLst/>
            <a:rect l="l" t="t" r="r" b="b"/>
            <a:pathLst>
              <a:path w="1936" h="845">
                <a:moveTo>
                  <a:pt x="8235" y="3770"/>
                </a:moveTo>
                <a:cubicBezTo>
                  <a:pt x="8207" y="3827"/>
                  <a:pt x="8196" y="3923"/>
                  <a:pt x="8210" y="3994"/>
                </a:cubicBezTo>
                <a:cubicBezTo>
                  <a:pt x="8228" y="4089"/>
                  <a:pt x="8235" y="4199"/>
                  <a:pt x="8260" y="4291"/>
                </a:cubicBezTo>
                <a:cubicBezTo>
                  <a:pt x="8282" y="4370"/>
                  <a:pt x="8310" y="4403"/>
                  <a:pt x="8310" y="4490"/>
                </a:cubicBezTo>
                <a:cubicBezTo>
                  <a:pt x="8310" y="4539"/>
                  <a:pt x="8310" y="4556"/>
                  <a:pt x="8310" y="4589"/>
                </a:cubicBezTo>
                <a:cubicBezTo>
                  <a:pt x="8264" y="4521"/>
                  <a:pt x="8255" y="4447"/>
                  <a:pt x="8285" y="4366"/>
                </a:cubicBezTo>
                <a:cubicBezTo>
                  <a:pt x="8299" y="4330"/>
                  <a:pt x="8313" y="4263"/>
                  <a:pt x="8359" y="4242"/>
                </a:cubicBezTo>
                <a:cubicBezTo>
                  <a:pt x="8409" y="4219"/>
                  <a:pt x="8532" y="4218"/>
                  <a:pt x="8558" y="4291"/>
                </a:cubicBezTo>
                <a:cubicBezTo>
                  <a:pt x="8591" y="4382"/>
                  <a:pt x="8508" y="4419"/>
                  <a:pt x="8458" y="4465"/>
                </a:cubicBezTo>
                <a:cubicBezTo>
                  <a:pt x="8449" y="4474"/>
                  <a:pt x="8323" y="4640"/>
                  <a:pt x="8384" y="4614"/>
                </a:cubicBezTo>
                <a:cubicBezTo>
                  <a:pt x="8392" y="4597"/>
                  <a:pt x="8401" y="4581"/>
                  <a:pt x="8409" y="4564"/>
                </a:cubicBezTo>
              </a:path>
              <a:path w="1936" h="845">
                <a:moveTo>
                  <a:pt x="8682" y="4366"/>
                </a:moveTo>
                <a:cubicBezTo>
                  <a:pt x="8746" y="4318"/>
                  <a:pt x="8781" y="4303"/>
                  <a:pt x="8855" y="4341"/>
                </a:cubicBezTo>
                <a:cubicBezTo>
                  <a:pt x="8863" y="4349"/>
                  <a:pt x="8872" y="4358"/>
                  <a:pt x="8880" y="4366"/>
                </a:cubicBezTo>
              </a:path>
              <a:path w="1936" h="845">
                <a:moveTo>
                  <a:pt x="8781" y="4564"/>
                </a:moveTo>
                <a:cubicBezTo>
                  <a:pt x="8839" y="4564"/>
                  <a:pt x="8896" y="4564"/>
                  <a:pt x="8954" y="4564"/>
                </a:cubicBezTo>
              </a:path>
              <a:path w="1936" h="845">
                <a:moveTo>
                  <a:pt x="9128" y="4316"/>
                </a:moveTo>
                <a:cubicBezTo>
                  <a:pt x="9221" y="4289"/>
                  <a:pt x="9307" y="4259"/>
                  <a:pt x="9401" y="4242"/>
                </a:cubicBezTo>
                <a:cubicBezTo>
                  <a:pt x="9409" y="4242"/>
                  <a:pt x="9418" y="4242"/>
                  <a:pt x="9426" y="4242"/>
                </a:cubicBezTo>
              </a:path>
              <a:path w="1936" h="845">
                <a:moveTo>
                  <a:pt x="9723" y="3969"/>
                </a:moveTo>
                <a:cubicBezTo>
                  <a:pt x="9832" y="3921"/>
                  <a:pt x="9902" y="3894"/>
                  <a:pt x="10021" y="3894"/>
                </a:cubicBezTo>
              </a:path>
              <a:path w="1936" h="845">
                <a:moveTo>
                  <a:pt x="9624" y="4093"/>
                </a:moveTo>
                <a:cubicBezTo>
                  <a:pt x="9585" y="4189"/>
                  <a:pt x="9664" y="4167"/>
                  <a:pt x="9748" y="4167"/>
                </a:cubicBezTo>
                <a:cubicBezTo>
                  <a:pt x="9850" y="4167"/>
                  <a:pt x="9949" y="4157"/>
                  <a:pt x="10046" y="4192"/>
                </a:cubicBezTo>
                <a:cubicBezTo>
                  <a:pt x="10096" y="4217"/>
                  <a:pt x="10112" y="4225"/>
                  <a:pt x="10145" y="4242"/>
                </a:cubicBezTo>
                <a:cubicBezTo>
                  <a:pt x="10123" y="4330"/>
                  <a:pt x="10055" y="4373"/>
                  <a:pt x="9971" y="4415"/>
                </a:cubicBezTo>
                <a:cubicBezTo>
                  <a:pt x="9894" y="4454"/>
                  <a:pt x="9793" y="4459"/>
                  <a:pt x="9723" y="4514"/>
                </a:cubicBezTo>
                <a:cubicBezTo>
                  <a:pt x="9682" y="4556"/>
                  <a:pt x="9674" y="4564"/>
                  <a:pt x="9649" y="45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7"/>
          <p:cNvSpPr/>
          <p:nvPr/>
        </p:nvSpPr>
        <p:spPr>
          <a:xfrm>
            <a:off x="1177920" y="1697040"/>
            <a:ext cx="1001880" cy="571320"/>
          </a:xfrm>
          <a:custGeom>
            <a:avLst/>
            <a:gdLst/>
            <a:ahLst/>
            <a:rect l="l" t="t" r="r" b="b"/>
            <a:pathLst>
              <a:path w="2779" h="1588">
                <a:moveTo>
                  <a:pt x="4167" y="5110"/>
                </a:moveTo>
                <a:cubicBezTo>
                  <a:pt x="4211" y="5004"/>
                  <a:pt x="4223" y="4954"/>
                  <a:pt x="4142" y="4862"/>
                </a:cubicBezTo>
                <a:cubicBezTo>
                  <a:pt x="4089" y="4802"/>
                  <a:pt x="3998" y="4728"/>
                  <a:pt x="3919" y="4713"/>
                </a:cubicBezTo>
                <a:cubicBezTo>
                  <a:pt x="3826" y="4695"/>
                  <a:pt x="3751" y="4707"/>
                  <a:pt x="3696" y="4762"/>
                </a:cubicBezTo>
                <a:cubicBezTo>
                  <a:pt x="3593" y="4864"/>
                  <a:pt x="3616" y="4948"/>
                  <a:pt x="3597" y="5085"/>
                </a:cubicBezTo>
                <a:cubicBezTo>
                  <a:pt x="3570" y="5281"/>
                  <a:pt x="3631" y="5437"/>
                  <a:pt x="3646" y="5631"/>
                </a:cubicBezTo>
                <a:cubicBezTo>
                  <a:pt x="3662" y="5830"/>
                  <a:pt x="3671" y="6025"/>
                  <a:pt x="3671" y="6226"/>
                </a:cubicBezTo>
                <a:cubicBezTo>
                  <a:pt x="3671" y="6294"/>
                  <a:pt x="3670" y="6300"/>
                  <a:pt x="3621" y="6276"/>
                </a:cubicBezTo>
              </a:path>
              <a:path w="2779" h="1588">
                <a:moveTo>
                  <a:pt x="3274" y="5928"/>
                </a:moveTo>
                <a:cubicBezTo>
                  <a:pt x="3409" y="5893"/>
                  <a:pt x="3538" y="5841"/>
                  <a:pt x="3671" y="5804"/>
                </a:cubicBezTo>
                <a:cubicBezTo>
                  <a:pt x="3797" y="5779"/>
                  <a:pt x="3841" y="5769"/>
                  <a:pt x="3919" y="5730"/>
                </a:cubicBezTo>
              </a:path>
              <a:path w="2779" h="1588">
                <a:moveTo>
                  <a:pt x="4390" y="5308"/>
                </a:moveTo>
                <a:cubicBezTo>
                  <a:pt x="4315" y="5412"/>
                  <a:pt x="4237" y="5507"/>
                  <a:pt x="4192" y="5631"/>
                </a:cubicBezTo>
                <a:cubicBezTo>
                  <a:pt x="4154" y="5735"/>
                  <a:pt x="4092" y="5898"/>
                  <a:pt x="4192" y="5978"/>
                </a:cubicBezTo>
                <a:cubicBezTo>
                  <a:pt x="4302" y="6067"/>
                  <a:pt x="4384" y="6069"/>
                  <a:pt x="4514" y="6077"/>
                </a:cubicBezTo>
              </a:path>
              <a:path w="2779" h="1588">
                <a:moveTo>
                  <a:pt x="4762" y="5631"/>
                </a:moveTo>
                <a:cubicBezTo>
                  <a:pt x="4797" y="5722"/>
                  <a:pt x="4816" y="5778"/>
                  <a:pt x="4887" y="5854"/>
                </a:cubicBezTo>
                <a:cubicBezTo>
                  <a:pt x="4963" y="5934"/>
                  <a:pt x="5054" y="5944"/>
                  <a:pt x="5159" y="5953"/>
                </a:cubicBezTo>
              </a:path>
              <a:path w="2779" h="1588">
                <a:moveTo>
                  <a:pt x="5110" y="5556"/>
                </a:moveTo>
                <a:cubicBezTo>
                  <a:pt x="4940" y="5678"/>
                  <a:pt x="4766" y="5786"/>
                  <a:pt x="4638" y="5953"/>
                </a:cubicBezTo>
                <a:cubicBezTo>
                  <a:pt x="4575" y="6035"/>
                  <a:pt x="4545" y="6050"/>
                  <a:pt x="4614" y="6077"/>
                </a:cubicBezTo>
              </a:path>
              <a:path w="2779" h="1588">
                <a:moveTo>
                  <a:pt x="5085" y="5184"/>
                </a:moveTo>
                <a:cubicBezTo>
                  <a:pt x="5335" y="5241"/>
                  <a:pt x="5422" y="5303"/>
                  <a:pt x="5482" y="5556"/>
                </a:cubicBezTo>
                <a:cubicBezTo>
                  <a:pt x="5508" y="5668"/>
                  <a:pt x="5538" y="5822"/>
                  <a:pt x="5482" y="5928"/>
                </a:cubicBezTo>
                <a:cubicBezTo>
                  <a:pt x="5437" y="6015"/>
                  <a:pt x="5372" y="6067"/>
                  <a:pt x="5283" y="6102"/>
                </a:cubicBezTo>
                <a:cubicBezTo>
                  <a:pt x="5196" y="6136"/>
                  <a:pt x="5186" y="6116"/>
                  <a:pt x="5110" y="6077"/>
                </a:cubicBezTo>
              </a:path>
              <a:path w="2779" h="1588">
                <a:moveTo>
                  <a:pt x="5730" y="5531"/>
                </a:moveTo>
                <a:cubicBezTo>
                  <a:pt x="5845" y="5512"/>
                  <a:pt x="5921" y="5493"/>
                  <a:pt x="6028" y="5531"/>
                </a:cubicBezTo>
              </a:path>
              <a:path w="2779" h="1588">
                <a:moveTo>
                  <a:pt x="5606" y="5779"/>
                </a:moveTo>
                <a:cubicBezTo>
                  <a:pt x="5724" y="5819"/>
                  <a:pt x="5829" y="5804"/>
                  <a:pt x="5953" y="5779"/>
                </a:cubicBezTo>
                <a:cubicBezTo>
                  <a:pt x="5986" y="5771"/>
                  <a:pt x="6019" y="5763"/>
                  <a:pt x="6052" y="57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8"/>
          <p:cNvSpPr/>
          <p:nvPr/>
        </p:nvSpPr>
        <p:spPr>
          <a:xfrm>
            <a:off x="2428920" y="1724040"/>
            <a:ext cx="1197000" cy="455760"/>
          </a:xfrm>
          <a:custGeom>
            <a:avLst/>
            <a:gdLst/>
            <a:ahLst/>
            <a:rect l="l" t="t" r="r" b="b"/>
            <a:pathLst>
              <a:path w="3325" h="1266">
                <a:moveTo>
                  <a:pt x="6871" y="5407"/>
                </a:moveTo>
                <a:cubicBezTo>
                  <a:pt x="6947" y="5521"/>
                  <a:pt x="7025" y="5637"/>
                  <a:pt x="7094" y="5755"/>
                </a:cubicBezTo>
                <a:cubicBezTo>
                  <a:pt x="7150" y="5851"/>
                  <a:pt x="7216" y="5950"/>
                  <a:pt x="7317" y="6003"/>
                </a:cubicBezTo>
                <a:cubicBezTo>
                  <a:pt x="7378" y="6023"/>
                  <a:pt x="7393" y="6042"/>
                  <a:pt x="7417" y="6003"/>
                </a:cubicBezTo>
              </a:path>
              <a:path w="3325" h="1266">
                <a:moveTo>
                  <a:pt x="7243" y="5283"/>
                </a:moveTo>
                <a:cubicBezTo>
                  <a:pt x="7116" y="5455"/>
                  <a:pt x="6995" y="5630"/>
                  <a:pt x="6871" y="5804"/>
                </a:cubicBezTo>
                <a:cubicBezTo>
                  <a:pt x="6859" y="5820"/>
                  <a:pt x="6745" y="5985"/>
                  <a:pt x="6747" y="6003"/>
                </a:cubicBezTo>
                <a:cubicBezTo>
                  <a:pt x="6755" y="6011"/>
                  <a:pt x="6764" y="6020"/>
                  <a:pt x="6772" y="6028"/>
                </a:cubicBezTo>
              </a:path>
              <a:path w="3325" h="1266">
                <a:moveTo>
                  <a:pt x="7342" y="4911"/>
                </a:moveTo>
                <a:cubicBezTo>
                  <a:pt x="7438" y="4866"/>
                  <a:pt x="7717" y="4662"/>
                  <a:pt x="7739" y="4911"/>
                </a:cubicBezTo>
                <a:cubicBezTo>
                  <a:pt x="7751" y="5051"/>
                  <a:pt x="7614" y="5141"/>
                  <a:pt x="7541" y="5234"/>
                </a:cubicBezTo>
                <a:cubicBezTo>
                  <a:pt x="7517" y="5282"/>
                  <a:pt x="7508" y="5296"/>
                  <a:pt x="7516" y="5333"/>
                </a:cubicBezTo>
                <a:cubicBezTo>
                  <a:pt x="7621" y="5373"/>
                  <a:pt x="7702" y="5354"/>
                  <a:pt x="7813" y="5333"/>
                </a:cubicBezTo>
              </a:path>
              <a:path w="3325" h="1266">
                <a:moveTo>
                  <a:pt x="8111" y="5680"/>
                </a:moveTo>
                <a:cubicBezTo>
                  <a:pt x="8224" y="5680"/>
                  <a:pt x="8300" y="5677"/>
                  <a:pt x="8409" y="5655"/>
                </a:cubicBezTo>
              </a:path>
              <a:path w="3325" h="1266">
                <a:moveTo>
                  <a:pt x="9079" y="5209"/>
                </a:moveTo>
                <a:cubicBezTo>
                  <a:pt x="9183" y="5209"/>
                  <a:pt x="9274" y="5193"/>
                  <a:pt x="9376" y="5184"/>
                </a:cubicBezTo>
              </a:path>
              <a:path w="3325" h="1266">
                <a:moveTo>
                  <a:pt x="9004" y="5159"/>
                </a:moveTo>
                <a:cubicBezTo>
                  <a:pt x="8884" y="5291"/>
                  <a:pt x="8750" y="5352"/>
                  <a:pt x="8880" y="5482"/>
                </a:cubicBezTo>
                <a:cubicBezTo>
                  <a:pt x="8921" y="5523"/>
                  <a:pt x="9030" y="5464"/>
                  <a:pt x="9079" y="5432"/>
                </a:cubicBezTo>
                <a:cubicBezTo>
                  <a:pt x="9163" y="5377"/>
                  <a:pt x="9264" y="5405"/>
                  <a:pt x="9327" y="5507"/>
                </a:cubicBezTo>
                <a:cubicBezTo>
                  <a:pt x="9393" y="5615"/>
                  <a:pt x="9434" y="5766"/>
                  <a:pt x="9327" y="5854"/>
                </a:cubicBezTo>
                <a:cubicBezTo>
                  <a:pt x="9257" y="5911"/>
                  <a:pt x="9163" y="5904"/>
                  <a:pt x="9079" y="5904"/>
                </a:cubicBezTo>
                <a:cubicBezTo>
                  <a:pt x="8991" y="5904"/>
                  <a:pt x="8964" y="5888"/>
                  <a:pt x="8905" y="5829"/>
                </a:cubicBezTo>
              </a:path>
              <a:path w="3325" h="1266">
                <a:moveTo>
                  <a:pt x="9525" y="5531"/>
                </a:moveTo>
                <a:cubicBezTo>
                  <a:pt x="9620" y="5645"/>
                  <a:pt x="9715" y="5779"/>
                  <a:pt x="9847" y="5854"/>
                </a:cubicBezTo>
                <a:cubicBezTo>
                  <a:pt x="9969" y="5914"/>
                  <a:pt x="9988" y="5939"/>
                  <a:pt x="10071" y="5928"/>
                </a:cubicBezTo>
              </a:path>
              <a:path w="3325" h="1266">
                <a:moveTo>
                  <a:pt x="9823" y="5531"/>
                </a:moveTo>
                <a:cubicBezTo>
                  <a:pt x="9617" y="5711"/>
                  <a:pt x="9430" y="5880"/>
                  <a:pt x="9227" y="60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9"/>
          <p:cNvSpPr/>
          <p:nvPr/>
        </p:nvSpPr>
        <p:spPr>
          <a:xfrm>
            <a:off x="1455840" y="2401920"/>
            <a:ext cx="2108160" cy="482400"/>
          </a:xfrm>
          <a:custGeom>
            <a:avLst/>
            <a:gdLst/>
            <a:ahLst/>
            <a:rect l="l" t="t" r="r" b="b"/>
            <a:pathLst>
              <a:path w="5855" h="1341">
                <a:moveTo>
                  <a:pt x="5755" y="7293"/>
                </a:moveTo>
                <a:cubicBezTo>
                  <a:pt x="5816" y="7320"/>
                  <a:pt x="5863" y="7335"/>
                  <a:pt x="5928" y="7342"/>
                </a:cubicBezTo>
              </a:path>
              <a:path w="5855" h="1341">
                <a:moveTo>
                  <a:pt x="5606" y="7491"/>
                </a:moveTo>
                <a:cubicBezTo>
                  <a:pt x="5730" y="7564"/>
                  <a:pt x="5808" y="7565"/>
                  <a:pt x="5953" y="7565"/>
                </a:cubicBezTo>
                <a:cubicBezTo>
                  <a:pt x="5978" y="7565"/>
                  <a:pt x="6003" y="7565"/>
                  <a:pt x="6028" y="7565"/>
                </a:cubicBezTo>
              </a:path>
              <a:path w="5855" h="1341">
                <a:moveTo>
                  <a:pt x="6573" y="7119"/>
                </a:moveTo>
                <a:cubicBezTo>
                  <a:pt x="6607" y="7210"/>
                  <a:pt x="6641" y="7299"/>
                  <a:pt x="6672" y="7392"/>
                </a:cubicBezTo>
                <a:cubicBezTo>
                  <a:pt x="6706" y="7495"/>
                  <a:pt x="6733" y="7593"/>
                  <a:pt x="6821" y="7665"/>
                </a:cubicBezTo>
                <a:cubicBezTo>
                  <a:pt x="6894" y="7725"/>
                  <a:pt x="6972" y="7781"/>
                  <a:pt x="7045" y="7838"/>
                </a:cubicBezTo>
                <a:cubicBezTo>
                  <a:pt x="7073" y="7867"/>
                  <a:pt x="7086" y="7875"/>
                  <a:pt x="7119" y="7863"/>
                </a:cubicBezTo>
              </a:path>
              <a:path w="5855" h="1341">
                <a:moveTo>
                  <a:pt x="6921" y="7094"/>
                </a:moveTo>
                <a:cubicBezTo>
                  <a:pt x="6827" y="7254"/>
                  <a:pt x="6701" y="7420"/>
                  <a:pt x="6623" y="7590"/>
                </a:cubicBezTo>
                <a:cubicBezTo>
                  <a:pt x="6586" y="7670"/>
                  <a:pt x="6529" y="7724"/>
                  <a:pt x="6524" y="7813"/>
                </a:cubicBezTo>
                <a:cubicBezTo>
                  <a:pt x="6524" y="7855"/>
                  <a:pt x="6524" y="7863"/>
                  <a:pt x="6524" y="7888"/>
                </a:cubicBezTo>
              </a:path>
              <a:path w="5855" h="1341">
                <a:moveTo>
                  <a:pt x="7665" y="6722"/>
                </a:moveTo>
                <a:cubicBezTo>
                  <a:pt x="7654" y="6841"/>
                  <a:pt x="7597" y="6912"/>
                  <a:pt x="7541" y="7020"/>
                </a:cubicBezTo>
                <a:cubicBezTo>
                  <a:pt x="7480" y="7139"/>
                  <a:pt x="7434" y="7283"/>
                  <a:pt x="7417" y="7417"/>
                </a:cubicBezTo>
                <a:cubicBezTo>
                  <a:pt x="7403" y="7530"/>
                  <a:pt x="7428" y="7613"/>
                  <a:pt x="7466" y="7714"/>
                </a:cubicBezTo>
                <a:cubicBezTo>
                  <a:pt x="7504" y="7816"/>
                  <a:pt x="7534" y="7850"/>
                  <a:pt x="7640" y="7863"/>
                </a:cubicBezTo>
              </a:path>
              <a:path w="5855" h="1341">
                <a:moveTo>
                  <a:pt x="7838" y="7218"/>
                </a:moveTo>
                <a:cubicBezTo>
                  <a:pt x="7838" y="7301"/>
                  <a:pt x="7844" y="7366"/>
                  <a:pt x="7888" y="7441"/>
                </a:cubicBezTo>
                <a:cubicBezTo>
                  <a:pt x="7938" y="7526"/>
                  <a:pt x="8012" y="7648"/>
                  <a:pt x="8086" y="7714"/>
                </a:cubicBezTo>
                <a:cubicBezTo>
                  <a:pt x="8145" y="7767"/>
                  <a:pt x="8232" y="7809"/>
                  <a:pt x="8310" y="7813"/>
                </a:cubicBezTo>
                <a:cubicBezTo>
                  <a:pt x="8326" y="7813"/>
                  <a:pt x="8343" y="7813"/>
                  <a:pt x="8359" y="7813"/>
                </a:cubicBezTo>
              </a:path>
              <a:path w="5855" h="1341">
                <a:moveTo>
                  <a:pt x="8086" y="7243"/>
                </a:moveTo>
                <a:cubicBezTo>
                  <a:pt x="8006" y="7369"/>
                  <a:pt x="7951" y="7483"/>
                  <a:pt x="7888" y="7615"/>
                </a:cubicBezTo>
                <a:cubicBezTo>
                  <a:pt x="7861" y="7673"/>
                  <a:pt x="7846" y="7702"/>
                  <a:pt x="7838" y="7764"/>
                </a:cubicBezTo>
              </a:path>
              <a:path w="5855" h="1341">
                <a:moveTo>
                  <a:pt x="8384" y="7466"/>
                </a:moveTo>
                <a:cubicBezTo>
                  <a:pt x="8502" y="7466"/>
                  <a:pt x="8573" y="7468"/>
                  <a:pt x="8682" y="7441"/>
                </a:cubicBezTo>
              </a:path>
              <a:path w="5855" h="1341">
                <a:moveTo>
                  <a:pt x="9029" y="7094"/>
                </a:moveTo>
                <a:cubicBezTo>
                  <a:pt x="9136" y="7094"/>
                  <a:pt x="9244" y="7094"/>
                  <a:pt x="9351" y="7094"/>
                </a:cubicBezTo>
              </a:path>
              <a:path w="5855" h="1341">
                <a:moveTo>
                  <a:pt x="8905" y="7169"/>
                </a:moveTo>
                <a:cubicBezTo>
                  <a:pt x="8847" y="7239"/>
                  <a:pt x="8793" y="7286"/>
                  <a:pt x="8830" y="7367"/>
                </a:cubicBezTo>
                <a:cubicBezTo>
                  <a:pt x="8861" y="7435"/>
                  <a:pt x="8924" y="7437"/>
                  <a:pt x="8979" y="7392"/>
                </a:cubicBezTo>
                <a:cubicBezTo>
                  <a:pt x="9036" y="7346"/>
                  <a:pt x="9038" y="7299"/>
                  <a:pt x="9128" y="7317"/>
                </a:cubicBezTo>
                <a:cubicBezTo>
                  <a:pt x="9190" y="7330"/>
                  <a:pt x="9280" y="7409"/>
                  <a:pt x="9302" y="7466"/>
                </a:cubicBezTo>
                <a:cubicBezTo>
                  <a:pt x="9331" y="7540"/>
                  <a:pt x="9332" y="7606"/>
                  <a:pt x="9277" y="7665"/>
                </a:cubicBezTo>
                <a:cubicBezTo>
                  <a:pt x="9228" y="7718"/>
                  <a:pt x="9181" y="7754"/>
                  <a:pt x="9103" y="7739"/>
                </a:cubicBezTo>
                <a:cubicBezTo>
                  <a:pt x="9033" y="7725"/>
                  <a:pt x="8995" y="7687"/>
                  <a:pt x="8954" y="7640"/>
                </a:cubicBezTo>
              </a:path>
              <a:path w="5855" h="1341">
                <a:moveTo>
                  <a:pt x="9376" y="6672"/>
                </a:moveTo>
                <a:cubicBezTo>
                  <a:pt x="9598" y="6823"/>
                  <a:pt x="9731" y="6944"/>
                  <a:pt x="9847" y="7193"/>
                </a:cubicBezTo>
                <a:cubicBezTo>
                  <a:pt x="9941" y="7396"/>
                  <a:pt x="9888" y="7583"/>
                  <a:pt x="9773" y="7764"/>
                </a:cubicBezTo>
                <a:cubicBezTo>
                  <a:pt x="9712" y="7859"/>
                  <a:pt x="9629" y="7933"/>
                  <a:pt x="9550" y="8012"/>
                </a:cubicBezTo>
              </a:path>
              <a:path w="5855" h="1341">
                <a:moveTo>
                  <a:pt x="4217" y="7119"/>
                </a:moveTo>
                <a:cubicBezTo>
                  <a:pt x="4217" y="7213"/>
                  <a:pt x="4195" y="7298"/>
                  <a:pt x="4192" y="7392"/>
                </a:cubicBezTo>
                <a:cubicBezTo>
                  <a:pt x="4188" y="7514"/>
                  <a:pt x="4157" y="7595"/>
                  <a:pt x="4192" y="7714"/>
                </a:cubicBezTo>
                <a:cubicBezTo>
                  <a:pt x="4223" y="7817"/>
                  <a:pt x="4266" y="7888"/>
                  <a:pt x="4366" y="7938"/>
                </a:cubicBezTo>
                <a:cubicBezTo>
                  <a:pt x="4466" y="7987"/>
                  <a:pt x="4586" y="7961"/>
                  <a:pt x="4688" y="7938"/>
                </a:cubicBezTo>
                <a:cubicBezTo>
                  <a:pt x="4798" y="7913"/>
                  <a:pt x="4912" y="7854"/>
                  <a:pt x="4986" y="7764"/>
                </a:cubicBezTo>
                <a:cubicBezTo>
                  <a:pt x="5063" y="7670"/>
                  <a:pt x="5104" y="7563"/>
                  <a:pt x="5085" y="7441"/>
                </a:cubicBezTo>
                <a:cubicBezTo>
                  <a:pt x="5064" y="7310"/>
                  <a:pt x="5025" y="7175"/>
                  <a:pt x="4911" y="7094"/>
                </a:cubicBezTo>
                <a:cubicBezTo>
                  <a:pt x="4785" y="7005"/>
                  <a:pt x="4612" y="6999"/>
                  <a:pt x="4465" y="6995"/>
                </a:cubicBezTo>
                <a:cubicBezTo>
                  <a:pt x="4332" y="6992"/>
                  <a:pt x="4200" y="7011"/>
                  <a:pt x="4093" y="7094"/>
                </a:cubicBezTo>
                <a:cubicBezTo>
                  <a:pt x="4076" y="7111"/>
                  <a:pt x="4060" y="7127"/>
                  <a:pt x="4043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0"/>
          <p:cNvSpPr/>
          <p:nvPr/>
        </p:nvSpPr>
        <p:spPr>
          <a:xfrm>
            <a:off x="1187280" y="3160800"/>
            <a:ext cx="696960" cy="268200"/>
          </a:xfrm>
          <a:custGeom>
            <a:avLst/>
            <a:gdLst/>
            <a:ahLst/>
            <a:rect l="l" t="t" r="r" b="b"/>
            <a:pathLst>
              <a:path w="1936" h="745">
                <a:moveTo>
                  <a:pt x="3349" y="8781"/>
                </a:moveTo>
                <a:cubicBezTo>
                  <a:pt x="3360" y="8958"/>
                  <a:pt x="3413" y="9087"/>
                  <a:pt x="3497" y="9252"/>
                </a:cubicBezTo>
                <a:cubicBezTo>
                  <a:pt x="3538" y="9332"/>
                  <a:pt x="3647" y="9421"/>
                  <a:pt x="3721" y="9475"/>
                </a:cubicBezTo>
                <a:cubicBezTo>
                  <a:pt x="3786" y="9522"/>
                  <a:pt x="3843" y="9525"/>
                  <a:pt x="3919" y="9525"/>
                </a:cubicBezTo>
              </a:path>
              <a:path w="1936" h="745">
                <a:moveTo>
                  <a:pt x="3671" y="8855"/>
                </a:moveTo>
                <a:cubicBezTo>
                  <a:pt x="3573" y="9043"/>
                  <a:pt x="3483" y="9214"/>
                  <a:pt x="3398" y="9401"/>
                </a:cubicBezTo>
                <a:cubicBezTo>
                  <a:pt x="3369" y="9465"/>
                  <a:pt x="3360" y="9530"/>
                  <a:pt x="3299" y="9500"/>
                </a:cubicBezTo>
              </a:path>
              <a:path w="1936" h="745">
                <a:moveTo>
                  <a:pt x="3795" y="9079"/>
                </a:moveTo>
                <a:cubicBezTo>
                  <a:pt x="3908" y="9060"/>
                  <a:pt x="4004" y="9054"/>
                  <a:pt x="4118" y="9054"/>
                </a:cubicBezTo>
                <a:cubicBezTo>
                  <a:pt x="4167" y="9054"/>
                  <a:pt x="4184" y="9054"/>
                  <a:pt x="4217" y="9054"/>
                </a:cubicBezTo>
              </a:path>
              <a:path w="1936" h="745">
                <a:moveTo>
                  <a:pt x="3919" y="9203"/>
                </a:moveTo>
                <a:cubicBezTo>
                  <a:pt x="4025" y="9231"/>
                  <a:pt x="4130" y="9227"/>
                  <a:pt x="4242" y="9227"/>
                </a:cubicBezTo>
              </a:path>
              <a:path w="1936" h="745">
                <a:moveTo>
                  <a:pt x="4762" y="8806"/>
                </a:moveTo>
                <a:cubicBezTo>
                  <a:pt x="4718" y="8925"/>
                  <a:pt x="4633" y="9094"/>
                  <a:pt x="4614" y="9227"/>
                </a:cubicBezTo>
                <a:cubicBezTo>
                  <a:pt x="4605" y="9287"/>
                  <a:pt x="4640" y="9407"/>
                  <a:pt x="4688" y="9451"/>
                </a:cubicBezTo>
                <a:cubicBezTo>
                  <a:pt x="4737" y="9496"/>
                  <a:pt x="4871" y="9535"/>
                  <a:pt x="4936" y="9525"/>
                </a:cubicBezTo>
                <a:cubicBezTo>
                  <a:pt x="5025" y="9511"/>
                  <a:pt x="5130" y="9446"/>
                  <a:pt x="5184" y="9376"/>
                </a:cubicBezTo>
                <a:cubicBezTo>
                  <a:pt x="5228" y="9320"/>
                  <a:pt x="5265" y="9171"/>
                  <a:pt x="5234" y="9103"/>
                </a:cubicBezTo>
                <a:cubicBezTo>
                  <a:pt x="5191" y="9009"/>
                  <a:pt x="5077" y="8945"/>
                  <a:pt x="4986" y="8905"/>
                </a:cubicBezTo>
                <a:cubicBezTo>
                  <a:pt x="4913" y="8873"/>
                  <a:pt x="4850" y="8855"/>
                  <a:pt x="4787" y="88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1"/>
          <p:cNvSpPr/>
          <p:nvPr/>
        </p:nvSpPr>
        <p:spPr>
          <a:xfrm>
            <a:off x="2340000" y="3160800"/>
            <a:ext cx="1143000" cy="287280"/>
          </a:xfrm>
          <a:custGeom>
            <a:avLst/>
            <a:gdLst/>
            <a:ahLst/>
            <a:rect l="l" t="t" r="r" b="b"/>
            <a:pathLst>
              <a:path w="3176" h="795">
                <a:moveTo>
                  <a:pt x="6499" y="8930"/>
                </a:moveTo>
                <a:cubicBezTo>
                  <a:pt x="6548" y="9002"/>
                  <a:pt x="6548" y="9107"/>
                  <a:pt x="6598" y="9178"/>
                </a:cubicBezTo>
                <a:cubicBezTo>
                  <a:pt x="6687" y="9304"/>
                  <a:pt x="6792" y="9372"/>
                  <a:pt x="6921" y="9451"/>
                </a:cubicBezTo>
                <a:cubicBezTo>
                  <a:pt x="6988" y="9492"/>
                  <a:pt x="7051" y="9537"/>
                  <a:pt x="7119" y="9575"/>
                </a:cubicBezTo>
              </a:path>
              <a:path w="3176" h="795">
                <a:moveTo>
                  <a:pt x="6995" y="8830"/>
                </a:moveTo>
                <a:cubicBezTo>
                  <a:pt x="6899" y="8974"/>
                  <a:pt x="6799" y="9114"/>
                  <a:pt x="6697" y="9252"/>
                </a:cubicBezTo>
                <a:cubicBezTo>
                  <a:pt x="6643" y="9324"/>
                  <a:pt x="6575" y="9362"/>
                  <a:pt x="6524" y="9426"/>
                </a:cubicBezTo>
                <a:cubicBezTo>
                  <a:pt x="6504" y="9466"/>
                  <a:pt x="6495" y="9472"/>
                  <a:pt x="6499" y="9500"/>
                </a:cubicBezTo>
              </a:path>
              <a:path w="3176" h="795">
                <a:moveTo>
                  <a:pt x="7268" y="9203"/>
                </a:moveTo>
                <a:cubicBezTo>
                  <a:pt x="7417" y="9221"/>
                  <a:pt x="7433" y="9229"/>
                  <a:pt x="7516" y="9227"/>
                </a:cubicBezTo>
              </a:path>
              <a:path w="3176" h="795">
                <a:moveTo>
                  <a:pt x="7789" y="8880"/>
                </a:moveTo>
                <a:cubicBezTo>
                  <a:pt x="7884" y="8854"/>
                  <a:pt x="7962" y="8855"/>
                  <a:pt x="8062" y="8855"/>
                </a:cubicBezTo>
                <a:cubicBezTo>
                  <a:pt x="8113" y="8855"/>
                  <a:pt x="8132" y="8854"/>
                  <a:pt x="8161" y="8830"/>
                </a:cubicBezTo>
              </a:path>
              <a:path w="3176" h="795">
                <a:moveTo>
                  <a:pt x="7838" y="8781"/>
                </a:moveTo>
                <a:cubicBezTo>
                  <a:pt x="7762" y="8840"/>
                  <a:pt x="7671" y="8880"/>
                  <a:pt x="7665" y="8979"/>
                </a:cubicBezTo>
                <a:cubicBezTo>
                  <a:pt x="7661" y="9047"/>
                  <a:pt x="7650" y="9112"/>
                  <a:pt x="7714" y="9153"/>
                </a:cubicBezTo>
                <a:cubicBezTo>
                  <a:pt x="7797" y="9207"/>
                  <a:pt x="7875" y="9165"/>
                  <a:pt x="7962" y="9153"/>
                </a:cubicBezTo>
                <a:cubicBezTo>
                  <a:pt x="8008" y="9147"/>
                  <a:pt x="8160" y="9181"/>
                  <a:pt x="8186" y="9227"/>
                </a:cubicBezTo>
                <a:cubicBezTo>
                  <a:pt x="8214" y="9276"/>
                  <a:pt x="8210" y="9399"/>
                  <a:pt x="8186" y="9451"/>
                </a:cubicBezTo>
                <a:cubicBezTo>
                  <a:pt x="8167" y="9491"/>
                  <a:pt x="8060" y="9577"/>
                  <a:pt x="8012" y="9575"/>
                </a:cubicBezTo>
                <a:cubicBezTo>
                  <a:pt x="7919" y="9572"/>
                  <a:pt x="7895" y="9532"/>
                  <a:pt x="7838" y="9475"/>
                </a:cubicBezTo>
              </a:path>
              <a:path w="3176" h="795">
                <a:moveTo>
                  <a:pt x="8483" y="9178"/>
                </a:moveTo>
                <a:cubicBezTo>
                  <a:pt x="8584" y="9198"/>
                  <a:pt x="8604" y="9217"/>
                  <a:pt x="8657" y="9178"/>
                </a:cubicBezTo>
              </a:path>
              <a:path w="3176" h="795">
                <a:moveTo>
                  <a:pt x="8434" y="9327"/>
                </a:moveTo>
                <a:cubicBezTo>
                  <a:pt x="8523" y="9359"/>
                  <a:pt x="8588" y="9397"/>
                  <a:pt x="8682" y="9401"/>
                </a:cubicBezTo>
                <a:cubicBezTo>
                  <a:pt x="8707" y="9401"/>
                  <a:pt x="8731" y="9401"/>
                  <a:pt x="8756" y="9401"/>
                </a:cubicBezTo>
              </a:path>
              <a:path w="3176" h="795">
                <a:moveTo>
                  <a:pt x="9153" y="8930"/>
                </a:moveTo>
                <a:cubicBezTo>
                  <a:pt x="9111" y="9002"/>
                  <a:pt x="9008" y="9130"/>
                  <a:pt x="9029" y="9227"/>
                </a:cubicBezTo>
                <a:cubicBezTo>
                  <a:pt x="9050" y="9326"/>
                  <a:pt x="9156" y="9360"/>
                  <a:pt x="9227" y="9401"/>
                </a:cubicBezTo>
                <a:cubicBezTo>
                  <a:pt x="9329" y="9460"/>
                  <a:pt x="9420" y="9507"/>
                  <a:pt x="9525" y="9426"/>
                </a:cubicBezTo>
                <a:cubicBezTo>
                  <a:pt x="9582" y="9382"/>
                  <a:pt x="9677" y="9280"/>
                  <a:pt x="9674" y="9203"/>
                </a:cubicBezTo>
                <a:cubicBezTo>
                  <a:pt x="9669" y="9067"/>
                  <a:pt x="9602" y="9001"/>
                  <a:pt x="9500" y="8930"/>
                </a:cubicBezTo>
                <a:cubicBezTo>
                  <a:pt x="9379" y="8846"/>
                  <a:pt x="9318" y="8852"/>
                  <a:pt x="9178" y="88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2"/>
          <p:cNvSpPr/>
          <p:nvPr/>
        </p:nvSpPr>
        <p:spPr>
          <a:xfrm>
            <a:off x="500040" y="3768840"/>
            <a:ext cx="785880" cy="509400"/>
          </a:xfrm>
          <a:custGeom>
            <a:avLst/>
            <a:gdLst/>
            <a:ahLst/>
            <a:rect l="l" t="t" r="r" b="b"/>
            <a:pathLst>
              <a:path w="2184" h="1414">
                <a:moveTo>
                  <a:pt x="1712" y="10468"/>
                </a:moveTo>
                <a:cubicBezTo>
                  <a:pt x="1669" y="10552"/>
                  <a:pt x="1617" y="10614"/>
                  <a:pt x="1563" y="10691"/>
                </a:cubicBezTo>
                <a:cubicBezTo>
                  <a:pt x="1493" y="10792"/>
                  <a:pt x="1448" y="10921"/>
                  <a:pt x="1414" y="11038"/>
                </a:cubicBezTo>
                <a:cubicBezTo>
                  <a:pt x="1365" y="11208"/>
                  <a:pt x="1375" y="11394"/>
                  <a:pt x="1488" y="11534"/>
                </a:cubicBezTo>
                <a:cubicBezTo>
                  <a:pt x="1535" y="11581"/>
                  <a:pt x="1547" y="11595"/>
                  <a:pt x="1588" y="11609"/>
                </a:cubicBezTo>
              </a:path>
              <a:path w="2184" h="1414">
                <a:moveTo>
                  <a:pt x="1960" y="10914"/>
                </a:moveTo>
                <a:cubicBezTo>
                  <a:pt x="1900" y="11057"/>
                  <a:pt x="1833" y="11177"/>
                  <a:pt x="1860" y="11336"/>
                </a:cubicBezTo>
                <a:cubicBezTo>
                  <a:pt x="1877" y="11437"/>
                  <a:pt x="1930" y="11528"/>
                  <a:pt x="2009" y="11584"/>
                </a:cubicBezTo>
                <a:cubicBezTo>
                  <a:pt x="2077" y="11632"/>
                  <a:pt x="2184" y="11632"/>
                  <a:pt x="2257" y="11609"/>
                </a:cubicBezTo>
                <a:cubicBezTo>
                  <a:pt x="2326" y="11587"/>
                  <a:pt x="2412" y="11478"/>
                  <a:pt x="2431" y="11410"/>
                </a:cubicBezTo>
                <a:cubicBezTo>
                  <a:pt x="2459" y="11307"/>
                  <a:pt x="2437" y="11137"/>
                  <a:pt x="2406" y="11038"/>
                </a:cubicBezTo>
                <a:cubicBezTo>
                  <a:pt x="2379" y="10951"/>
                  <a:pt x="2295" y="10869"/>
                  <a:pt x="2208" y="10840"/>
                </a:cubicBezTo>
                <a:cubicBezTo>
                  <a:pt x="2167" y="10826"/>
                  <a:pt x="2061" y="10829"/>
                  <a:pt x="2034" y="10864"/>
                </a:cubicBezTo>
                <a:cubicBezTo>
                  <a:pt x="2006" y="10919"/>
                  <a:pt x="1998" y="10942"/>
                  <a:pt x="2009" y="10988"/>
                </a:cubicBezTo>
              </a:path>
              <a:path w="2184" h="1414">
                <a:moveTo>
                  <a:pt x="2679" y="11658"/>
                </a:moveTo>
                <a:cubicBezTo>
                  <a:pt x="2634" y="11744"/>
                  <a:pt x="2510" y="11924"/>
                  <a:pt x="2580" y="11857"/>
                </a:cubicBezTo>
              </a:path>
              <a:path w="2184" h="1414">
                <a:moveTo>
                  <a:pt x="3001" y="10939"/>
                </a:moveTo>
                <a:cubicBezTo>
                  <a:pt x="2953" y="11000"/>
                  <a:pt x="2928" y="11063"/>
                  <a:pt x="2902" y="11137"/>
                </a:cubicBezTo>
                <a:cubicBezTo>
                  <a:pt x="2864" y="11247"/>
                  <a:pt x="2841" y="11326"/>
                  <a:pt x="2877" y="11435"/>
                </a:cubicBezTo>
                <a:cubicBezTo>
                  <a:pt x="2909" y="11530"/>
                  <a:pt x="2964" y="11585"/>
                  <a:pt x="3051" y="11633"/>
                </a:cubicBezTo>
                <a:cubicBezTo>
                  <a:pt x="3115" y="11668"/>
                  <a:pt x="3185" y="11672"/>
                  <a:pt x="3249" y="11633"/>
                </a:cubicBezTo>
                <a:cubicBezTo>
                  <a:pt x="3312" y="11595"/>
                  <a:pt x="3334" y="11475"/>
                  <a:pt x="3324" y="11410"/>
                </a:cubicBezTo>
                <a:cubicBezTo>
                  <a:pt x="3308" y="11305"/>
                  <a:pt x="3242" y="11215"/>
                  <a:pt x="3175" y="11137"/>
                </a:cubicBezTo>
                <a:cubicBezTo>
                  <a:pt x="3118" y="11072"/>
                  <a:pt x="3040" y="11027"/>
                  <a:pt x="2977" y="10964"/>
                </a:cubicBezTo>
              </a:path>
              <a:path w="2184" h="1414">
                <a:moveTo>
                  <a:pt x="3299" y="10641"/>
                </a:moveTo>
                <a:cubicBezTo>
                  <a:pt x="3369" y="10793"/>
                  <a:pt x="3434" y="10935"/>
                  <a:pt x="3497" y="11088"/>
                </a:cubicBezTo>
                <a:cubicBezTo>
                  <a:pt x="3556" y="11230"/>
                  <a:pt x="3572" y="11333"/>
                  <a:pt x="3572" y="11485"/>
                </a:cubicBezTo>
                <a:cubicBezTo>
                  <a:pt x="3572" y="11593"/>
                  <a:pt x="3546" y="11634"/>
                  <a:pt x="3473" y="11708"/>
                </a:cubicBezTo>
                <a:cubicBezTo>
                  <a:pt x="3419" y="11763"/>
                  <a:pt x="3383" y="11758"/>
                  <a:pt x="3373" y="117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3"/>
          <p:cNvSpPr/>
          <p:nvPr/>
        </p:nvSpPr>
        <p:spPr>
          <a:xfrm>
            <a:off x="1446120" y="3929040"/>
            <a:ext cx="920880" cy="455760"/>
          </a:xfrm>
          <a:custGeom>
            <a:avLst/>
            <a:gdLst/>
            <a:ahLst/>
            <a:rect l="l" t="t" r="r" b="b"/>
            <a:pathLst>
              <a:path w="2556" h="1266">
                <a:moveTo>
                  <a:pt x="4192" y="11088"/>
                </a:moveTo>
                <a:cubicBezTo>
                  <a:pt x="4182" y="11167"/>
                  <a:pt x="4167" y="11227"/>
                  <a:pt x="4167" y="11311"/>
                </a:cubicBezTo>
                <a:cubicBezTo>
                  <a:pt x="4167" y="11377"/>
                  <a:pt x="4167" y="11443"/>
                  <a:pt x="4167" y="11509"/>
                </a:cubicBezTo>
                <a:cubicBezTo>
                  <a:pt x="4137" y="11448"/>
                  <a:pt x="4102" y="11392"/>
                  <a:pt x="4068" y="11336"/>
                </a:cubicBezTo>
                <a:cubicBezTo>
                  <a:pt x="4046" y="11292"/>
                  <a:pt x="4043" y="11280"/>
                  <a:pt x="4018" y="11261"/>
                </a:cubicBezTo>
                <a:cubicBezTo>
                  <a:pt x="4091" y="11226"/>
                  <a:pt x="4179" y="11237"/>
                  <a:pt x="4266" y="11237"/>
                </a:cubicBezTo>
                <a:cubicBezTo>
                  <a:pt x="4291" y="11237"/>
                  <a:pt x="4316" y="11237"/>
                  <a:pt x="4341" y="11237"/>
                </a:cubicBezTo>
              </a:path>
              <a:path w="2556" h="1266">
                <a:moveTo>
                  <a:pt x="4812" y="10914"/>
                </a:moveTo>
                <a:cubicBezTo>
                  <a:pt x="4690" y="11065"/>
                  <a:pt x="4620" y="11122"/>
                  <a:pt x="4614" y="11311"/>
                </a:cubicBezTo>
                <a:cubicBezTo>
                  <a:pt x="4610" y="11428"/>
                  <a:pt x="4651" y="11518"/>
                  <a:pt x="4713" y="11609"/>
                </a:cubicBezTo>
                <a:cubicBezTo>
                  <a:pt x="4763" y="11682"/>
                  <a:pt x="4789" y="11713"/>
                  <a:pt x="4862" y="11757"/>
                </a:cubicBezTo>
              </a:path>
              <a:path w="2556" h="1266">
                <a:moveTo>
                  <a:pt x="5159" y="11112"/>
                </a:moveTo>
                <a:cubicBezTo>
                  <a:pt x="5258" y="11098"/>
                  <a:pt x="5341" y="11081"/>
                  <a:pt x="5432" y="11063"/>
                </a:cubicBezTo>
              </a:path>
              <a:path w="2556" h="1266">
                <a:moveTo>
                  <a:pt x="5283" y="11063"/>
                </a:moveTo>
                <a:cubicBezTo>
                  <a:pt x="5176" y="11119"/>
                  <a:pt x="5061" y="11135"/>
                  <a:pt x="5110" y="11261"/>
                </a:cubicBezTo>
                <a:cubicBezTo>
                  <a:pt x="5145" y="11350"/>
                  <a:pt x="5202" y="11350"/>
                  <a:pt x="5283" y="11385"/>
                </a:cubicBezTo>
                <a:cubicBezTo>
                  <a:pt x="5372" y="11423"/>
                  <a:pt x="5436" y="11476"/>
                  <a:pt x="5482" y="11559"/>
                </a:cubicBezTo>
                <a:cubicBezTo>
                  <a:pt x="5520" y="11627"/>
                  <a:pt x="5525" y="11729"/>
                  <a:pt x="5457" y="11782"/>
                </a:cubicBezTo>
                <a:cubicBezTo>
                  <a:pt x="5419" y="11812"/>
                  <a:pt x="5305" y="11825"/>
                  <a:pt x="5259" y="11807"/>
                </a:cubicBezTo>
                <a:cubicBezTo>
                  <a:pt x="5209" y="11788"/>
                  <a:pt x="5186" y="11727"/>
                  <a:pt x="5184" y="11683"/>
                </a:cubicBezTo>
                <a:cubicBezTo>
                  <a:pt x="5184" y="11658"/>
                  <a:pt x="5184" y="11634"/>
                  <a:pt x="5184" y="11609"/>
                </a:cubicBezTo>
              </a:path>
              <a:path w="2556" h="1266">
                <a:moveTo>
                  <a:pt x="5655" y="11658"/>
                </a:moveTo>
                <a:cubicBezTo>
                  <a:pt x="5654" y="11694"/>
                  <a:pt x="5611" y="11950"/>
                  <a:pt x="5655" y="12005"/>
                </a:cubicBezTo>
                <a:cubicBezTo>
                  <a:pt x="5663" y="12013"/>
                  <a:pt x="5672" y="12022"/>
                  <a:pt x="5680" y="12030"/>
                </a:cubicBezTo>
              </a:path>
              <a:path w="2556" h="1266">
                <a:moveTo>
                  <a:pt x="5978" y="11385"/>
                </a:moveTo>
                <a:cubicBezTo>
                  <a:pt x="5926" y="11489"/>
                  <a:pt x="5915" y="11525"/>
                  <a:pt x="5953" y="11633"/>
                </a:cubicBezTo>
                <a:cubicBezTo>
                  <a:pt x="5988" y="11733"/>
                  <a:pt x="6069" y="11787"/>
                  <a:pt x="6176" y="11807"/>
                </a:cubicBezTo>
                <a:cubicBezTo>
                  <a:pt x="6284" y="11828"/>
                  <a:pt x="6285" y="11680"/>
                  <a:pt x="6276" y="11609"/>
                </a:cubicBezTo>
                <a:cubicBezTo>
                  <a:pt x="6260" y="11493"/>
                  <a:pt x="6151" y="11412"/>
                  <a:pt x="6102" y="11311"/>
                </a:cubicBezTo>
                <a:cubicBezTo>
                  <a:pt x="6078" y="11240"/>
                  <a:pt x="6071" y="11217"/>
                  <a:pt x="6028" y="11187"/>
                </a:cubicBezTo>
              </a:path>
              <a:path w="2556" h="1266">
                <a:moveTo>
                  <a:pt x="6375" y="10964"/>
                </a:moveTo>
                <a:cubicBezTo>
                  <a:pt x="6472" y="11201"/>
                  <a:pt x="6562" y="11422"/>
                  <a:pt x="6573" y="11683"/>
                </a:cubicBezTo>
                <a:cubicBezTo>
                  <a:pt x="6581" y="11874"/>
                  <a:pt x="6633" y="12124"/>
                  <a:pt x="6400" y="12179"/>
                </a:cubicBezTo>
                <a:cubicBezTo>
                  <a:pt x="6383" y="12179"/>
                  <a:pt x="6367" y="12179"/>
                  <a:pt x="6350" y="121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4"/>
          <p:cNvSpPr/>
          <p:nvPr/>
        </p:nvSpPr>
        <p:spPr>
          <a:xfrm>
            <a:off x="2759040" y="3616200"/>
            <a:ext cx="723960" cy="304920"/>
          </a:xfrm>
          <a:custGeom>
            <a:avLst/>
            <a:gdLst/>
            <a:ahLst/>
            <a:rect l="l" t="t" r="r" b="b"/>
            <a:pathLst>
              <a:path w="2010" h="844">
                <a:moveTo>
                  <a:pt x="7665" y="10120"/>
                </a:moveTo>
                <a:cubicBezTo>
                  <a:pt x="7722" y="10249"/>
                  <a:pt x="7777" y="10335"/>
                  <a:pt x="7863" y="10443"/>
                </a:cubicBezTo>
                <a:cubicBezTo>
                  <a:pt x="7961" y="10566"/>
                  <a:pt x="8058" y="10671"/>
                  <a:pt x="8186" y="10765"/>
                </a:cubicBezTo>
                <a:cubicBezTo>
                  <a:pt x="8251" y="10809"/>
                  <a:pt x="8265" y="10820"/>
                  <a:pt x="8310" y="10840"/>
                </a:cubicBezTo>
              </a:path>
              <a:path w="2010" h="844">
                <a:moveTo>
                  <a:pt x="7888" y="10244"/>
                </a:moveTo>
                <a:cubicBezTo>
                  <a:pt x="7830" y="10325"/>
                  <a:pt x="7711" y="10461"/>
                  <a:pt x="7689" y="10567"/>
                </a:cubicBezTo>
                <a:cubicBezTo>
                  <a:pt x="7675" y="10634"/>
                  <a:pt x="7657" y="10685"/>
                  <a:pt x="7689" y="10740"/>
                </a:cubicBezTo>
              </a:path>
              <a:path w="2010" h="844">
                <a:moveTo>
                  <a:pt x="8310" y="10393"/>
                </a:moveTo>
                <a:cubicBezTo>
                  <a:pt x="8417" y="10371"/>
                  <a:pt x="8441" y="10363"/>
                  <a:pt x="8508" y="10368"/>
                </a:cubicBezTo>
              </a:path>
              <a:path w="2010" h="844">
                <a:moveTo>
                  <a:pt x="8384" y="10542"/>
                </a:moveTo>
                <a:cubicBezTo>
                  <a:pt x="8517" y="10574"/>
                  <a:pt x="8575" y="10600"/>
                  <a:pt x="8706" y="10567"/>
                </a:cubicBezTo>
              </a:path>
              <a:path w="2010" h="844">
                <a:moveTo>
                  <a:pt x="9178" y="10170"/>
                </a:moveTo>
                <a:cubicBezTo>
                  <a:pt x="9309" y="10170"/>
                  <a:pt x="9452" y="10191"/>
                  <a:pt x="9575" y="10145"/>
                </a:cubicBezTo>
              </a:path>
              <a:path w="2010" h="844">
                <a:moveTo>
                  <a:pt x="9351" y="10046"/>
                </a:moveTo>
                <a:cubicBezTo>
                  <a:pt x="9255" y="10117"/>
                  <a:pt x="9125" y="10174"/>
                  <a:pt x="9153" y="10319"/>
                </a:cubicBezTo>
                <a:cubicBezTo>
                  <a:pt x="9172" y="10420"/>
                  <a:pt x="9258" y="10449"/>
                  <a:pt x="9351" y="10418"/>
                </a:cubicBezTo>
                <a:cubicBezTo>
                  <a:pt x="9409" y="10398"/>
                  <a:pt x="9455" y="10393"/>
                  <a:pt x="9525" y="10393"/>
                </a:cubicBezTo>
                <a:cubicBezTo>
                  <a:pt x="9608" y="10393"/>
                  <a:pt x="9629" y="10476"/>
                  <a:pt x="9649" y="10542"/>
                </a:cubicBezTo>
                <a:cubicBezTo>
                  <a:pt x="9678" y="10635"/>
                  <a:pt x="9687" y="10707"/>
                  <a:pt x="9624" y="10790"/>
                </a:cubicBezTo>
                <a:cubicBezTo>
                  <a:pt x="9579" y="10849"/>
                  <a:pt x="9496" y="10880"/>
                  <a:pt x="9426" y="10889"/>
                </a:cubicBezTo>
                <a:cubicBezTo>
                  <a:pt x="9318" y="10903"/>
                  <a:pt x="9229" y="10873"/>
                  <a:pt x="9128" y="108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5"/>
          <p:cNvSpPr/>
          <p:nvPr/>
        </p:nvSpPr>
        <p:spPr>
          <a:xfrm>
            <a:off x="1509840" y="4803840"/>
            <a:ext cx="473040" cy="617400"/>
          </a:xfrm>
          <a:custGeom>
            <a:avLst/>
            <a:gdLst/>
            <a:ahLst/>
            <a:rect l="l" t="t" r="r" b="b"/>
            <a:pathLst>
              <a:path w="1316" h="1712">
                <a:moveTo>
                  <a:pt x="4192" y="13345"/>
                </a:moveTo>
                <a:cubicBezTo>
                  <a:pt x="4238" y="13402"/>
                  <a:pt x="4266" y="13449"/>
                  <a:pt x="4291" y="13519"/>
                </a:cubicBezTo>
                <a:cubicBezTo>
                  <a:pt x="4331" y="13628"/>
                  <a:pt x="4372" y="13734"/>
                  <a:pt x="4415" y="13841"/>
                </a:cubicBezTo>
                <a:cubicBezTo>
                  <a:pt x="4458" y="13948"/>
                  <a:pt x="4502" y="14048"/>
                  <a:pt x="4564" y="14139"/>
                </a:cubicBezTo>
                <a:cubicBezTo>
                  <a:pt x="4608" y="14204"/>
                  <a:pt x="4614" y="14223"/>
                  <a:pt x="4663" y="14238"/>
                </a:cubicBezTo>
              </a:path>
              <a:path w="1316" h="1712">
                <a:moveTo>
                  <a:pt x="4936" y="13345"/>
                </a:moveTo>
                <a:cubicBezTo>
                  <a:pt x="4906" y="13464"/>
                  <a:pt x="4867" y="13571"/>
                  <a:pt x="4837" y="13692"/>
                </a:cubicBezTo>
                <a:cubicBezTo>
                  <a:pt x="4794" y="13868"/>
                  <a:pt x="4728" y="14037"/>
                  <a:pt x="4688" y="14213"/>
                </a:cubicBezTo>
                <a:cubicBezTo>
                  <a:pt x="4647" y="14394"/>
                  <a:pt x="4641" y="14578"/>
                  <a:pt x="4614" y="14759"/>
                </a:cubicBezTo>
                <a:cubicBezTo>
                  <a:pt x="4605" y="14817"/>
                  <a:pt x="4537" y="15003"/>
                  <a:pt x="4564" y="15056"/>
                </a:cubicBezTo>
                <a:cubicBezTo>
                  <a:pt x="4572" y="15056"/>
                  <a:pt x="4581" y="15056"/>
                  <a:pt x="4589" y="15056"/>
                </a:cubicBezTo>
              </a:path>
              <a:path w="1316" h="1712">
                <a:moveTo>
                  <a:pt x="5035" y="13767"/>
                </a:moveTo>
                <a:cubicBezTo>
                  <a:pt x="5133" y="13734"/>
                  <a:pt x="5183" y="13762"/>
                  <a:pt x="5283" y="13767"/>
                </a:cubicBezTo>
                <a:cubicBezTo>
                  <a:pt x="5350" y="13767"/>
                  <a:pt x="5384" y="13771"/>
                  <a:pt x="5432" y="13791"/>
                </a:cubicBezTo>
              </a:path>
              <a:path w="1316" h="1712">
                <a:moveTo>
                  <a:pt x="5209" y="14039"/>
                </a:moveTo>
                <a:cubicBezTo>
                  <a:pt x="5374" y="14110"/>
                  <a:pt x="5354" y="14127"/>
                  <a:pt x="5507" y="140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6"/>
          <p:cNvSpPr/>
          <p:nvPr/>
        </p:nvSpPr>
        <p:spPr>
          <a:xfrm>
            <a:off x="2143080" y="4687920"/>
            <a:ext cx="1116000" cy="563400"/>
          </a:xfrm>
          <a:custGeom>
            <a:avLst/>
            <a:gdLst/>
            <a:ahLst/>
            <a:rect l="l" t="t" r="r" b="b"/>
            <a:pathLst>
              <a:path w="3102" h="1564">
                <a:moveTo>
                  <a:pt x="6077" y="13568"/>
                </a:moveTo>
                <a:cubicBezTo>
                  <a:pt x="6026" y="13691"/>
                  <a:pt x="5936" y="13848"/>
                  <a:pt x="5953" y="13990"/>
                </a:cubicBezTo>
                <a:cubicBezTo>
                  <a:pt x="5965" y="14092"/>
                  <a:pt x="6012" y="14208"/>
                  <a:pt x="6077" y="14288"/>
                </a:cubicBezTo>
                <a:cubicBezTo>
                  <a:pt x="6115" y="14334"/>
                  <a:pt x="6223" y="14386"/>
                  <a:pt x="6276" y="14337"/>
                </a:cubicBezTo>
                <a:cubicBezTo>
                  <a:pt x="6344" y="14274"/>
                  <a:pt x="6389" y="14156"/>
                  <a:pt x="6400" y="14064"/>
                </a:cubicBezTo>
                <a:cubicBezTo>
                  <a:pt x="6417" y="13915"/>
                  <a:pt x="6399" y="13800"/>
                  <a:pt x="6350" y="13667"/>
                </a:cubicBezTo>
                <a:cubicBezTo>
                  <a:pt x="6318" y="13581"/>
                  <a:pt x="6264" y="13513"/>
                  <a:pt x="6201" y="13444"/>
                </a:cubicBezTo>
                <a:cubicBezTo>
                  <a:pt x="6168" y="13408"/>
                  <a:pt x="6138" y="13390"/>
                  <a:pt x="6127" y="13345"/>
                </a:cubicBezTo>
              </a:path>
              <a:path w="3102" h="1564">
                <a:moveTo>
                  <a:pt x="6375" y="13072"/>
                </a:moveTo>
                <a:cubicBezTo>
                  <a:pt x="6441" y="13055"/>
                  <a:pt x="6611" y="12991"/>
                  <a:pt x="6672" y="13097"/>
                </a:cubicBezTo>
                <a:cubicBezTo>
                  <a:pt x="6695" y="13137"/>
                  <a:pt x="6673" y="13261"/>
                  <a:pt x="6648" y="13295"/>
                </a:cubicBezTo>
                <a:cubicBezTo>
                  <a:pt x="6609" y="13348"/>
                  <a:pt x="6558" y="13387"/>
                  <a:pt x="6524" y="13444"/>
                </a:cubicBezTo>
                <a:cubicBezTo>
                  <a:pt x="6475" y="13526"/>
                  <a:pt x="6538" y="13616"/>
                  <a:pt x="6623" y="13643"/>
                </a:cubicBezTo>
                <a:cubicBezTo>
                  <a:pt x="6639" y="13643"/>
                  <a:pt x="6656" y="13643"/>
                  <a:pt x="6672" y="13643"/>
                </a:cubicBezTo>
              </a:path>
              <a:path w="3102" h="1564">
                <a:moveTo>
                  <a:pt x="6871" y="13891"/>
                </a:moveTo>
                <a:cubicBezTo>
                  <a:pt x="7009" y="13904"/>
                  <a:pt x="7024" y="13902"/>
                  <a:pt x="7144" y="13891"/>
                </a:cubicBezTo>
              </a:path>
              <a:path w="3102" h="1564">
                <a:moveTo>
                  <a:pt x="7441" y="13568"/>
                </a:moveTo>
                <a:cubicBezTo>
                  <a:pt x="7554" y="13568"/>
                  <a:pt x="7633" y="13588"/>
                  <a:pt x="7739" y="13593"/>
                </a:cubicBezTo>
                <a:cubicBezTo>
                  <a:pt x="7789" y="13593"/>
                  <a:pt x="7805" y="13593"/>
                  <a:pt x="7838" y="13593"/>
                </a:cubicBezTo>
              </a:path>
              <a:path w="3102" h="1564">
                <a:moveTo>
                  <a:pt x="7590" y="13543"/>
                </a:moveTo>
                <a:cubicBezTo>
                  <a:pt x="7502" y="13558"/>
                  <a:pt x="7346" y="13547"/>
                  <a:pt x="7317" y="13667"/>
                </a:cubicBezTo>
                <a:cubicBezTo>
                  <a:pt x="7290" y="13782"/>
                  <a:pt x="7375" y="13771"/>
                  <a:pt x="7441" y="13791"/>
                </a:cubicBezTo>
                <a:cubicBezTo>
                  <a:pt x="7545" y="13822"/>
                  <a:pt x="7619" y="13821"/>
                  <a:pt x="7714" y="13891"/>
                </a:cubicBezTo>
                <a:cubicBezTo>
                  <a:pt x="7792" y="13949"/>
                  <a:pt x="7810" y="13996"/>
                  <a:pt x="7813" y="14089"/>
                </a:cubicBezTo>
                <a:cubicBezTo>
                  <a:pt x="7817" y="14192"/>
                  <a:pt x="7826" y="14258"/>
                  <a:pt x="7764" y="14337"/>
                </a:cubicBezTo>
                <a:cubicBezTo>
                  <a:pt x="7708" y="14409"/>
                  <a:pt x="7675" y="14412"/>
                  <a:pt x="7590" y="14412"/>
                </a:cubicBezTo>
                <a:cubicBezTo>
                  <a:pt x="7501" y="14412"/>
                  <a:pt x="7447" y="14349"/>
                  <a:pt x="7417" y="14263"/>
                </a:cubicBezTo>
                <a:cubicBezTo>
                  <a:pt x="7417" y="14246"/>
                  <a:pt x="7417" y="14230"/>
                  <a:pt x="7417" y="14213"/>
                </a:cubicBezTo>
              </a:path>
              <a:path w="3102" h="1564">
                <a:moveTo>
                  <a:pt x="8235" y="13667"/>
                </a:moveTo>
                <a:cubicBezTo>
                  <a:pt x="8198" y="13778"/>
                  <a:pt x="8143" y="13875"/>
                  <a:pt x="8111" y="13990"/>
                </a:cubicBezTo>
                <a:cubicBezTo>
                  <a:pt x="8077" y="14110"/>
                  <a:pt x="8078" y="14222"/>
                  <a:pt x="8136" y="14337"/>
                </a:cubicBezTo>
                <a:cubicBezTo>
                  <a:pt x="8179" y="14402"/>
                  <a:pt x="8185" y="14422"/>
                  <a:pt x="8235" y="14436"/>
                </a:cubicBezTo>
              </a:path>
              <a:path w="3102" h="1564">
                <a:moveTo>
                  <a:pt x="8582" y="13841"/>
                </a:moveTo>
                <a:cubicBezTo>
                  <a:pt x="8485" y="13920"/>
                  <a:pt x="8463" y="13959"/>
                  <a:pt x="8458" y="14089"/>
                </a:cubicBezTo>
                <a:cubicBezTo>
                  <a:pt x="8455" y="14179"/>
                  <a:pt x="8490" y="14298"/>
                  <a:pt x="8558" y="14362"/>
                </a:cubicBezTo>
                <a:cubicBezTo>
                  <a:pt x="8627" y="14427"/>
                  <a:pt x="8714" y="14367"/>
                  <a:pt x="8731" y="14288"/>
                </a:cubicBezTo>
                <a:cubicBezTo>
                  <a:pt x="8759" y="14160"/>
                  <a:pt x="8745" y="14064"/>
                  <a:pt x="8706" y="13940"/>
                </a:cubicBezTo>
                <a:cubicBezTo>
                  <a:pt x="8677" y="13849"/>
                  <a:pt x="8619" y="13812"/>
                  <a:pt x="8607" y="13717"/>
                </a:cubicBezTo>
              </a:path>
              <a:path w="3102" h="1564">
                <a:moveTo>
                  <a:pt x="8905" y="13494"/>
                </a:moveTo>
                <a:cubicBezTo>
                  <a:pt x="8997" y="13642"/>
                  <a:pt x="9040" y="13785"/>
                  <a:pt x="9054" y="13965"/>
                </a:cubicBezTo>
                <a:cubicBezTo>
                  <a:pt x="9067" y="14136"/>
                  <a:pt x="9036" y="14310"/>
                  <a:pt x="8954" y="14461"/>
                </a:cubicBezTo>
                <a:cubicBezTo>
                  <a:pt x="8909" y="14531"/>
                  <a:pt x="8897" y="14551"/>
                  <a:pt x="8855" y="145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7"/>
          <p:cNvSpPr/>
          <p:nvPr/>
        </p:nvSpPr>
        <p:spPr>
          <a:xfrm>
            <a:off x="1812960" y="5429160"/>
            <a:ext cx="704880" cy="482760"/>
          </a:xfrm>
          <a:custGeom>
            <a:avLst/>
            <a:gdLst/>
            <a:ahLst/>
            <a:rect l="l" t="t" r="r" b="b"/>
            <a:pathLst>
              <a:path w="1961" h="1341">
                <a:moveTo>
                  <a:pt x="5606" y="15230"/>
                </a:moveTo>
                <a:cubicBezTo>
                  <a:pt x="5551" y="15295"/>
                  <a:pt x="5477" y="15383"/>
                  <a:pt x="5432" y="15453"/>
                </a:cubicBezTo>
                <a:cubicBezTo>
                  <a:pt x="5371" y="15548"/>
                  <a:pt x="5326" y="15690"/>
                  <a:pt x="5308" y="15801"/>
                </a:cubicBezTo>
                <a:cubicBezTo>
                  <a:pt x="5295" y="15880"/>
                  <a:pt x="5345" y="15977"/>
                  <a:pt x="5407" y="16024"/>
                </a:cubicBezTo>
                <a:cubicBezTo>
                  <a:pt x="5485" y="16084"/>
                  <a:pt x="5571" y="16053"/>
                  <a:pt x="5631" y="15999"/>
                </a:cubicBezTo>
                <a:cubicBezTo>
                  <a:pt x="5741" y="15900"/>
                  <a:pt x="5769" y="15758"/>
                  <a:pt x="5829" y="15627"/>
                </a:cubicBezTo>
                <a:cubicBezTo>
                  <a:pt x="5873" y="15530"/>
                  <a:pt x="5919" y="15366"/>
                  <a:pt x="5879" y="15255"/>
                </a:cubicBezTo>
                <a:cubicBezTo>
                  <a:pt x="5845" y="15161"/>
                  <a:pt x="5777" y="15100"/>
                  <a:pt x="5680" y="15081"/>
                </a:cubicBezTo>
                <a:cubicBezTo>
                  <a:pt x="5563" y="15059"/>
                  <a:pt x="5549" y="15108"/>
                  <a:pt x="5531" y="15205"/>
                </a:cubicBezTo>
              </a:path>
              <a:path w="1961" h="1341">
                <a:moveTo>
                  <a:pt x="6052" y="15850"/>
                </a:moveTo>
                <a:cubicBezTo>
                  <a:pt x="6049" y="15874"/>
                  <a:pt x="5944" y="16273"/>
                  <a:pt x="6003" y="16371"/>
                </a:cubicBezTo>
              </a:path>
              <a:path w="1961" h="1341">
                <a:moveTo>
                  <a:pt x="6350" y="15528"/>
                </a:moveTo>
                <a:cubicBezTo>
                  <a:pt x="6253" y="15721"/>
                  <a:pt x="6212" y="15747"/>
                  <a:pt x="6325" y="15925"/>
                </a:cubicBezTo>
                <a:cubicBezTo>
                  <a:pt x="6370" y="15996"/>
                  <a:pt x="6446" y="16125"/>
                  <a:pt x="6548" y="16049"/>
                </a:cubicBezTo>
                <a:cubicBezTo>
                  <a:pt x="6622" y="15994"/>
                  <a:pt x="6598" y="15825"/>
                  <a:pt x="6598" y="15751"/>
                </a:cubicBezTo>
                <a:cubicBezTo>
                  <a:pt x="6598" y="15627"/>
                  <a:pt x="6539" y="15510"/>
                  <a:pt x="6474" y="15404"/>
                </a:cubicBezTo>
                <a:cubicBezTo>
                  <a:pt x="6438" y="15345"/>
                  <a:pt x="6338" y="15256"/>
                  <a:pt x="6350" y="15180"/>
                </a:cubicBezTo>
                <a:cubicBezTo>
                  <a:pt x="6358" y="15172"/>
                  <a:pt x="6367" y="15164"/>
                  <a:pt x="6375" y="15156"/>
                </a:cubicBezTo>
              </a:path>
              <a:path w="1961" h="1341">
                <a:moveTo>
                  <a:pt x="6921" y="15180"/>
                </a:moveTo>
                <a:cubicBezTo>
                  <a:pt x="6979" y="15516"/>
                  <a:pt x="7021" y="15787"/>
                  <a:pt x="6921" y="16123"/>
                </a:cubicBezTo>
                <a:cubicBezTo>
                  <a:pt x="6872" y="16287"/>
                  <a:pt x="6768" y="16353"/>
                  <a:pt x="6623" y="16421"/>
                </a:cubicBezTo>
              </a:path>
              <a:path w="1961" h="1341">
                <a:moveTo>
                  <a:pt x="5655" y="15131"/>
                </a:moveTo>
                <a:cubicBezTo>
                  <a:pt x="5423" y="15205"/>
                  <a:pt x="5316" y="15262"/>
                  <a:pt x="5184" y="15478"/>
                </a:cubicBezTo>
                <a:cubicBezTo>
                  <a:pt x="5006" y="15770"/>
                  <a:pt x="5041" y="16092"/>
                  <a:pt x="5035" y="164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8"/>
          <p:cNvSpPr/>
          <p:nvPr/>
        </p:nvSpPr>
        <p:spPr>
          <a:xfrm>
            <a:off x="5724360" y="307188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15900" y="8582"/>
                </a:moveTo>
                <a:cubicBezTo>
                  <a:pt x="15987" y="8571"/>
                  <a:pt x="16057" y="8536"/>
                  <a:pt x="16148" y="8533"/>
                </a:cubicBezTo>
                <a:cubicBezTo>
                  <a:pt x="16222" y="8533"/>
                  <a:pt x="16247" y="8533"/>
                  <a:pt x="16297" y="85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9"/>
          <p:cNvSpPr/>
          <p:nvPr/>
        </p:nvSpPr>
        <p:spPr>
          <a:xfrm>
            <a:off x="5688000" y="3295800"/>
            <a:ext cx="17928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15801" y="9227"/>
                </a:moveTo>
                <a:cubicBezTo>
                  <a:pt x="15884" y="9217"/>
                  <a:pt x="15965" y="9186"/>
                  <a:pt x="16049" y="9178"/>
                </a:cubicBezTo>
                <a:cubicBezTo>
                  <a:pt x="16135" y="9170"/>
                  <a:pt x="16212" y="9160"/>
                  <a:pt x="16297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20"/>
          <p:cNvSpPr/>
          <p:nvPr/>
        </p:nvSpPr>
        <p:spPr>
          <a:xfrm>
            <a:off x="5749920" y="3598920"/>
            <a:ext cx="179280" cy="36360"/>
          </a:xfrm>
          <a:custGeom>
            <a:avLst/>
            <a:gdLst/>
            <a:ahLst/>
            <a:rect l="l" t="t" r="r" b="b"/>
            <a:pathLst>
              <a:path w="497" h="101">
                <a:moveTo>
                  <a:pt x="15974" y="10096"/>
                </a:moveTo>
                <a:cubicBezTo>
                  <a:pt x="16049" y="10036"/>
                  <a:pt x="16107" y="10038"/>
                  <a:pt x="16197" y="10021"/>
                </a:cubicBezTo>
                <a:cubicBezTo>
                  <a:pt x="16293" y="10003"/>
                  <a:pt x="16373" y="9996"/>
                  <a:pt x="16470" y="99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1"/>
          <p:cNvSpPr/>
          <p:nvPr/>
        </p:nvSpPr>
        <p:spPr>
          <a:xfrm>
            <a:off x="5884920" y="3902040"/>
            <a:ext cx="81000" cy="1800"/>
          </a:xfrm>
          <a:custGeom>
            <a:avLst/>
            <a:gdLst/>
            <a:ahLst/>
            <a:rect l="l" t="t" r="r" b="b"/>
            <a:pathLst>
              <a:path w="225" h="1">
                <a:moveTo>
                  <a:pt x="16346" y="10840"/>
                </a:moveTo>
                <a:cubicBezTo>
                  <a:pt x="16470" y="10840"/>
                  <a:pt x="16495" y="10840"/>
                  <a:pt x="16570" y="108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2"/>
          <p:cNvSpPr/>
          <p:nvPr/>
        </p:nvSpPr>
        <p:spPr>
          <a:xfrm>
            <a:off x="5643720" y="2268360"/>
            <a:ext cx="1116000" cy="1392480"/>
          </a:xfrm>
          <a:custGeom>
            <a:avLst/>
            <a:gdLst/>
            <a:ahLst/>
            <a:rect l="l" t="t" r="r" b="b"/>
            <a:pathLst>
              <a:path w="3101" h="3871">
                <a:moveTo>
                  <a:pt x="18207" y="7888"/>
                </a:moveTo>
                <a:cubicBezTo>
                  <a:pt x="18235" y="7840"/>
                  <a:pt x="18246" y="7809"/>
                  <a:pt x="18207" y="7764"/>
                </a:cubicBezTo>
                <a:cubicBezTo>
                  <a:pt x="18199" y="7756"/>
                  <a:pt x="18190" y="7747"/>
                  <a:pt x="18182" y="7739"/>
                </a:cubicBezTo>
                <a:cubicBezTo>
                  <a:pt x="18116" y="7748"/>
                  <a:pt x="18093" y="7771"/>
                  <a:pt x="18083" y="7838"/>
                </a:cubicBezTo>
                <a:cubicBezTo>
                  <a:pt x="18070" y="7927"/>
                  <a:pt x="18111" y="7970"/>
                  <a:pt x="18182" y="7913"/>
                </a:cubicBezTo>
                <a:cubicBezTo>
                  <a:pt x="18236" y="7870"/>
                  <a:pt x="18241" y="7859"/>
                  <a:pt x="18231" y="7813"/>
                </a:cubicBezTo>
                <a:cubicBezTo>
                  <a:pt x="18231" y="7805"/>
                  <a:pt x="18231" y="7797"/>
                  <a:pt x="18231" y="7789"/>
                </a:cubicBezTo>
                <a:cubicBezTo>
                  <a:pt x="18223" y="7781"/>
                  <a:pt x="18215" y="7772"/>
                  <a:pt x="18207" y="7764"/>
                </a:cubicBezTo>
                <a:cubicBezTo>
                  <a:pt x="18179" y="7799"/>
                  <a:pt x="18110" y="7920"/>
                  <a:pt x="18157" y="7962"/>
                </a:cubicBezTo>
                <a:cubicBezTo>
                  <a:pt x="18194" y="7995"/>
                  <a:pt x="18265" y="7913"/>
                  <a:pt x="18281" y="7888"/>
                </a:cubicBezTo>
                <a:cubicBezTo>
                  <a:pt x="18321" y="7825"/>
                  <a:pt x="18295" y="7813"/>
                  <a:pt x="18256" y="7764"/>
                </a:cubicBezTo>
                <a:cubicBezTo>
                  <a:pt x="18236" y="7772"/>
                  <a:pt x="18129" y="7845"/>
                  <a:pt x="18132" y="7888"/>
                </a:cubicBezTo>
                <a:cubicBezTo>
                  <a:pt x="18152" y="7929"/>
                  <a:pt x="18150" y="7945"/>
                  <a:pt x="18182" y="7938"/>
                </a:cubicBezTo>
              </a:path>
              <a:path w="3101" h="3871">
                <a:moveTo>
                  <a:pt x="17090" y="10021"/>
                </a:moveTo>
                <a:cubicBezTo>
                  <a:pt x="17083" y="9971"/>
                  <a:pt x="17042" y="9906"/>
                  <a:pt x="17016" y="9996"/>
                </a:cubicBezTo>
                <a:cubicBezTo>
                  <a:pt x="17016" y="10041"/>
                  <a:pt x="17013" y="10054"/>
                  <a:pt x="17041" y="10071"/>
                </a:cubicBezTo>
                <a:cubicBezTo>
                  <a:pt x="17084" y="10027"/>
                  <a:pt x="17082" y="10033"/>
                  <a:pt x="17090" y="9971"/>
                </a:cubicBezTo>
                <a:cubicBezTo>
                  <a:pt x="17057" y="9998"/>
                  <a:pt x="17024" y="10020"/>
                  <a:pt x="16991" y="10046"/>
                </a:cubicBezTo>
              </a:path>
              <a:path w="3101" h="3871">
                <a:moveTo>
                  <a:pt x="15677" y="6400"/>
                </a:moveTo>
                <a:cubicBezTo>
                  <a:pt x="15695" y="6443"/>
                  <a:pt x="15736" y="6499"/>
                  <a:pt x="15751" y="6548"/>
                </a:cubicBezTo>
                <a:cubicBezTo>
                  <a:pt x="15768" y="6602"/>
                  <a:pt x="15789" y="6671"/>
                  <a:pt x="15801" y="6722"/>
                </a:cubicBezTo>
                <a:cubicBezTo>
                  <a:pt x="15815" y="6781"/>
                  <a:pt x="15811" y="6833"/>
                  <a:pt x="15825" y="6896"/>
                </a:cubicBezTo>
                <a:cubicBezTo>
                  <a:pt x="15842" y="6972"/>
                  <a:pt x="15876" y="7042"/>
                  <a:pt x="15900" y="7119"/>
                </a:cubicBezTo>
                <a:cubicBezTo>
                  <a:pt x="15920" y="7184"/>
                  <a:pt x="15926" y="7251"/>
                  <a:pt x="15949" y="7317"/>
                </a:cubicBezTo>
                <a:cubicBezTo>
                  <a:pt x="15975" y="7393"/>
                  <a:pt x="16006" y="7465"/>
                  <a:pt x="16024" y="7541"/>
                </a:cubicBezTo>
                <a:cubicBezTo>
                  <a:pt x="16052" y="7659"/>
                  <a:pt x="16092" y="7772"/>
                  <a:pt x="16123" y="7888"/>
                </a:cubicBezTo>
                <a:cubicBezTo>
                  <a:pt x="16139" y="7946"/>
                  <a:pt x="16157" y="8010"/>
                  <a:pt x="16173" y="8062"/>
                </a:cubicBezTo>
                <a:cubicBezTo>
                  <a:pt x="16190" y="8117"/>
                  <a:pt x="16207" y="8185"/>
                  <a:pt x="16222" y="8235"/>
                </a:cubicBezTo>
                <a:cubicBezTo>
                  <a:pt x="16241" y="8299"/>
                  <a:pt x="16254" y="8369"/>
                  <a:pt x="16272" y="8434"/>
                </a:cubicBezTo>
                <a:cubicBezTo>
                  <a:pt x="16294" y="8516"/>
                  <a:pt x="16328" y="8610"/>
                  <a:pt x="16346" y="8682"/>
                </a:cubicBezTo>
                <a:cubicBezTo>
                  <a:pt x="16364" y="8753"/>
                  <a:pt x="16373" y="8836"/>
                  <a:pt x="16396" y="8905"/>
                </a:cubicBezTo>
                <a:cubicBezTo>
                  <a:pt x="16421" y="8981"/>
                  <a:pt x="16450" y="9053"/>
                  <a:pt x="16470" y="9128"/>
                </a:cubicBezTo>
                <a:cubicBezTo>
                  <a:pt x="16488" y="9193"/>
                  <a:pt x="16503" y="9261"/>
                  <a:pt x="16520" y="9327"/>
                </a:cubicBezTo>
                <a:cubicBezTo>
                  <a:pt x="16541" y="9409"/>
                  <a:pt x="16545" y="9498"/>
                  <a:pt x="16570" y="9575"/>
                </a:cubicBezTo>
                <a:cubicBezTo>
                  <a:pt x="16587" y="9628"/>
                  <a:pt x="16624" y="9688"/>
                  <a:pt x="16644" y="9748"/>
                </a:cubicBezTo>
                <a:cubicBezTo>
                  <a:pt x="16662" y="9802"/>
                  <a:pt x="16671" y="9877"/>
                  <a:pt x="16694" y="9922"/>
                </a:cubicBezTo>
                <a:cubicBezTo>
                  <a:pt x="16716" y="9965"/>
                  <a:pt x="16764" y="10032"/>
                  <a:pt x="16793" y="10071"/>
                </a:cubicBezTo>
                <a:cubicBezTo>
                  <a:pt x="16855" y="10154"/>
                  <a:pt x="16918" y="10168"/>
                  <a:pt x="17016" y="10170"/>
                </a:cubicBezTo>
                <a:cubicBezTo>
                  <a:pt x="17084" y="10172"/>
                  <a:pt x="17135" y="10133"/>
                  <a:pt x="17190" y="10096"/>
                </a:cubicBezTo>
                <a:cubicBezTo>
                  <a:pt x="17258" y="10051"/>
                  <a:pt x="17297" y="9962"/>
                  <a:pt x="17338" y="9897"/>
                </a:cubicBezTo>
                <a:cubicBezTo>
                  <a:pt x="17370" y="9846"/>
                  <a:pt x="17412" y="9803"/>
                  <a:pt x="17438" y="9748"/>
                </a:cubicBezTo>
                <a:cubicBezTo>
                  <a:pt x="17461" y="9700"/>
                  <a:pt x="17488" y="9650"/>
                  <a:pt x="17512" y="9599"/>
                </a:cubicBezTo>
                <a:cubicBezTo>
                  <a:pt x="17545" y="9530"/>
                  <a:pt x="17559" y="9469"/>
                  <a:pt x="17587" y="9401"/>
                </a:cubicBezTo>
                <a:cubicBezTo>
                  <a:pt x="17619" y="9323"/>
                  <a:pt x="17631" y="9256"/>
                  <a:pt x="17661" y="9178"/>
                </a:cubicBezTo>
                <a:cubicBezTo>
                  <a:pt x="17697" y="9085"/>
                  <a:pt x="17727" y="8996"/>
                  <a:pt x="17760" y="8905"/>
                </a:cubicBezTo>
                <a:cubicBezTo>
                  <a:pt x="17788" y="8827"/>
                  <a:pt x="17808" y="8757"/>
                  <a:pt x="17835" y="8682"/>
                </a:cubicBezTo>
                <a:cubicBezTo>
                  <a:pt x="17871" y="8580"/>
                  <a:pt x="17918" y="8484"/>
                  <a:pt x="17959" y="8384"/>
                </a:cubicBezTo>
                <a:cubicBezTo>
                  <a:pt x="17992" y="8303"/>
                  <a:pt x="18005" y="8211"/>
                  <a:pt x="18033" y="8136"/>
                </a:cubicBezTo>
                <a:cubicBezTo>
                  <a:pt x="18090" y="7985"/>
                  <a:pt x="18154" y="7837"/>
                  <a:pt x="18207" y="7689"/>
                </a:cubicBezTo>
                <a:cubicBezTo>
                  <a:pt x="18252" y="7562"/>
                  <a:pt x="18294" y="7442"/>
                  <a:pt x="18331" y="7317"/>
                </a:cubicBezTo>
                <a:cubicBezTo>
                  <a:pt x="18386" y="7134"/>
                  <a:pt x="18452" y="6946"/>
                  <a:pt x="18529" y="6772"/>
                </a:cubicBezTo>
                <a:cubicBezTo>
                  <a:pt x="18593" y="6627"/>
                  <a:pt x="18608" y="6522"/>
                  <a:pt x="18604" y="6449"/>
                </a:cubicBezTo>
              </a:path>
              <a:path w="3101" h="3871">
                <a:moveTo>
                  <a:pt x="18504" y="6499"/>
                </a:moveTo>
                <a:cubicBezTo>
                  <a:pt x="18542" y="6451"/>
                  <a:pt x="18568" y="6399"/>
                  <a:pt x="18604" y="6350"/>
                </a:cubicBezTo>
                <a:cubicBezTo>
                  <a:pt x="18645" y="6294"/>
                  <a:pt x="18691" y="6291"/>
                  <a:pt x="18728" y="6350"/>
                </a:cubicBezTo>
                <a:cubicBezTo>
                  <a:pt x="18770" y="6416"/>
                  <a:pt x="18774" y="6522"/>
                  <a:pt x="18777" y="6598"/>
                </a:cubicBezTo>
                <a:cubicBezTo>
                  <a:pt x="18779" y="6651"/>
                  <a:pt x="18763" y="6654"/>
                  <a:pt x="18752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3"/>
          <p:cNvSpPr/>
          <p:nvPr/>
        </p:nvSpPr>
        <p:spPr>
          <a:xfrm>
            <a:off x="5749920" y="2751120"/>
            <a:ext cx="1000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6123" y="7640"/>
                </a:moveTo>
                <a:cubicBezTo>
                  <a:pt x="16123" y="7687"/>
                  <a:pt x="16109" y="7771"/>
                  <a:pt x="16173" y="7789"/>
                </a:cubicBezTo>
                <a:cubicBezTo>
                  <a:pt x="16222" y="7789"/>
                  <a:pt x="16239" y="7789"/>
                  <a:pt x="16222" y="7739"/>
                </a:cubicBezTo>
                <a:cubicBezTo>
                  <a:pt x="16184" y="7690"/>
                  <a:pt x="16128" y="7700"/>
                  <a:pt x="16098" y="7789"/>
                </a:cubicBezTo>
                <a:cubicBezTo>
                  <a:pt x="16077" y="7851"/>
                  <a:pt x="16065" y="7908"/>
                  <a:pt x="16098" y="7962"/>
                </a:cubicBezTo>
                <a:cubicBezTo>
                  <a:pt x="16143" y="7918"/>
                  <a:pt x="16201" y="7875"/>
                  <a:pt x="16222" y="7813"/>
                </a:cubicBezTo>
                <a:cubicBezTo>
                  <a:pt x="16245" y="7744"/>
                  <a:pt x="16248" y="7740"/>
                  <a:pt x="16197" y="7689"/>
                </a:cubicBezTo>
                <a:cubicBezTo>
                  <a:pt x="16114" y="7737"/>
                  <a:pt x="16126" y="7754"/>
                  <a:pt x="16098" y="7838"/>
                </a:cubicBezTo>
                <a:cubicBezTo>
                  <a:pt x="16075" y="7905"/>
                  <a:pt x="16062" y="7904"/>
                  <a:pt x="16098" y="7962"/>
                </a:cubicBezTo>
                <a:cubicBezTo>
                  <a:pt x="16152" y="7920"/>
                  <a:pt x="16178" y="7888"/>
                  <a:pt x="16222" y="7838"/>
                </a:cubicBezTo>
                <a:cubicBezTo>
                  <a:pt x="16258" y="7797"/>
                  <a:pt x="16232" y="7799"/>
                  <a:pt x="16197" y="7764"/>
                </a:cubicBezTo>
                <a:cubicBezTo>
                  <a:pt x="16144" y="7749"/>
                  <a:pt x="16095" y="7759"/>
                  <a:pt x="16049" y="7813"/>
                </a:cubicBezTo>
                <a:cubicBezTo>
                  <a:pt x="16011" y="7858"/>
                  <a:pt x="15907" y="8029"/>
                  <a:pt x="16024" y="8012"/>
                </a:cubicBezTo>
                <a:cubicBezTo>
                  <a:pt x="16049" y="8004"/>
                  <a:pt x="16073" y="7995"/>
                  <a:pt x="16098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24"/>
          <p:cNvSpPr/>
          <p:nvPr/>
        </p:nvSpPr>
        <p:spPr>
          <a:xfrm>
            <a:off x="6143760" y="269712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7140" y="7491"/>
                </a:moveTo>
                <a:cubicBezTo>
                  <a:pt x="17110" y="7572"/>
                  <a:pt x="17129" y="7629"/>
                  <a:pt x="17115" y="7714"/>
                </a:cubicBezTo>
                <a:cubicBezTo>
                  <a:pt x="17099" y="7815"/>
                  <a:pt x="17084" y="7911"/>
                  <a:pt x="17066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25"/>
          <p:cNvSpPr/>
          <p:nvPr/>
        </p:nvSpPr>
        <p:spPr>
          <a:xfrm>
            <a:off x="6340320" y="2759040"/>
            <a:ext cx="972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7636" y="7665"/>
                </a:moveTo>
                <a:cubicBezTo>
                  <a:pt x="17636" y="7810"/>
                  <a:pt x="17628" y="7944"/>
                  <a:pt x="17611" y="8086"/>
                </a:cubicBezTo>
                <a:cubicBezTo>
                  <a:pt x="17611" y="8138"/>
                  <a:pt x="17612" y="8156"/>
                  <a:pt x="17636" y="81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26"/>
          <p:cNvSpPr/>
          <p:nvPr/>
        </p:nvSpPr>
        <p:spPr>
          <a:xfrm>
            <a:off x="6732720" y="2741760"/>
            <a:ext cx="936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8703" y="7615"/>
                </a:moveTo>
                <a:cubicBezTo>
                  <a:pt x="18703" y="7721"/>
                  <a:pt x="18746" y="7862"/>
                  <a:pt x="18728" y="7962"/>
                </a:cubicBezTo>
                <a:cubicBezTo>
                  <a:pt x="18704" y="8010"/>
                  <a:pt x="18696" y="8025"/>
                  <a:pt x="18703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27"/>
          <p:cNvSpPr/>
          <p:nvPr/>
        </p:nvSpPr>
        <p:spPr>
          <a:xfrm>
            <a:off x="6966000" y="2768760"/>
            <a:ext cx="7920" cy="142560"/>
          </a:xfrm>
          <a:custGeom>
            <a:avLst/>
            <a:gdLst/>
            <a:ahLst/>
            <a:rect l="l" t="t" r="r" b="b"/>
            <a:pathLst>
              <a:path w="25" h="398">
                <a:moveTo>
                  <a:pt x="19372" y="7689"/>
                </a:moveTo>
                <a:cubicBezTo>
                  <a:pt x="19346" y="7824"/>
                  <a:pt x="19356" y="7903"/>
                  <a:pt x="19372" y="8037"/>
                </a:cubicBezTo>
                <a:cubicBezTo>
                  <a:pt x="19372" y="8053"/>
                  <a:pt x="19372" y="8070"/>
                  <a:pt x="19372" y="8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28"/>
          <p:cNvSpPr/>
          <p:nvPr/>
        </p:nvSpPr>
        <p:spPr>
          <a:xfrm>
            <a:off x="5537160" y="21780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5379" y="6598"/>
                </a:moveTo>
                <a:cubicBezTo>
                  <a:pt x="15389" y="6529"/>
                  <a:pt x="15420" y="6475"/>
                  <a:pt x="15429" y="6400"/>
                </a:cubicBezTo>
                <a:cubicBezTo>
                  <a:pt x="15439" y="6314"/>
                  <a:pt x="15465" y="6235"/>
                  <a:pt x="15478" y="6152"/>
                </a:cubicBezTo>
                <a:cubicBezTo>
                  <a:pt x="15483" y="6123"/>
                  <a:pt x="15515" y="5988"/>
                  <a:pt x="15577" y="6077"/>
                </a:cubicBezTo>
                <a:cubicBezTo>
                  <a:pt x="15620" y="6138"/>
                  <a:pt x="15665" y="6272"/>
                  <a:pt x="15751" y="6300"/>
                </a:cubicBezTo>
                <a:cubicBezTo>
                  <a:pt x="15819" y="6322"/>
                  <a:pt x="15880" y="6340"/>
                  <a:pt x="15949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29"/>
          <p:cNvSpPr/>
          <p:nvPr/>
        </p:nvSpPr>
        <p:spPr>
          <a:xfrm>
            <a:off x="4000680" y="2813040"/>
            <a:ext cx="3741480" cy="152280"/>
          </a:xfrm>
          <a:custGeom>
            <a:avLst/>
            <a:gdLst/>
            <a:ahLst/>
            <a:rect l="l" t="t" r="r" b="b"/>
            <a:pathLst>
              <a:path w="10395" h="423">
                <a:moveTo>
                  <a:pt x="11112" y="8086"/>
                </a:moveTo>
                <a:cubicBezTo>
                  <a:pt x="11218" y="8037"/>
                  <a:pt x="11267" y="8008"/>
                  <a:pt x="11410" y="7987"/>
                </a:cubicBezTo>
                <a:cubicBezTo>
                  <a:pt x="11585" y="7962"/>
                  <a:pt x="11753" y="7964"/>
                  <a:pt x="11931" y="7962"/>
                </a:cubicBezTo>
                <a:cubicBezTo>
                  <a:pt x="12561" y="7954"/>
                  <a:pt x="13187" y="7958"/>
                  <a:pt x="13816" y="7913"/>
                </a:cubicBezTo>
                <a:cubicBezTo>
                  <a:pt x="14567" y="7859"/>
                  <a:pt x="15320" y="7831"/>
                  <a:pt x="16073" y="7813"/>
                </a:cubicBezTo>
                <a:cubicBezTo>
                  <a:pt x="16860" y="7794"/>
                  <a:pt x="17644" y="7822"/>
                  <a:pt x="18430" y="7863"/>
                </a:cubicBezTo>
                <a:cubicBezTo>
                  <a:pt x="19072" y="7896"/>
                  <a:pt x="19705" y="7961"/>
                  <a:pt x="20340" y="8062"/>
                </a:cubicBezTo>
                <a:cubicBezTo>
                  <a:pt x="20729" y="8124"/>
                  <a:pt x="21116" y="8181"/>
                  <a:pt x="21506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30"/>
          <p:cNvSpPr/>
          <p:nvPr/>
        </p:nvSpPr>
        <p:spPr>
          <a:xfrm>
            <a:off x="5786280" y="1089000"/>
            <a:ext cx="420840" cy="4241880"/>
          </a:xfrm>
          <a:custGeom>
            <a:avLst/>
            <a:gdLst/>
            <a:ahLst/>
            <a:rect l="l" t="t" r="r" b="b"/>
            <a:pathLst>
              <a:path w="1167" h="11783">
                <a:moveTo>
                  <a:pt x="16421" y="3026"/>
                </a:moveTo>
                <a:cubicBezTo>
                  <a:pt x="16412" y="3168"/>
                  <a:pt x="16407" y="3307"/>
                  <a:pt x="16396" y="3448"/>
                </a:cubicBezTo>
                <a:cubicBezTo>
                  <a:pt x="16377" y="3695"/>
                  <a:pt x="16388" y="3945"/>
                  <a:pt x="16371" y="4192"/>
                </a:cubicBezTo>
                <a:cubicBezTo>
                  <a:pt x="16347" y="4539"/>
                  <a:pt x="16340" y="4886"/>
                  <a:pt x="16321" y="5234"/>
                </a:cubicBezTo>
                <a:cubicBezTo>
                  <a:pt x="16297" y="5681"/>
                  <a:pt x="16225" y="6125"/>
                  <a:pt x="16197" y="6573"/>
                </a:cubicBezTo>
                <a:cubicBezTo>
                  <a:pt x="16058" y="8824"/>
                  <a:pt x="15931" y="11043"/>
                  <a:pt x="16545" y="13246"/>
                </a:cubicBezTo>
                <a:cubicBezTo>
                  <a:pt x="16699" y="13798"/>
                  <a:pt x="16971" y="14305"/>
                  <a:pt x="17239" y="148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Lesson 2.3</a:t>
            </a:r>
            <a:br>
              <a:rPr sz="7500"/>
            </a:b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Synthetic Division</a:t>
            </a:r>
            <a:endParaRPr b="0" lang="en-US" sz="75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cut method that can be used to divid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ynthetic division can only be used when a polynomial is divided by a binomial such as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“x + k”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where k is a real number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39Z</dcterms:created>
  <dc:creator>jnewman</dc:creator>
  <dc:description/>
  <dc:language>en-US</dc:language>
  <cp:lastModifiedBy>abeason</cp:lastModifiedBy>
  <dcterms:modified xsi:type="dcterms:W3CDTF">2010-05-10T14:35:40Z</dcterms:modified>
  <cp:revision>15</cp:revision>
  <dc:subject/>
  <dc:title>Lesson 2.3 part two</dc:title>
</cp:coreProperties>
</file>